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24C-09E2-4761-A58F-D5BE451D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F77-2170-403D-9AB9-7EBCE41D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FAB-077D-42DB-BCD6-F46772FD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3A3-6E6E-4D6B-8C5E-F05A6BAF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241-F8F0-42FB-8E1A-2BF1471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597-2F70-4D78-8C1B-86A61A9C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A16-7AA1-4511-AE06-E3F3A41B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DB0-CFAD-4D98-989A-74F1EE56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AFC-9386-4032-94F6-16463DB3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549-F3DF-433D-A3B3-95065CD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221C-3F03-4B8B-A4FD-DFD7936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0FB-F817-470A-B51F-CFFADF7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F690-1E92-4CE0-80E7-5F12F8070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aineflyfish.com/howto_articles/salt_marsh/images/1.gif"/>
          <p:cNvPicPr/>
          <p:nvPr/>
        </p:nvPicPr>
        <p:blipFill>
          <a:blip r:embed="rId1"/>
          <a:srcRect l="0" t="18153" r="0" b="27551"/>
          <a:stretch/>
        </p:blipFill>
        <p:spPr>
          <a:xfrm>
            <a:off x="228600" y="1523880"/>
            <a:ext cx="6357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2"/>
          <p:cNvSpPr/>
          <p:nvPr/>
        </p:nvSpPr>
        <p:spPr>
          <a:xfrm>
            <a:off x="228600" y="457200"/>
            <a:ext cx="66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Use your notes and the article provided to label the Salt Marsh zones in the above picture. Then, below, identify the plants that inhabit each zone of the Salt Marsh.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f a zone has more than 5 plants listed, you only need to write in up to 5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22860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9"/>
          <p:cNvSpPr/>
          <p:nvPr/>
        </p:nvSpPr>
        <p:spPr>
          <a:xfrm>
            <a:off x="1082520" y="4172040"/>
            <a:ext cx="12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Marsh B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0"/>
          <p:cNvSpPr/>
          <p:nvPr/>
        </p:nvSpPr>
        <p:spPr>
          <a:xfrm>
            <a:off x="4524480" y="419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High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1"/>
          <p:cNvSpPr/>
          <p:nvPr/>
        </p:nvSpPr>
        <p:spPr>
          <a:xfrm>
            <a:off x="1128600" y="666756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Pools/Pan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2"/>
          <p:cNvSpPr/>
          <p:nvPr/>
        </p:nvSpPr>
        <p:spPr>
          <a:xfrm>
            <a:off x="4476600" y="668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Low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22860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362268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362268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6"/>
          <p:cNvSpPr/>
          <p:nvPr/>
        </p:nvSpPr>
        <p:spPr>
          <a:xfrm>
            <a:off x="0" y="2556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 Date: 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4:13Z</dcterms:created>
  <dc:creator>Rachel Fritschy</dc:creator>
  <dc:description/>
  <dc:language>en-US</dc:language>
  <cp:lastModifiedBy>Rachel Pozzetti</cp:lastModifiedBy>
  <dcterms:modified xsi:type="dcterms:W3CDTF">2015-03-23T18:29:54Z</dcterms:modified>
  <cp:revision>17</cp:revision>
  <dc:subject/>
  <dc:title>PowerPoint Presentation</dc:title>
</cp:coreProperties>
</file>