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B16-9CDD-44D3-9882-5DBA6495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D78-0C39-41B0-88F1-D8064FEB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9B4-0613-4873-8ECF-A62301A8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D31-E2C3-4E14-97C3-64CFD3BD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A89-4680-4470-A8B5-BB326295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6F9-9FE4-442B-97BA-EFCDA2AF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268-61F8-4747-92ED-8DC08E7A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B47-2359-4D2C-BCD5-DBDD8D23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68B7-4EE0-43AB-A2A0-256CCD12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47F3-E547-469D-A31F-A000C7E1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976-093C-4544-A86A-68E9AF92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9F5-75A2-4DB4-B13F-86114429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6EBB-9AB9-4B48-9F24-0A02C6D23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maineflyfish.com/howto_articles/salt_marsh/images/1.gif"/>
          <p:cNvPicPr/>
          <p:nvPr/>
        </p:nvPicPr>
        <p:blipFill>
          <a:blip r:embed="rId1"/>
          <a:srcRect l="0" t="18153" r="0" b="27551"/>
          <a:stretch/>
        </p:blipFill>
        <p:spPr>
          <a:xfrm>
            <a:off x="228600" y="1523880"/>
            <a:ext cx="6357960" cy="2054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2"/>
          <p:cNvSpPr/>
          <p:nvPr/>
        </p:nvSpPr>
        <p:spPr>
          <a:xfrm>
            <a:off x="228600" y="457200"/>
            <a:ext cx="6629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Use your notes and the article provided to label the Salt Marsh zones in the above picture. Then, below, identify the plants that inhabit each zone of the Salt Marsh.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If a zone has more than 5 plants listed, you only need to write in up to 5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7"/>
          <p:cNvSpPr/>
          <p:nvPr/>
        </p:nvSpPr>
        <p:spPr>
          <a:xfrm>
            <a:off x="228600" y="662940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9"/>
          <p:cNvSpPr/>
          <p:nvPr/>
        </p:nvSpPr>
        <p:spPr>
          <a:xfrm>
            <a:off x="1082520" y="4172040"/>
            <a:ext cx="12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Marsh B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0"/>
          <p:cNvSpPr/>
          <p:nvPr/>
        </p:nvSpPr>
        <p:spPr>
          <a:xfrm>
            <a:off x="4524480" y="419112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High Mar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1"/>
          <p:cNvSpPr/>
          <p:nvPr/>
        </p:nvSpPr>
        <p:spPr>
          <a:xfrm>
            <a:off x="1128600" y="6667560"/>
            <a:ext cx="11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Pools/Pan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2"/>
          <p:cNvSpPr/>
          <p:nvPr/>
        </p:nvSpPr>
        <p:spPr>
          <a:xfrm>
            <a:off x="4476600" y="6680160"/>
            <a:ext cx="11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Low Mar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228600" y="417204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4"/>
          <p:cNvSpPr/>
          <p:nvPr/>
        </p:nvSpPr>
        <p:spPr>
          <a:xfrm>
            <a:off x="3622680" y="417204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5"/>
          <p:cNvSpPr/>
          <p:nvPr/>
        </p:nvSpPr>
        <p:spPr>
          <a:xfrm>
            <a:off x="3622680" y="662940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6"/>
          <p:cNvSpPr/>
          <p:nvPr/>
        </p:nvSpPr>
        <p:spPr>
          <a:xfrm>
            <a:off x="0" y="25560"/>
            <a:ext cx="670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Name: _____________________________________________________ Date: 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8:14:13Z</dcterms:created>
  <dc:creator>Rachel Fritschy</dc:creator>
  <dc:description/>
  <dc:language>en-US</dc:language>
  <cp:lastModifiedBy>Rachel Pozzetti</cp:lastModifiedBy>
  <dcterms:modified xsi:type="dcterms:W3CDTF">2015-03-23T18:29:54Z</dcterms:modified>
  <cp:revision>17</cp:revision>
  <dc:subject/>
  <dc:title>PowerPoint Presentation</dc:title>
</cp:coreProperties>
</file>