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DBF-C72C-4075-BFBC-B99B6840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E26-0670-452B-8CAA-C2D8B569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CFE-6F4D-406D-A772-F560E9B9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2C6-B005-4D30-B358-7FB5E352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360-EBED-4046-908C-96ACC281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9E0-A4DD-4647-946D-606FA775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A0B-CECE-4F82-9F4B-E0D530D6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249-D901-402F-872F-33187D56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39D-D158-417E-BD22-9E9FD94E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231-0547-48EF-AE7F-06F8D653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EFE-4BCF-413C-B72F-7351174C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A6B-04BA-4E8E-8BAE-C7346DBD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3963-6E16-4EE4-B339-815388BCF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aineflyfish.com/howto_articles/salt_marsh/images/1.gif"/>
          <p:cNvPicPr/>
          <p:nvPr/>
        </p:nvPicPr>
        <p:blipFill>
          <a:blip r:embed="rId1"/>
          <a:srcRect l="0" t="18153" r="0" b="27551"/>
          <a:stretch/>
        </p:blipFill>
        <p:spPr>
          <a:xfrm>
            <a:off x="228600" y="1523880"/>
            <a:ext cx="635796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2"/>
          <p:cNvSpPr/>
          <p:nvPr/>
        </p:nvSpPr>
        <p:spPr>
          <a:xfrm>
            <a:off x="228600" y="457200"/>
            <a:ext cx="6629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Use your notes and the article provided to label the Salt Marsh zones in the above picture. Then, below, identify the plants that inhabit each zone of the Salt Marsh.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If a zone has more than 5 plants listed, you only need to write in up to 5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228600" y="662940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9"/>
          <p:cNvSpPr/>
          <p:nvPr/>
        </p:nvSpPr>
        <p:spPr>
          <a:xfrm>
            <a:off x="1082520" y="4172040"/>
            <a:ext cx="12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Marsh B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0"/>
          <p:cNvSpPr/>
          <p:nvPr/>
        </p:nvSpPr>
        <p:spPr>
          <a:xfrm>
            <a:off x="4524480" y="419112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High Mar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1"/>
          <p:cNvSpPr/>
          <p:nvPr/>
        </p:nvSpPr>
        <p:spPr>
          <a:xfrm>
            <a:off x="1128600" y="6667560"/>
            <a:ext cx="11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Pools/Pan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2"/>
          <p:cNvSpPr/>
          <p:nvPr/>
        </p:nvSpPr>
        <p:spPr>
          <a:xfrm>
            <a:off x="4476600" y="6680160"/>
            <a:ext cx="11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Low Mar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228600" y="417204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4"/>
          <p:cNvSpPr/>
          <p:nvPr/>
        </p:nvSpPr>
        <p:spPr>
          <a:xfrm>
            <a:off x="3622680" y="417204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5"/>
          <p:cNvSpPr/>
          <p:nvPr/>
        </p:nvSpPr>
        <p:spPr>
          <a:xfrm>
            <a:off x="3622680" y="662940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6"/>
          <p:cNvSpPr/>
          <p:nvPr/>
        </p:nvSpPr>
        <p:spPr>
          <a:xfrm>
            <a:off x="0" y="25560"/>
            <a:ext cx="670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Name: _____________________________________________________ Date: 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8:14:13Z</dcterms:created>
  <dc:creator>Rachel Fritschy</dc:creator>
  <dc:description/>
  <dc:language>en-US</dc:language>
  <cp:lastModifiedBy>Rachel Pozzetti</cp:lastModifiedBy>
  <dcterms:modified xsi:type="dcterms:W3CDTF">2015-03-23T18:29:54Z</dcterms:modified>
  <cp:revision>17</cp:revision>
  <dc:subject/>
  <dc:title>PowerPoint Presentation</dc:title>
</cp:coreProperties>
</file>