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C50-F9B9-41AE-AF78-FB2C4A18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DB9-160C-4C6A-9382-2D716208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104-A400-47A0-A5BF-477DB698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257-5334-4B75-9620-8C6062E8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850-08BB-463E-BE8A-BB12E78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67D-1415-4939-8543-DF058FA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D23-EF23-4C57-AA9E-65C35FE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E77-DD91-4EF0-A05C-18AEE9B4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A49-6F07-4288-84AA-E302C74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49C-F97D-4A05-899B-EC7CE13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B17-778B-4AC0-ABE5-0DE31AE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548-303E-4B14-8CCD-54FA924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F8CF-81FA-4426-916D-5ACC51804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aineflyfish.com/howto_articles/salt_marsh/images/1.gif"/>
          <p:cNvPicPr/>
          <p:nvPr/>
        </p:nvPicPr>
        <p:blipFill>
          <a:blip r:embed="rId1"/>
          <a:srcRect l="0" t="18153" r="0" b="27551"/>
          <a:stretch/>
        </p:blipFill>
        <p:spPr>
          <a:xfrm>
            <a:off x="228600" y="1523880"/>
            <a:ext cx="635796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22"/>
          <p:cNvSpPr/>
          <p:nvPr/>
        </p:nvSpPr>
        <p:spPr>
          <a:xfrm>
            <a:off x="228600" y="457200"/>
            <a:ext cx="66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Use your notes and the article provided to label the Salt Marsh zones in the above picture. Then, below, identify the plants that inhabit each zone of the Salt Marsh.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f a zone has more than 5 plants listed, you only need to write in up to 5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7"/>
          <p:cNvSpPr/>
          <p:nvPr/>
        </p:nvSpPr>
        <p:spPr>
          <a:xfrm>
            <a:off x="22860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9"/>
          <p:cNvSpPr/>
          <p:nvPr/>
        </p:nvSpPr>
        <p:spPr>
          <a:xfrm>
            <a:off x="1082520" y="4172040"/>
            <a:ext cx="12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Marsh B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0"/>
          <p:cNvSpPr/>
          <p:nvPr/>
        </p:nvSpPr>
        <p:spPr>
          <a:xfrm>
            <a:off x="4524480" y="419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High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1"/>
          <p:cNvSpPr/>
          <p:nvPr/>
        </p:nvSpPr>
        <p:spPr>
          <a:xfrm>
            <a:off x="1128600" y="6667560"/>
            <a:ext cx="118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Pools/Pan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2"/>
          <p:cNvSpPr/>
          <p:nvPr/>
        </p:nvSpPr>
        <p:spPr>
          <a:xfrm>
            <a:off x="4476600" y="668016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Low Mar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22860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3622680" y="417204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3622680" y="6629400"/>
            <a:ext cx="2971800" cy="220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6"/>
          <p:cNvSpPr/>
          <p:nvPr/>
        </p:nvSpPr>
        <p:spPr>
          <a:xfrm>
            <a:off x="0" y="25560"/>
            <a:ext cx="670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 Date: __________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8:14:13Z</dcterms:created>
  <dc:creator>Rachel Fritschy</dc:creator>
  <dc:description/>
  <dc:language>en-US</dc:language>
  <cp:lastModifiedBy>Rachel Pozzetti</cp:lastModifiedBy>
  <dcterms:modified xsi:type="dcterms:W3CDTF">2015-03-23T18:29:54Z</dcterms:modified>
  <cp:revision>17</cp:revision>
  <dc:subject/>
  <dc:title>PowerPoint Presentation</dc:title>
</cp:coreProperties>
</file>