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3E6-E9BD-4BAF-9241-CEFECFB5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CA3-8B42-4EEA-AE6B-063E3A65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7AE-CEB1-496C-BDFA-96451C79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1AF-EC73-47D8-9646-3190B117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C93-9E90-4952-A52F-05DDE53C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0EB-F662-47DE-A21F-B3AF2FC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729-6889-4B75-A6D7-8DE46D3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4C5-0A44-4582-8834-3E75549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9D1-B6BF-44E5-9EE4-86D22D56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520-2E86-46E5-80F9-E959676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087-B172-4273-BCC8-0C90A06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7E2-D6C8-41EB-93FF-BC98173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9A07-6976-4879-91C0-E5BB71B57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aineflyfish.com/howto_articles/salt_marsh/images/1.gif"/>
          <p:cNvPicPr/>
          <p:nvPr/>
        </p:nvPicPr>
        <p:blipFill>
          <a:blip r:embed="rId1"/>
          <a:srcRect l="0" t="18153" r="0" b="27551"/>
          <a:stretch/>
        </p:blipFill>
        <p:spPr>
          <a:xfrm>
            <a:off x="228600" y="1523880"/>
            <a:ext cx="6357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2"/>
          <p:cNvSpPr/>
          <p:nvPr/>
        </p:nvSpPr>
        <p:spPr>
          <a:xfrm>
            <a:off x="228600" y="457200"/>
            <a:ext cx="66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Use your notes and the article provided to label the Salt Marsh zones in the above picture. Then, below, identify the plants that inhabit each zone of the Salt Marsh.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f a zone has more than 5 plants listed, you only need to write in up to 5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22860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1082520" y="4172040"/>
            <a:ext cx="12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Marsh B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0"/>
          <p:cNvSpPr/>
          <p:nvPr/>
        </p:nvSpPr>
        <p:spPr>
          <a:xfrm>
            <a:off x="4524480" y="419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High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1"/>
          <p:cNvSpPr/>
          <p:nvPr/>
        </p:nvSpPr>
        <p:spPr>
          <a:xfrm>
            <a:off x="1128600" y="666756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Pools/Pa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2"/>
          <p:cNvSpPr/>
          <p:nvPr/>
        </p:nvSpPr>
        <p:spPr>
          <a:xfrm>
            <a:off x="4476600" y="668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Low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22860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362268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362268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0" y="2556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 Date: 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4:13Z</dcterms:created>
  <dc:creator>Rachel Fritschy</dc:creator>
  <dc:description/>
  <dc:language>en-US</dc:language>
  <cp:lastModifiedBy>Rachel Pozzetti</cp:lastModifiedBy>
  <dcterms:modified xsi:type="dcterms:W3CDTF">2015-03-23T18:29:54Z</dcterms:modified>
  <cp:revision>17</cp:revision>
  <dc:subject/>
  <dc:title>PowerPoint Presentation</dc:title>
</cp:coreProperties>
</file>