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move the slide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EB27-DEB4-41C3-897D-4FE4CCDBA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5051-FB51-43F8-85AF-3ED871CE8709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738-8C60-40EE-9B15-0BDED44C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9FB-F5EC-4A2E-8376-4B06BD1F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7A1-73DE-4CB2-94B0-CF0B2A09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5CE-7C84-4DD6-990F-84D65F27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84EF-77B4-4CD4-A9A7-E465CE8E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AC28-A754-4290-AE89-F67FC904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C15A-41EE-4B96-929D-04C63D2B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3B9A-8D73-4553-A7A4-5ABAEDDE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34F3-E95A-4EAA-9E51-0AF28F39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82FF-B43E-4100-B5F2-ECC2AB2F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2A95-BE8E-4F3E-A6CA-32CF7EA1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446-5000-4ECD-95D8-3C7FDB47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9379-302A-4F5B-836D-4C550E03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1108-224E-465D-917F-2F753956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9242-0C02-47F6-99A6-846482C0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689B-9F35-4E02-92FF-54EC223D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A425-9DF9-405B-90C9-212AE0CE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897-6188-4333-B229-E6F62921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EC72-9406-4C3A-8557-F805BA99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E4D1-834D-4466-B30D-55B436FC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E0E-6C3C-4ABD-A7F5-08E6C723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5DBD-32E1-4C8F-9DC0-51FB5E3B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150-4389-43FE-8893-E6BEB464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2A9-DE94-449D-B2B0-8C2DEBDA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EFBB-54CC-4B05-A755-8DDD17DCAA4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42AB-F2B5-43AB-A6EC-AE6AD7D426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u6ouKt9zhs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e4e44"/>
                </a:solidFill>
                <a:latin typeface="Century Gothic"/>
              </a:rPr>
              <a:t>ECOSYSTEMS</a:t>
            </a:r>
            <a:endParaRPr b="1" lang="en-US" sz="6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2971440"/>
            <a:ext cx="914400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Population Dynamics</a:t>
            </a:r>
            <a:endParaRPr b="1" lang="en-US" sz="44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34352e"/>
                </a:solidFill>
                <a:latin typeface="Century Gothic"/>
              </a:rPr>
              <a:t>Adapted from Carrying Capacity of Ecosystems by Nancy Lennon, Robin Daham, Jennifer Polignone and from Population dynamics by Dee Barrett</a:t>
            </a:r>
            <a:endParaRPr b="1" lang="en-US" sz="9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anselm.edu/homepage/jpitocch/genbi101/36_02aClumpedDispersion-L%20copy.jpg"/>
          <p:cNvPicPr/>
          <p:nvPr/>
        </p:nvPicPr>
        <p:blipFill>
          <a:blip r:embed="rId1"/>
          <a:stretch/>
        </p:blipFill>
        <p:spPr>
          <a:xfrm>
            <a:off x="1082520" y="1371600"/>
            <a:ext cx="6978960" cy="4572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Clumped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Mark-Recapture Method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89000" y="990720"/>
            <a:ext cx="4840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With random or clumped dispersion, sometimes the method used to calculate populations is the Mark-Recapture metho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With this method, a certain number of animals from a population are captured, marked, and then let go unharme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Then, over time, Ecologists will recapture animals from the same population and will count how many animals were caught against the percentage of ones caught that have the markings on them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Using simple math, the approximate population can be calculate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3" name="Picture 2" descr="http://www.pomaceaproject.org/MarkFiveA.jpg"/>
          <p:cNvPicPr/>
          <p:nvPr/>
        </p:nvPicPr>
        <p:blipFill>
          <a:blip r:embed="rId1"/>
          <a:stretch/>
        </p:blipFill>
        <p:spPr>
          <a:xfrm>
            <a:off x="4994280" y="2057400"/>
            <a:ext cx="40212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Carrying Capacity (K)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Typically, unlimited resources are rare.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opulation growth is therefore regulated by carrying capacity (</a:t>
            </a:r>
            <a:r>
              <a:rPr b="0" i="1" lang="en-US" sz="3200" spc="-1" strike="noStrike">
                <a:solidFill>
                  <a:srgbClr val="4e4e44"/>
                </a:solidFill>
                <a:latin typeface="Century Gothic"/>
              </a:rPr>
              <a:t>K</a:t>
            </a: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), which is the maximum stable population size a particular environment can support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rcRect l="21496" t="14015" r="21522" b="7412"/>
          <a:stretch/>
        </p:blipFill>
        <p:spPr>
          <a:xfrm>
            <a:off x="1479600" y="36360"/>
            <a:ext cx="6184800" cy="6821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4e44"/>
                </a:solidFill>
                <a:latin typeface="Century Gothic"/>
              </a:rPr>
              <a:t>Limiting Factors</a:t>
            </a:r>
            <a:endParaRPr b="1" lang="en-US" sz="54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e44"/>
                </a:solidFill>
                <a:latin typeface="Century Gothic"/>
              </a:rPr>
              <a:t>What might influence the growth of a population of flora or fauna?</a:t>
            </a:r>
            <a:endParaRPr b="1" lang="en-US" sz="4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Limiting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61880" y="990720"/>
            <a:ext cx="739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Limiting factors are any factors that limit/control the growth, size, or distribution of a population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They may be density-dependent (meaning they only occur in dense populations) or density-independent (where they occur almost anywhere)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52e"/>
                </a:solidFill>
                <a:latin typeface="Century Gothic"/>
              </a:rPr>
              <a:t>Examples include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Food suppl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Water suppl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Diseas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Predat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Competit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Living Spac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Exponential Population Growth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533520" y="144792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Exponential growth happens when resources are unlimited and environmental conditions are ideal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The birth rate exceeds the death rate so populations go up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J-shaped curve results when number of organisms over time is graphed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www2.estrellamountain.edu/faculty/farabee/BIOBK/expgrowth.gif"/>
          <p:cNvPicPr/>
          <p:nvPr/>
        </p:nvPicPr>
        <p:blipFill>
          <a:blip r:embed="rId1"/>
          <a:srcRect l="0" t="0" r="51406" b="0"/>
          <a:stretch/>
        </p:blipFill>
        <p:spPr>
          <a:xfrm>
            <a:off x="1905120" y="304920"/>
            <a:ext cx="4647960" cy="57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In Reality…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87624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Resources are NOT unlimited as we know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Limiting factors slow population growth by increasing death rate and decreasing birth rate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This is demonstrated in the Logistic Model of Population Growth which incorporated limiting factors and recognizes a carrying capacity in each ecosystem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Results in an S-shaped curve when number of individuals over time is graphed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2.estrellamountain.edu/faculty/farabee/BIOBK/expgrowth.gif"/>
          <p:cNvPicPr/>
          <p:nvPr/>
        </p:nvPicPr>
        <p:blipFill>
          <a:blip r:embed="rId1"/>
          <a:srcRect l="47256" t="0" r="0" b="0"/>
          <a:stretch/>
        </p:blipFill>
        <p:spPr>
          <a:xfrm>
            <a:off x="1981080" y="717480"/>
            <a:ext cx="4724640" cy="54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761976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Temperature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Wind Speed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Humidity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Minerals (P, N)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Oxygen Levels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H  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ollutants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ABIOTIC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://www2.estrellamountain.edu/faculty/farabee/BIOBK/expgrowth.gif"/>
          <p:cNvPicPr/>
          <p:nvPr/>
        </p:nvPicPr>
        <p:blipFill>
          <a:blip r:embed="rId1"/>
          <a:stretch/>
        </p:blipFill>
        <p:spPr>
          <a:xfrm>
            <a:off x="685800" y="914400"/>
            <a:ext cx="79405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24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Century Gothic"/>
              </a:rPr>
              <a:t>How well does the logistic model fit the growth of real populations?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The growth of laboratory populations of some animals fits the S-shaped curves fairly well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32999" t="0" r="25752" b="54819"/>
          <a:stretch/>
        </p:blipFill>
        <p:spPr>
          <a:xfrm>
            <a:off x="457200" y="2982960"/>
            <a:ext cx="3886200" cy="3036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rcRect l="0" t="49676" r="55818" b="3323"/>
          <a:stretch/>
        </p:blipFill>
        <p:spPr>
          <a:xfrm>
            <a:off x="4572000" y="2895480"/>
            <a:ext cx="4114800" cy="31244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7639200" y="630864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2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1920" y="184320"/>
            <a:ext cx="807732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Century Gothic"/>
              </a:rPr>
              <a:t>Some of the assumptions built into the logistic model do not apply to all population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4e44"/>
                </a:solidFill>
                <a:latin typeface="Century Gothic"/>
              </a:rPr>
              <a:t>It is a model which provides a basis from which we can compare real populations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0" y="638496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2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44253" t="45181" r="246" b="2277"/>
          <a:stretch/>
        </p:blipFill>
        <p:spPr>
          <a:xfrm>
            <a:off x="1447920" y="2575080"/>
            <a:ext cx="5638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A variety of factors can cause negative feedback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Resource limitation in crowded populations can stop population growth by reducing reproduction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entury Gothic"/>
              </a:rPr>
              <a:t>Negative Feedback prevents unlimited population growth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rcRect l="0" t="0" r="0" b="4765"/>
          <a:stretch/>
        </p:blipFill>
        <p:spPr>
          <a:xfrm>
            <a:off x="457200" y="2898720"/>
            <a:ext cx="762012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7848360" y="5927760"/>
            <a:ext cx="924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52.14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560" y="342720"/>
            <a:ext cx="8381880" cy="60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Century Gothic"/>
              </a:rPr>
              <a:t>Interspecific competition for food can also cause density-dependent behavior of populations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Territoriality, defense of a space, may set a limit on density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may also be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a factor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because it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can cause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mortality of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prey species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3556"/>
          <a:stretch/>
        </p:blipFill>
        <p:spPr>
          <a:xfrm>
            <a:off x="3855960" y="2440080"/>
            <a:ext cx="5173920" cy="3687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076480" y="592776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5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57200" y="87624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redator and prey populations fluctuate up and down over time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When prey populations are high (birth rate &gt; death rate), predators have an easier time catching them and have plenty to eat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This often results in an increase in predator population size (birth rate &gt; dea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57200" y="876240"/>
            <a:ext cx="769608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rey populations will likely drop as a result of more individuals being caught than are born (death rate &gt; bir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As prey populations drop, predators begin to starve, increasing the death rate of the predator population (death rate &gt; bir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opulations of herbivores and plants cycle in this same manner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422360"/>
            <a:ext cx="74134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There are populations that fluctuate greatly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A good example involves the lynx and snowshoe hare that cycle on a ten year basis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8096400" y="61722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9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rcRect l="0" t="0" r="0" b="6265"/>
          <a:stretch/>
        </p:blipFill>
        <p:spPr>
          <a:xfrm>
            <a:off x="990720" y="3048120"/>
            <a:ext cx="7137360" cy="38098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entury Gothic"/>
              </a:rPr>
              <a:t>Some populations have regular boom-and-bust cycles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34308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52e"/>
                </a:solidFill>
                <a:latin typeface="Century Gothic"/>
              </a:rPr>
              <a:t>Some populations fluctuate erratically, based on many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0" t="0" r="0" b="3520"/>
          <a:stretch/>
        </p:blipFill>
        <p:spPr>
          <a:xfrm>
            <a:off x="914400" y="1469880"/>
            <a:ext cx="6553080" cy="47181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8001000" y="586728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8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Century Gothic"/>
                <a:hlinkClick r:id="rId1"/>
              </a:rPr>
              <a:t>r-selected vs. K-selected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457200" y="74448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In any population, knowing if a species is r-selected or K-selected is very important when determining populations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N = population siz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r = growth rat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K = carrying capacit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62" name="Picture 2" descr="http://e7xavierbiology.wikispaces.com/file/view/r-k-selection.jpg/259837286/r-k-selection.jpg"/>
          <p:cNvPicPr/>
          <p:nvPr/>
        </p:nvPicPr>
        <p:blipFill>
          <a:blip r:embed="rId2"/>
          <a:stretch/>
        </p:blipFill>
        <p:spPr>
          <a:xfrm>
            <a:off x="1523880" y="2955960"/>
            <a:ext cx="6096240" cy="38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BIOTIC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Population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Availability of food/resource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Landscape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Detrivore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Community interaction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www.wildaid.org/sites/default/files/photos/iStock_000008302123Large.jpg"/>
          <p:cNvPicPr/>
          <p:nvPr/>
        </p:nvPicPr>
        <p:blipFill>
          <a:blip r:embed="rId1"/>
          <a:stretch/>
        </p:blipFill>
        <p:spPr>
          <a:xfrm>
            <a:off x="304920" y="533520"/>
            <a:ext cx="4417920" cy="294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images4.fanpop.com/image/forum/81000/81162_1292950595859_full.jpg"/>
          <p:cNvPicPr/>
          <p:nvPr/>
        </p:nvPicPr>
        <p:blipFill>
          <a:blip r:embed="rId2"/>
          <a:stretch/>
        </p:blipFill>
        <p:spPr>
          <a:xfrm>
            <a:off x="1447920" y="3581280"/>
            <a:ext cx="5014800" cy="26751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5029200" y="129528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352e"/>
                </a:solidFill>
                <a:latin typeface="Century Gothic"/>
              </a:rPr>
              <a:t>Which one is r-selected? Which one is K-selected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Data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Quantitative data using probes, measuring devices to calculate amounts of abiotic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Quantitative data and qualitative data is used for collecting information regarding biotic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e4e44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What might be some of the problems with these types of studies?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Population Studies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858000" cy="4514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12952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Century Gothic"/>
              </a:rPr>
              <a:t>How would you count these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There are 3 Main Types of Population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Uniform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evenly spread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Random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no pattern to how they’re spread 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Clumped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deliberate groups/clumps of organisms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Uniform Dispersion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3" name="Picture 5" descr="http://www.anselm.edu/homepage/jpitocch/genbi101/36_02bUniformDispersion-L%20copy.jpg"/>
          <p:cNvPicPr/>
          <p:nvPr/>
        </p:nvPicPr>
        <p:blipFill>
          <a:blip r:embed="rId1"/>
          <a:stretch/>
        </p:blipFill>
        <p:spPr>
          <a:xfrm>
            <a:off x="762120" y="1389240"/>
            <a:ext cx="722304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For uniform spreading, we use Random Sampling Method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5" name="Picture 2" descr="http://www.biologycorner.com/resources/RandomSamplingGrid.jpg"/>
          <p:cNvPicPr/>
          <p:nvPr/>
        </p:nvPicPr>
        <p:blipFill>
          <a:blip r:embed="rId1"/>
          <a:stretch/>
        </p:blipFill>
        <p:spPr>
          <a:xfrm>
            <a:off x="3352680" y="1600200"/>
            <a:ext cx="5677200" cy="46958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380880" y="1828800"/>
            <a:ext cx="2667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52e"/>
                </a:solidFill>
                <a:latin typeface="Century Gothic"/>
              </a:rPr>
              <a:t>With transect, or random, sampling, the organisms must be uniformly dispersed throughout an ecosystem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52e"/>
                </a:solidFill>
                <a:latin typeface="Century Gothic"/>
              </a:rPr>
              <a:t>Ecologists can then count the amount of organisms in one transect and then multiply it by the entire study area to get the approximate population size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Random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8" name="Picture 5" descr="http://bio1152.nicerweb.com/Locked/media/ch53/53_04cRandomDispersion-L.jpg"/>
          <p:cNvPicPr/>
          <p:nvPr/>
        </p:nvPicPr>
        <p:blipFill>
          <a:blip r:embed="rId1"/>
          <a:stretch/>
        </p:blipFill>
        <p:spPr>
          <a:xfrm>
            <a:off x="1206360" y="1309680"/>
            <a:ext cx="67312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8:22:27Z</dcterms:created>
  <dc:creator>Dee Barrett</dc:creator>
  <dc:description/>
  <dc:language>en-US</dc:language>
  <cp:lastModifiedBy>Rachel Pozzetti</cp:lastModifiedBy>
  <dcterms:modified xsi:type="dcterms:W3CDTF">2015-02-11T12:19:36Z</dcterms:modified>
  <cp:revision>64</cp:revision>
  <dc:subject/>
  <dc:title>ECOSYSTEMS</dc:title>
</cp:coreProperties>
</file>