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move the slid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F5B6-CF7C-4B9E-980B-F6E10EB1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D3C7-ED3A-410A-998C-2E87B1A37FCD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5B8-C85F-40B7-8F0E-FD360E89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7A5-1118-49BC-9CFB-34E5FE93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1D7-ECA1-4DBA-8E0F-6DA9B830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675-CD96-4631-B652-D3B41BE4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DBD4-3170-4703-886F-33F58AD1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C2D5-0DD2-478F-86E7-6BCCC302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65C3-CF0A-44FC-B6C7-1D20BDC5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98C6-7475-4E6C-9BB6-7B2333AC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36A7-C327-43E6-9127-BF87A100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235C-4F86-47C7-B310-329997E3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23D5-6A97-4BB0-8F98-A60474D4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854-C3F8-471E-AAEA-23D88AF1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8923-146B-47C0-92FA-E264F464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002D-340E-43DE-893F-C7CE23B6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334B-8ECD-4ED1-92A7-5ABA7D3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5C39-0AA3-4F89-9410-4A086498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D5F8-8E28-4F32-AD92-F8C43936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E76-7844-44E4-B30E-7259E7D6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DB2-B7BC-4A95-B16B-FAEBF04F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F91-337F-4FC9-A906-A8CEC87A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BAC-93D2-4DEE-A586-60E2081D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37A-A7B8-4E4E-BF4C-03423FDF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5AC-96DE-4740-86F1-7299AD18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19F-F8C2-40C9-A8C8-153D3167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A3FE-8981-4E55-8430-05D5386B31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443E-54DD-45F4-BCD6-3B5F3F2D56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u6ouKt9zhs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e4e44"/>
                </a:solidFill>
                <a:latin typeface="Century Gothic"/>
              </a:rPr>
              <a:t>ECOSYSTEMS</a:t>
            </a:r>
            <a:endParaRPr b="1" lang="en-US" sz="6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Population Dynamics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34352e"/>
                </a:solidFill>
                <a:latin typeface="Century Gothic"/>
              </a:rPr>
              <a:t>Adapted from Carrying Capacity of Ecosystems by Nancy Lennon, Robin Daham, Jennifer Polignone and from Population dynamics by Dee Barrett</a:t>
            </a:r>
            <a:endParaRPr b="1" lang="en-US" sz="9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anselm.edu/homepage/jpitocch/genbi101/36_02aClumpedDispersion-L%20copy.jpg"/>
          <p:cNvPicPr/>
          <p:nvPr/>
        </p:nvPicPr>
        <p:blipFill>
          <a:blip r:embed="rId1"/>
          <a:stretch/>
        </p:blipFill>
        <p:spPr>
          <a:xfrm>
            <a:off x="1082520" y="1371600"/>
            <a:ext cx="697896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Clumped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Mark-Recapture Metho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89000" y="990720"/>
            <a:ext cx="4840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random or clumped dispersion, sometimes the method used to calculate populations is the Mark-Recapture metho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this method, a certain number of animals from a population are captured, marked, and then let go unharm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Then, over time, Ecologists will recapture animals from the same population and will count how many animals were caught against the percentage of ones caught that have the markings on them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Using simple math, the approximate population can be calculat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3" name="Picture 2" descr="http://www.pomaceaproject.org/MarkFiveA.jpg"/>
          <p:cNvPicPr/>
          <p:nvPr/>
        </p:nvPicPr>
        <p:blipFill>
          <a:blip r:embed="rId1"/>
          <a:stretch/>
        </p:blipFill>
        <p:spPr>
          <a:xfrm>
            <a:off x="4994280" y="2057400"/>
            <a:ext cx="4021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Carrying Capacity (K)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Typically, unlimited resources are rare.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pulation growth is therefore regulated by carrying capacity (</a:t>
            </a:r>
            <a:r>
              <a:rPr b="0" i="1" lang="en-US" sz="3200" spc="-1" strike="noStrike">
                <a:solidFill>
                  <a:srgbClr val="4e4e44"/>
                </a:solidFill>
                <a:latin typeface="Century Gothic"/>
              </a:rPr>
              <a:t>K</a:t>
            </a: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), which is the maximum stable population size a particular environment can support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21496" t="14015" r="21522" b="7412"/>
          <a:stretch/>
        </p:blipFill>
        <p:spPr>
          <a:xfrm>
            <a:off x="1479600" y="36360"/>
            <a:ext cx="6184800" cy="682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5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Century Gothic"/>
              </a:rPr>
              <a:t>What might influence the growth of a population of flora or fauna?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1880" y="9907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miting factors are any factors that limit/control the growth, size, or distribution of a population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They may be density-dependent (meaning they only occur in dense populations) or density-independent (where they occur almost anywhere)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52e"/>
                </a:solidFill>
                <a:latin typeface="Century Gothic"/>
              </a:rPr>
              <a:t>Examples include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Food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Water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Diseas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Preda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Competi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ving Spac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Exponential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3520" y="144792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Exponential growth happens when resources are unlimited and environmental conditions are ideal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The birth rate exceeds the death rate so populations go up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J-shaped curve results when number of organisms over time is graphed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2.estrellamountain.edu/faculty/farabee/BIOBK/expgrowth.gif"/>
          <p:cNvPicPr/>
          <p:nvPr/>
        </p:nvPicPr>
        <p:blipFill>
          <a:blip r:embed="rId1"/>
          <a:srcRect l="0" t="0" r="51406" b="0"/>
          <a:stretch/>
        </p:blipFill>
        <p:spPr>
          <a:xfrm>
            <a:off x="1905120" y="304920"/>
            <a:ext cx="464796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In Reality…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ources are NOT unlimited as we know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Limiting factors slow population growth by increasing death rate and decreasing birth rat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is demonstrated in the Logistic Model of Population Growth which incorporated limiting factors and recognizes a carrying capacity in each ecosystem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ults in an S-shaped curve when number of individuals over time is graphed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2.estrellamountain.edu/faculty/farabee/BIOBK/expgrowth.gif"/>
          <p:cNvPicPr/>
          <p:nvPr/>
        </p:nvPicPr>
        <p:blipFill>
          <a:blip r:embed="rId1"/>
          <a:srcRect l="47256" t="0" r="0" b="0"/>
          <a:stretch/>
        </p:blipFill>
        <p:spPr>
          <a:xfrm>
            <a:off x="1981080" y="717480"/>
            <a:ext cx="472464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76197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Temperatur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Wind Speed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Humidity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Minerals (P, N)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Oxygen Level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H  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llutant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A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ww2.estrellamountain.edu/faculty/farabee/BIOBK/expgrowth.gif"/>
          <p:cNvPicPr/>
          <p:nvPr/>
        </p:nvPicPr>
        <p:blipFill>
          <a:blip r:embed="rId1"/>
          <a:stretch/>
        </p:blipFill>
        <p:spPr>
          <a:xfrm>
            <a:off x="685800" y="914400"/>
            <a:ext cx="79405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How well does the logistic model fit the growth of real populations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he growth of laboratory populations of some animals fits the S-shaped curves fairly well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32999" t="0" r="25752" b="54819"/>
          <a:stretch/>
        </p:blipFill>
        <p:spPr>
          <a:xfrm>
            <a:off x="457200" y="2982960"/>
            <a:ext cx="388620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rcRect l="0" t="49676" r="55818" b="3323"/>
          <a:stretch/>
        </p:blipFill>
        <p:spPr>
          <a:xfrm>
            <a:off x="4572000" y="28954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7639200" y="630864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1920" y="184320"/>
            <a:ext cx="807732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Some of the assumptions built into the logistic model do not apply to all population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entury Gothic"/>
              </a:rPr>
              <a:t>It is a model which provides a basis from which we can compare real population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0" y="63849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44253" t="45181" r="246" b="2277"/>
          <a:stretch/>
        </p:blipFill>
        <p:spPr>
          <a:xfrm>
            <a:off x="1447920" y="2575080"/>
            <a:ext cx="5638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variety of factors can cause negative feedback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Resource limitation in crowded populations can stop population growth by reducing reproduction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Negative Feedback prevents unlimited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rcRect l="0" t="0" r="0" b="4765"/>
          <a:stretch/>
        </p:blipFill>
        <p:spPr>
          <a:xfrm>
            <a:off x="457200" y="2898720"/>
            <a:ext cx="762012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7848360" y="5927760"/>
            <a:ext cx="92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52.14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342720"/>
            <a:ext cx="8381880" cy="60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Century Gothic"/>
              </a:rPr>
              <a:t>Interspecific competition for food can also cause density-dependent behavior of population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erritoriality, defense of a space, may set a limit on density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ay also b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a factor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because it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can caus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ortality of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y specie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3556"/>
          <a:stretch/>
        </p:blipFill>
        <p:spPr>
          <a:xfrm>
            <a:off x="3855960" y="2440080"/>
            <a:ext cx="5173920" cy="368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076480" y="59277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5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dator and prey populations fluctuate up and down over tim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When prey populations are high (birth rate &gt; death rate), predators have an easier time catching them and have plenty to eat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often results in an increase in predator population size (birth rate &gt; dea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57200" y="876240"/>
            <a:ext cx="769608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y populations will likely drop as a result of more individuals being caught than are bor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As prey populations drop, predators begin to starve, increasing the death rate of the predator populatio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opulations of herbivores and plants cycle in this same manner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422360"/>
            <a:ext cx="7413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There are populations that fluctuate greatly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good example involves the lynx and snowshoe hare that cycle on a ten year basi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096400" y="61722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9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0" t="0" r="0" b="6265"/>
          <a:stretch/>
        </p:blipFill>
        <p:spPr>
          <a:xfrm>
            <a:off x="990720" y="3048120"/>
            <a:ext cx="713736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Some populations have regular boom-and-bust cycle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34308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52e"/>
                </a:solidFill>
                <a:latin typeface="Century Gothic"/>
              </a:rPr>
              <a:t>Some populations fluctuate erratically, based on many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0" t="0" r="0" b="3520"/>
          <a:stretch/>
        </p:blipFill>
        <p:spPr>
          <a:xfrm>
            <a:off x="914400" y="1469880"/>
            <a:ext cx="6553080" cy="4718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8001000" y="586728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8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Century Gothic"/>
                <a:hlinkClick r:id="rId1"/>
              </a:rPr>
              <a:t>r-selected vs. K-selecte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457200" y="7444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In any population, knowing if a species is r-selected or K-selected is very important when determining populations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N = population siz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r = growth rat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K = carrying capacit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62" name="Picture 2" descr="http://e7xavierbiology.wikispaces.com/file/view/r-k-selection.jpg/259837286/r-k-selection.jpg"/>
          <p:cNvPicPr/>
          <p:nvPr/>
        </p:nvPicPr>
        <p:blipFill>
          <a:blip r:embed="rId2"/>
          <a:stretch/>
        </p:blipFill>
        <p:spPr>
          <a:xfrm>
            <a:off x="1523880" y="2955960"/>
            <a:ext cx="6096240" cy="38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Popula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Availability of food/resourc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Landscape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Detrivor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Community interac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www.wildaid.org/sites/default/files/photos/iStock_000008302123Large.jpg"/>
          <p:cNvPicPr/>
          <p:nvPr/>
        </p:nvPicPr>
        <p:blipFill>
          <a:blip r:embed="rId1"/>
          <a:stretch/>
        </p:blipFill>
        <p:spPr>
          <a:xfrm>
            <a:off x="304920" y="533520"/>
            <a:ext cx="44179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images4.fanpop.com/image/forum/81000/81162_1292950595859_full.jpg"/>
          <p:cNvPicPr/>
          <p:nvPr/>
        </p:nvPicPr>
        <p:blipFill>
          <a:blip r:embed="rId2"/>
          <a:stretch/>
        </p:blipFill>
        <p:spPr>
          <a:xfrm>
            <a:off x="1447920" y="3581280"/>
            <a:ext cx="5014800" cy="2675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5029200" y="129528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352e"/>
                </a:solidFill>
                <a:latin typeface="Century Gothic"/>
              </a:rPr>
              <a:t>Which one is r-selected? Which one is K-selected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Data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using probes, measuring devices to calculate amounts of a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and qualitative data is used for collecting information regarding 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e4e4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What might be some of the problems with these types of studies?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Population Studies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858000" cy="4514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Century Gothic"/>
              </a:rPr>
              <a:t>How would you count these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There are 3 Main Types of Population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Unifor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evenly spread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Rando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no pattern to how they’re spread 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Clumped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deliberate groups/clumps of organisms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Uniform Dispersion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3" name="Picture 5" descr="http://www.anselm.edu/homepage/jpitocch/genbi101/36_02bUniformDispersion-L%20copy.jpg"/>
          <p:cNvPicPr/>
          <p:nvPr/>
        </p:nvPicPr>
        <p:blipFill>
          <a:blip r:embed="rId1"/>
          <a:stretch/>
        </p:blipFill>
        <p:spPr>
          <a:xfrm>
            <a:off x="762120" y="1389240"/>
            <a:ext cx="722304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For uniform spreading, we use Random Sampling Method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5" name="Picture 2" descr="http://www.biologycorner.com/resources/RandomSamplingGrid.jpg"/>
          <p:cNvPicPr/>
          <p:nvPr/>
        </p:nvPicPr>
        <p:blipFill>
          <a:blip r:embed="rId1"/>
          <a:stretch/>
        </p:blipFill>
        <p:spPr>
          <a:xfrm>
            <a:off x="3352680" y="1600200"/>
            <a:ext cx="5677200" cy="4695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380880" y="1828800"/>
            <a:ext cx="266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With transect, or random, sampling, the organisms must be uniformly dispersed throughout an ecosystem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Ecologists can then count the amount of organisms in one transect and then multiply it by the entire study area to get the approximate population size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Random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8" name="Picture 5" descr="http://bio1152.nicerweb.com/Locked/media/ch53/53_04cRandomDispersion-L.jpg"/>
          <p:cNvPicPr/>
          <p:nvPr/>
        </p:nvPicPr>
        <p:blipFill>
          <a:blip r:embed="rId1"/>
          <a:stretch/>
        </p:blipFill>
        <p:spPr>
          <a:xfrm>
            <a:off x="1206360" y="1309680"/>
            <a:ext cx="67312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8:22:27Z</dcterms:created>
  <dc:creator>Dee Barrett</dc:creator>
  <dc:description/>
  <dc:language>en-US</dc:language>
  <cp:lastModifiedBy>Rachel Pozzetti</cp:lastModifiedBy>
  <dcterms:modified xsi:type="dcterms:W3CDTF">2015-02-11T12:19:36Z</dcterms:modified>
  <cp:revision>64</cp:revision>
  <dc:subject/>
  <dc:title>ECOSYSTEMS</dc:title>
</cp:coreProperties>
</file>