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Click to move the slide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74C6-FA74-4030-A316-08A6975F9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6885-B169-4D45-A6BE-2C64EB098CF5}" type="slidenum">
              <a:rPr b="0" lang="en-U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27BF-AC9C-417C-9538-8B298262B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DE83-90A2-4280-A073-1C56CD8D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E20A-17C1-4744-81A0-50F4717EE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8252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3644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8252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3644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7F81-050D-42A7-930F-94D4F66F7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87B7-4742-4B33-B88A-C732225B1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4522-A04D-4ADF-B740-65A26CEA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2B47-184B-4190-9487-87017EDB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A63B-1855-45BE-9ABF-EF22CD97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6CE5-AF78-4017-9156-230C60F2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3092-4A4D-4F2B-820E-7951C6FC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66E3-C20C-4BEF-BD5A-14A2553B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AAF6-1F88-4E68-945F-76F2FB7E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6AEA-5ACD-4B21-B552-13A83611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3538-4509-4874-AD89-AB7C8BDA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6D16-FF77-4B03-B340-AF540935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7D4E-54B2-45A2-83C3-34892070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8252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3644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8252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3644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B1D0-60F2-49C2-8DD0-D62320BA2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10D8-BE22-47AD-997F-B2565647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C05A-AAFE-443D-AF9D-1895948B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01B6-6A54-4772-90A0-510C0080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0838-2B78-4915-BDE3-4623DEF8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A845-6F86-43F2-965C-D3204729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E49D-3484-4C44-A731-C67DD45C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E56C-6202-4813-97A5-CBDEDE34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85120"/>
            <a:ext cx="213372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132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1320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6652-4FCB-4395-831C-81D84551532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132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363E-DE9F-47F9-A2CB-F91198F6358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u6ouKt9zhs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67616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e4e44"/>
                </a:solidFill>
                <a:latin typeface="Century Gothic"/>
              </a:rPr>
              <a:t>ECOSYSTEMS</a:t>
            </a:r>
            <a:endParaRPr b="1" lang="en-US" sz="6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2971440"/>
            <a:ext cx="9144000" cy="7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69696"/>
                </a:solidFill>
                <a:latin typeface="Century Gothic"/>
              </a:rPr>
              <a:t>Population Dynamics</a:t>
            </a:r>
            <a:endParaRPr b="1" lang="en-US" sz="44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34352e"/>
                </a:solidFill>
                <a:latin typeface="Century Gothic"/>
              </a:rPr>
              <a:t>Adapted from Carrying Capacity of Ecosystems by Nancy Lennon, Robin Daham, Jennifer Polignone and from Population dynamics by Dee Barrett</a:t>
            </a:r>
            <a:endParaRPr b="1" lang="en-US" sz="9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http://www.anselm.edu/homepage/jpitocch/genbi101/36_02aClumpedDispersion-L%20copy.jpg"/>
          <p:cNvPicPr/>
          <p:nvPr/>
        </p:nvPicPr>
        <p:blipFill>
          <a:blip r:embed="rId1"/>
          <a:stretch/>
        </p:blipFill>
        <p:spPr>
          <a:xfrm>
            <a:off x="1082520" y="1371600"/>
            <a:ext cx="6978960" cy="4572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Clumped Dispersion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Mark-Recapture Method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189000" y="990720"/>
            <a:ext cx="4840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52e"/>
                </a:solidFill>
                <a:latin typeface="Century Gothic"/>
              </a:rPr>
              <a:t>With random or clumped dispersion, sometimes the method used to calculate populations is the Mark-Recapture method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52e"/>
                </a:solidFill>
                <a:latin typeface="Century Gothic"/>
              </a:rPr>
              <a:t>With this method, a certain number of animals from a population are captured, marked, and then let go unharmed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52e"/>
                </a:solidFill>
                <a:latin typeface="Century Gothic"/>
              </a:rPr>
              <a:t>Then, over time, Ecologists will recapture animals from the same population and will count how many animals were caught against the percentage of ones caught that have the markings on them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52e"/>
                </a:solidFill>
                <a:latin typeface="Century Gothic"/>
              </a:rPr>
              <a:t>Using simple math, the approximate population can be calculated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3" name="Picture 2" descr="http://www.pomaceaproject.org/MarkFiveA.jpg"/>
          <p:cNvPicPr/>
          <p:nvPr/>
        </p:nvPicPr>
        <p:blipFill>
          <a:blip r:embed="rId1"/>
          <a:stretch/>
        </p:blipFill>
        <p:spPr>
          <a:xfrm>
            <a:off x="4994280" y="2057400"/>
            <a:ext cx="40212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4e44"/>
                </a:solidFill>
                <a:latin typeface="Century Gothic"/>
              </a:rPr>
              <a:t>Carrying Capacity (K)</a:t>
            </a:r>
            <a:endParaRPr b="1" lang="en-US" sz="40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99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4e44"/>
                </a:solidFill>
                <a:latin typeface="Century Gothic"/>
              </a:rPr>
              <a:t>Typically, unlimited resources are rare.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39933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Population growth is therefore regulated by carrying capacity (</a:t>
            </a:r>
            <a:r>
              <a:rPr b="0" i="1" lang="en-US" sz="3200" spc="-1" strike="noStrike">
                <a:solidFill>
                  <a:srgbClr val="4e4e44"/>
                </a:solidFill>
                <a:latin typeface="Century Gothic"/>
              </a:rPr>
              <a:t>K</a:t>
            </a: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), which is the maximum stable population size a particular environment can support.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rcRect l="21496" t="14015" r="21522" b="7412"/>
          <a:stretch/>
        </p:blipFill>
        <p:spPr>
          <a:xfrm>
            <a:off x="1479600" y="36360"/>
            <a:ext cx="6184800" cy="6821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e4e44"/>
                </a:solidFill>
                <a:latin typeface="Century Gothic"/>
              </a:rPr>
              <a:t>Limiting Factors</a:t>
            </a:r>
            <a:endParaRPr b="1" lang="en-US" sz="54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e44"/>
                </a:solidFill>
                <a:latin typeface="Century Gothic"/>
              </a:rPr>
              <a:t>What might influence the growth of a population of flora or fauna?</a:t>
            </a:r>
            <a:endParaRPr b="1" lang="en-US" sz="4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e4e44"/>
                </a:solidFill>
                <a:latin typeface="Century Gothic"/>
              </a:rPr>
              <a:t>Limiting Factors</a:t>
            </a:r>
            <a:endParaRPr b="1" lang="en-US" sz="48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461880" y="990720"/>
            <a:ext cx="739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Limiting factors are any factors that limit/control the growth, size, or distribution of a population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They may be density-dependent (meaning they only occur in dense populations) or density-independent (where they occur almost anywhere)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352e"/>
                </a:solidFill>
                <a:latin typeface="Century Gothic"/>
              </a:rPr>
              <a:t>Examples include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Food supply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Water supply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Disease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Predation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Competition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Living Space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Exponential Population Growth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533520" y="1447920"/>
            <a:ext cx="7696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352e"/>
                </a:solidFill>
                <a:latin typeface="Century Gothic"/>
              </a:rPr>
              <a:t>Exponential growth happens when resources are unlimited and environmental conditions are ideal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352e"/>
                </a:solidFill>
                <a:latin typeface="Century Gothic"/>
              </a:rPr>
              <a:t>The birth rate exceeds the death rate so populations go up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352e"/>
                </a:solidFill>
                <a:latin typeface="Century Gothic"/>
              </a:rPr>
              <a:t>J-shaped curve results when number of organisms over time is graphed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://www2.estrellamountain.edu/faculty/farabee/BIOBK/expgrowth.gif"/>
          <p:cNvPicPr/>
          <p:nvPr/>
        </p:nvPicPr>
        <p:blipFill>
          <a:blip r:embed="rId1"/>
          <a:srcRect l="0" t="0" r="51406" b="0"/>
          <a:stretch/>
        </p:blipFill>
        <p:spPr>
          <a:xfrm>
            <a:off x="1905120" y="304920"/>
            <a:ext cx="4647960" cy="578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228600" y="1908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In Reality…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876240"/>
            <a:ext cx="7696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Resources are NOT unlimited as we know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Limiting factors slow population growth by increasing death rate and decreasing birth rate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This is demonstrated in the Logistic Model of Population Growth which incorporated limiting factors and recognizes a carrying capacity in each ecosystem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Results in an S-shaped curve when number of individuals over time is graphed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ttp://www2.estrellamountain.edu/faculty/farabee/BIOBK/expgrowth.gif"/>
          <p:cNvPicPr/>
          <p:nvPr/>
        </p:nvPicPr>
        <p:blipFill>
          <a:blip r:embed="rId1"/>
          <a:srcRect l="47256" t="0" r="0" b="0"/>
          <a:stretch/>
        </p:blipFill>
        <p:spPr>
          <a:xfrm>
            <a:off x="1981080" y="717480"/>
            <a:ext cx="4724640" cy="54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1371240"/>
            <a:ext cx="761976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Temperature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Wind Speed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Humidity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Minerals (P, N)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Oxygen Levels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pH  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Pollutants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e4e44"/>
                </a:solidFill>
                <a:latin typeface="Century Gothic"/>
              </a:rPr>
              <a:t>ABIOTIC FACTORS</a:t>
            </a:r>
            <a:endParaRPr b="1" lang="en-US" sz="4800" spc="-1" strike="noStrike">
              <a:solidFill>
                <a:srgbClr val="4e4e44"/>
              </a:solidFill>
              <a:latin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http://www2.estrellamountain.edu/faculty/farabee/BIOBK/expgrowth.gif"/>
          <p:cNvPicPr/>
          <p:nvPr/>
        </p:nvPicPr>
        <p:blipFill>
          <a:blip r:embed="rId1"/>
          <a:stretch/>
        </p:blipFill>
        <p:spPr>
          <a:xfrm>
            <a:off x="685800" y="914400"/>
            <a:ext cx="79405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381880" cy="24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33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Century Gothic"/>
              </a:rPr>
              <a:t>How well does the logistic model fit the growth of real populations?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Century Gothic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The growth of laboratory populations of some animals fits the S-shaped curves fairly well.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rcRect l="32999" t="0" r="25752" b="54819"/>
          <a:stretch/>
        </p:blipFill>
        <p:spPr>
          <a:xfrm>
            <a:off x="457200" y="2982960"/>
            <a:ext cx="3886200" cy="3036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rcRect l="0" t="49676" r="55818" b="3323"/>
          <a:stretch/>
        </p:blipFill>
        <p:spPr>
          <a:xfrm>
            <a:off x="4572000" y="2895480"/>
            <a:ext cx="4114800" cy="31244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7639200" y="630864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69696"/>
                </a:solidFill>
                <a:latin typeface="Times New Roman"/>
              </a:rPr>
              <a:t>Fig. 52.12</a:t>
            </a:r>
            <a:endParaRPr b="0" lang="en-US" sz="15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51920" y="184320"/>
            <a:ext cx="8077320" cy="23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33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Century Gothic"/>
              </a:rPr>
              <a:t>Some of the assumptions built into the logistic model do not apply to all populations.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4e44"/>
                </a:solidFill>
                <a:latin typeface="Century Gothic"/>
              </a:rPr>
              <a:t>It is a model which provides a basis from which we can compare real populations.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858000" y="638496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69696"/>
                </a:solidFill>
                <a:latin typeface="Times New Roman"/>
              </a:rPr>
              <a:t>Fig. 52.12</a:t>
            </a:r>
            <a:endParaRPr b="0" lang="en-US" sz="15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rcRect l="44253" t="45181" r="246" b="2277"/>
          <a:stretch/>
        </p:blipFill>
        <p:spPr>
          <a:xfrm>
            <a:off x="1447920" y="2575080"/>
            <a:ext cx="56386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Century Gothic"/>
              </a:rPr>
              <a:t>A variety of factors can cause negative feedback.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Century Gothic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Century Gothic"/>
              </a:rPr>
              <a:t>Resource limitation in crowded populations can stop population growth by reducing reproduction.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entury Gothic"/>
              </a:rPr>
              <a:t>Negative Feedback prevents unlimited population growth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rcRect l="0" t="0" r="0" b="4765"/>
          <a:stretch/>
        </p:blipFill>
        <p:spPr>
          <a:xfrm>
            <a:off x="457200" y="2898720"/>
            <a:ext cx="7620120" cy="39592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7848360" y="5927760"/>
            <a:ext cx="924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69696"/>
                </a:solidFill>
                <a:latin typeface="Times New Roman"/>
              </a:rPr>
              <a:t>Fig.52.14</a:t>
            </a:r>
            <a:endParaRPr b="0" lang="en-US" sz="15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560" y="342720"/>
            <a:ext cx="8381880" cy="60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Century Gothic"/>
              </a:rPr>
              <a:t>Interspecific competition for food can also cause density-dependent behavior of populations.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Century Gothic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Territoriality, defense of a space, may set a limit on density.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Century Gothic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Predation</a:t>
            </a:r>
            <a:br>
              <a:rPr sz="2800"/>
            </a:b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may also be</a:t>
            </a:r>
            <a:br>
              <a:rPr sz="2800"/>
            </a:b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a factor</a:t>
            </a:r>
            <a:br>
              <a:rPr sz="2800"/>
            </a:b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because it</a:t>
            </a:r>
            <a:br>
              <a:rPr sz="2800"/>
            </a:b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can cause</a:t>
            </a:r>
            <a:br>
              <a:rPr sz="2800"/>
            </a:b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mortality of</a:t>
            </a:r>
            <a:br>
              <a:rPr sz="2800"/>
            </a:b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prey species.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0574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rcRect l="0" t="0" r="0" b="3556"/>
          <a:stretch/>
        </p:blipFill>
        <p:spPr>
          <a:xfrm>
            <a:off x="3855960" y="2440080"/>
            <a:ext cx="5173920" cy="36878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2076480" y="592776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69696"/>
                </a:solidFill>
                <a:latin typeface="Times New Roman"/>
              </a:rPr>
              <a:t>Fig. 52.15</a:t>
            </a:r>
            <a:endParaRPr b="0" lang="en-US" sz="15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228600" y="1908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Predation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57200" y="876240"/>
            <a:ext cx="7696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Predator and prey populations fluctuate up and down over time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When prey populations are high (birth rate &gt; death rate), predators have an easier time catching them and have plenty to eat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This often results in an increase in predator population size (birth rate &gt; death rate)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228600" y="1908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Predation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57200" y="876240"/>
            <a:ext cx="7696080" cy="42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Prey populations will likely drop as a result of more individuals being caught than are born (death rate &gt; birth rate)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As prey populations drop, predators begin to starve, increasing the death rate of the predator population (death rate &gt; birth rate)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Populations of herbivores and plants cycle in this same manner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6840" y="1422360"/>
            <a:ext cx="74134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Century Gothic"/>
              </a:rPr>
              <a:t>There are populations that fluctuate greatly.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Century Gothic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Century Gothic"/>
              </a:rPr>
              <a:t>A good example involves the lynx and snowshoe hare that cycle on a ten year basis.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0574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8096400" y="617220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69696"/>
                </a:solidFill>
                <a:latin typeface="Times New Roman"/>
              </a:rPr>
              <a:t>Fig. 52.19</a:t>
            </a:r>
            <a:endParaRPr b="0" lang="en-US" sz="15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rcRect l="0" t="0" r="0" b="6265"/>
          <a:stretch/>
        </p:blipFill>
        <p:spPr>
          <a:xfrm>
            <a:off x="990720" y="3048120"/>
            <a:ext cx="7137360" cy="38098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entury Gothic"/>
              </a:rPr>
              <a:t>Some populations have regular boom-and-bust cycles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343080"/>
            <a:ext cx="838188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33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4352e"/>
                </a:solidFill>
                <a:latin typeface="Century Gothic"/>
              </a:rPr>
              <a:t>Some populations fluctuate erratically, based on many factors.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20574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rcRect l="0" t="0" r="0" b="3520"/>
          <a:stretch/>
        </p:blipFill>
        <p:spPr>
          <a:xfrm>
            <a:off x="914400" y="1469880"/>
            <a:ext cx="6553080" cy="47181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8001000" y="586728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69696"/>
                </a:solidFill>
                <a:latin typeface="Times New Roman"/>
              </a:rPr>
              <a:t>Fig. 52.18</a:t>
            </a:r>
            <a:endParaRPr b="0" lang="en-US" sz="15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c66"/>
                </a:solidFill>
                <a:uFillTx/>
                <a:latin typeface="Century Gothic"/>
                <a:hlinkClick r:id="rId1"/>
              </a:rPr>
              <a:t>r-selected vs. K-selected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61" name="TextBox 4"/>
          <p:cNvSpPr/>
          <p:nvPr/>
        </p:nvSpPr>
        <p:spPr>
          <a:xfrm>
            <a:off x="457200" y="744480"/>
            <a:ext cx="739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In any population, knowing if a species is r-selected or K-selected is very important when determining populations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N = population size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r = growth rate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K = carrying capacity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62" name="Picture 2" descr="http://e7xavierbiology.wikispaces.com/file/view/r-k-selection.jpg/259837286/r-k-selection.jpg"/>
          <p:cNvPicPr/>
          <p:nvPr/>
        </p:nvPicPr>
        <p:blipFill>
          <a:blip r:embed="rId2"/>
          <a:stretch/>
        </p:blipFill>
        <p:spPr>
          <a:xfrm>
            <a:off x="1523880" y="2955960"/>
            <a:ext cx="6096240" cy="386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e4e44"/>
                </a:solidFill>
                <a:latin typeface="Century Gothic"/>
              </a:rPr>
              <a:t>BIOTIC FACTORS</a:t>
            </a:r>
            <a:endParaRPr b="1" lang="en-US" sz="48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678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4e44"/>
                </a:solidFill>
                <a:latin typeface="Century Gothic"/>
              </a:rPr>
              <a:t>Populations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4e44"/>
                </a:solidFill>
                <a:latin typeface="Century Gothic"/>
              </a:rPr>
              <a:t>Availability of food/resources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4e44"/>
                </a:solidFill>
                <a:latin typeface="Century Gothic"/>
              </a:rPr>
              <a:t>Landscape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4e44"/>
                </a:solidFill>
                <a:latin typeface="Century Gothic"/>
              </a:rPr>
              <a:t>Detrivores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4e44"/>
                </a:solidFill>
                <a:latin typeface="Century Gothic"/>
              </a:rPr>
              <a:t>Community interactions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http://www.wildaid.org/sites/default/files/photos/iStock_000008302123Large.jpg"/>
          <p:cNvPicPr/>
          <p:nvPr/>
        </p:nvPicPr>
        <p:blipFill>
          <a:blip r:embed="rId1"/>
          <a:stretch/>
        </p:blipFill>
        <p:spPr>
          <a:xfrm>
            <a:off x="304920" y="533520"/>
            <a:ext cx="4417920" cy="2949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http://images4.fanpop.com/image/forum/81000/81162_1292950595859_full.jpg"/>
          <p:cNvPicPr/>
          <p:nvPr/>
        </p:nvPicPr>
        <p:blipFill>
          <a:blip r:embed="rId2"/>
          <a:stretch/>
        </p:blipFill>
        <p:spPr>
          <a:xfrm>
            <a:off x="1447920" y="3581280"/>
            <a:ext cx="5014800" cy="26751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3"/>
          <p:cNvSpPr/>
          <p:nvPr/>
        </p:nvSpPr>
        <p:spPr>
          <a:xfrm>
            <a:off x="5029200" y="129528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352e"/>
                </a:solidFill>
                <a:latin typeface="Century Gothic"/>
              </a:rPr>
              <a:t>Which one is r-selected? Which one is K-selected?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4e44"/>
                </a:solidFill>
                <a:latin typeface="Century Gothic"/>
              </a:rPr>
              <a:t>Data</a:t>
            </a:r>
            <a:endParaRPr b="1" lang="en-US" sz="40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Quantitative data using probes, measuring devices to calculate amounts of abiotic factors.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Quantitative data and qualitative data is used for collecting information regarding biotic factors.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e4e44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What might be some of the problems with these types of studies?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4e44"/>
                </a:solidFill>
                <a:latin typeface="Century Gothic"/>
              </a:rPr>
              <a:t>Population Studies</a:t>
            </a:r>
            <a:endParaRPr b="1" lang="en-US" sz="4000" spc="-1" strike="noStrike">
              <a:solidFill>
                <a:srgbClr val="4e4e44"/>
              </a:solidFill>
              <a:latin typeface="Arial Black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6858000" cy="45147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1295280" y="10666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Century Gothic"/>
              </a:rPr>
              <a:t>How would you count these?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There are 3 Main Types of Population Dispersion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96969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69696"/>
                </a:solidFill>
                <a:latin typeface="Century Gothic"/>
              </a:rPr>
              <a:t>Uniform</a:t>
            </a:r>
            <a:r>
              <a:rPr b="0" lang="en-US" sz="4400" spc="-1" strike="noStrike">
                <a:solidFill>
                  <a:srgbClr val="969696"/>
                </a:solidFill>
                <a:latin typeface="Century Gothic"/>
              </a:rPr>
              <a:t> </a:t>
            </a:r>
            <a:r>
              <a:rPr b="0" lang="en-US" sz="4400" spc="-1" strike="noStrike">
                <a:solidFill>
                  <a:srgbClr val="969696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969696"/>
                </a:solidFill>
                <a:latin typeface="Century Gothic"/>
              </a:rPr>
              <a:t> </a:t>
            </a:r>
            <a:r>
              <a:rPr b="0" lang="en-US" sz="4000" spc="-1" strike="noStrike">
                <a:solidFill>
                  <a:srgbClr val="969696"/>
                </a:solidFill>
                <a:latin typeface="Century Gothic"/>
              </a:rPr>
              <a:t>evenly spread</a:t>
            </a:r>
            <a:endParaRPr b="1" lang="en-US" sz="4000" spc="-1" strike="noStrike">
              <a:solidFill>
                <a:srgbClr val="96969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96969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69696"/>
                </a:solidFill>
                <a:latin typeface="Century Gothic"/>
              </a:rPr>
              <a:t>Random</a:t>
            </a:r>
            <a:r>
              <a:rPr b="0" lang="en-US" sz="4400" spc="-1" strike="noStrike">
                <a:solidFill>
                  <a:srgbClr val="969696"/>
                </a:solidFill>
                <a:latin typeface="Century Gothic"/>
              </a:rPr>
              <a:t> </a:t>
            </a:r>
            <a:r>
              <a:rPr b="0" lang="en-US" sz="4400" spc="-1" strike="noStrike">
                <a:solidFill>
                  <a:srgbClr val="969696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969696"/>
                </a:solidFill>
                <a:latin typeface="Century Gothic"/>
              </a:rPr>
              <a:t> </a:t>
            </a:r>
            <a:r>
              <a:rPr b="0" lang="en-US" sz="4000" spc="-1" strike="noStrike">
                <a:solidFill>
                  <a:srgbClr val="969696"/>
                </a:solidFill>
                <a:latin typeface="Century Gothic"/>
              </a:rPr>
              <a:t>no pattern to how they’re spread </a:t>
            </a:r>
            <a:endParaRPr b="1" lang="en-US" sz="4000" spc="-1" strike="noStrike">
              <a:solidFill>
                <a:srgbClr val="96969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96969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69696"/>
                </a:solidFill>
                <a:latin typeface="Century Gothic"/>
              </a:rPr>
              <a:t>Clumped</a:t>
            </a:r>
            <a:r>
              <a:rPr b="0" lang="en-US" sz="4400" spc="-1" strike="noStrike">
                <a:solidFill>
                  <a:srgbClr val="969696"/>
                </a:solidFill>
                <a:latin typeface="Century Gothic"/>
              </a:rPr>
              <a:t> </a:t>
            </a:r>
            <a:r>
              <a:rPr b="0" lang="en-US" sz="4400" spc="-1" strike="noStrike">
                <a:solidFill>
                  <a:srgbClr val="969696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969696"/>
                </a:solidFill>
                <a:latin typeface="Century Gothic"/>
              </a:rPr>
              <a:t> </a:t>
            </a:r>
            <a:r>
              <a:rPr b="0" lang="en-US" sz="4000" spc="-1" strike="noStrike">
                <a:solidFill>
                  <a:srgbClr val="969696"/>
                </a:solidFill>
                <a:latin typeface="Century Gothic"/>
              </a:rPr>
              <a:t>deliberate groups/clumps of organisms</a:t>
            </a:r>
            <a:endParaRPr b="1" lang="en-US" sz="4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4e44"/>
                </a:solidFill>
                <a:latin typeface="Century Gothic"/>
              </a:rPr>
              <a:t>Uniform Dispersion</a:t>
            </a:r>
            <a:endParaRPr b="1" lang="en-US" sz="4000" spc="-1" strike="noStrike">
              <a:solidFill>
                <a:srgbClr val="4e4e44"/>
              </a:solidFill>
              <a:latin typeface="Arial Black"/>
            </a:endParaRPr>
          </a:p>
        </p:txBody>
      </p:sp>
      <p:pic>
        <p:nvPicPr>
          <p:cNvPr id="103" name="Picture 5" descr="http://www.anselm.edu/homepage/jpitocch/genbi101/36_02bUniformDispersion-L%20copy.jpg"/>
          <p:cNvPicPr/>
          <p:nvPr/>
        </p:nvPicPr>
        <p:blipFill>
          <a:blip r:embed="rId1"/>
          <a:stretch/>
        </p:blipFill>
        <p:spPr>
          <a:xfrm>
            <a:off x="762120" y="1389240"/>
            <a:ext cx="7223040" cy="47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4e44"/>
                </a:solidFill>
                <a:latin typeface="Century Gothic"/>
              </a:rPr>
              <a:t>For uniform spreading, we use Random Sampling Method</a:t>
            </a:r>
            <a:endParaRPr b="1" lang="en-US" sz="4000" spc="-1" strike="noStrike">
              <a:solidFill>
                <a:srgbClr val="4e4e44"/>
              </a:solidFill>
              <a:latin typeface="Arial Black"/>
            </a:endParaRPr>
          </a:p>
        </p:txBody>
      </p:sp>
      <p:pic>
        <p:nvPicPr>
          <p:cNvPr id="105" name="Picture 2" descr="http://www.biologycorner.com/resources/RandomSamplingGrid.jpg"/>
          <p:cNvPicPr/>
          <p:nvPr/>
        </p:nvPicPr>
        <p:blipFill>
          <a:blip r:embed="rId1"/>
          <a:stretch/>
        </p:blipFill>
        <p:spPr>
          <a:xfrm>
            <a:off x="3352680" y="1600200"/>
            <a:ext cx="5677200" cy="46958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/>
          <p:cNvSpPr/>
          <p:nvPr/>
        </p:nvSpPr>
        <p:spPr>
          <a:xfrm>
            <a:off x="380880" y="1828800"/>
            <a:ext cx="2667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4352e"/>
                </a:solidFill>
                <a:latin typeface="Century Gothic"/>
              </a:rPr>
              <a:t>With transect, or random, sampling, the organisms must be uniformly dispersed throughout an ecosystem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4352e"/>
                </a:solidFill>
                <a:latin typeface="Century Gothic"/>
              </a:rPr>
              <a:t>Ecologists can then count the amount of organisms in one transect and then multiply it by the entire study area to get the approximate population size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Random Dispersion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pic>
        <p:nvPicPr>
          <p:cNvPr id="108" name="Picture 5" descr="http://bio1152.nicerweb.com/Locked/media/ch53/53_04cRandomDispersion-L.jpg"/>
          <p:cNvPicPr/>
          <p:nvPr/>
        </p:nvPicPr>
        <p:blipFill>
          <a:blip r:embed="rId1"/>
          <a:stretch/>
        </p:blipFill>
        <p:spPr>
          <a:xfrm>
            <a:off x="1206360" y="1309680"/>
            <a:ext cx="67312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18:22:27Z</dcterms:created>
  <dc:creator>Dee Barrett</dc:creator>
  <dc:description/>
  <dc:language>en-US</dc:language>
  <cp:lastModifiedBy>Rachel Pozzetti</cp:lastModifiedBy>
  <dcterms:modified xsi:type="dcterms:W3CDTF">2015-02-11T12:19:36Z</dcterms:modified>
  <cp:revision>64</cp:revision>
  <dc:subject/>
  <dc:title>ECOSYSTEMS</dc:title>
</cp:coreProperties>
</file>