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FAA0-709E-40B0-A357-1558BA56A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7306-21DD-4F9D-A87B-13A6C8F80161}" type="slidenum">
              <a:rPr b="0" lang="en-US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AED-4F5B-4D78-81C4-D0DFA48B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B1A-4CF8-4F3A-85A1-FF7D45EA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0D6-00B0-4DE6-BF86-E8E9B231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8CD-11B2-4237-9C05-5F32BA19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3F67-5469-423E-94B8-19B7DAB0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7F1A-666A-48E2-8A0F-6525EC7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467E-62EA-4C29-8EAA-6FDD8F06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660-2F8D-4D0D-90D4-B8DA5B7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16D5-5DE8-401F-B4B7-86B1AC66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4CAD-8B58-47BF-9058-DA0DD61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9B19-DC6D-4DDE-A30D-8FF102C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BE0-2975-4349-94DE-36946027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47C-DCEF-409C-B96F-37E189E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3D3F-188A-4986-9F1C-23BE1E74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A935-75D9-4120-BBD6-A8CD6383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F15-99F8-4437-B192-1A80CCA9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78F6-4C38-43D0-92EB-26FAFD22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E0EA-850B-4F87-8770-AAF03888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884-F5AA-466F-B312-3F39F24A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B3D-509E-4E30-ADFC-4051BFF0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655-6615-4E87-A24A-642B67A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C9A-2309-4F9D-91C5-2698D56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0F6-9E28-4661-A307-ACDB61CC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1BB-5CE0-4FFD-BCD1-A12D4CC6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B551-44EA-4BB9-ABB5-B19506496CE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F797-CF1A-43D5-992C-BD3D719A50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u6ouKt9zhs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e4e44"/>
                </a:solidFill>
                <a:latin typeface="Century Gothic"/>
              </a:rPr>
              <a:t>ECOSYSTEMS</a:t>
            </a:r>
            <a:endParaRPr b="1" lang="en-US" sz="6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Population Dynamics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34352e"/>
                </a:solidFill>
                <a:latin typeface="Century Gothic"/>
              </a:rPr>
              <a:t>Adapted from Carrying Capacity of Ecosystems by Nancy Lennon, Robin Daham, Jennifer Polignone and from Population dynamics by Dee Barrett</a:t>
            </a:r>
            <a:endParaRPr b="1" lang="en-US" sz="9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anselm.edu/homepage/jpitocch/genbi101/36_02aClumpedDispersion-L%20copy.jpg"/>
          <p:cNvPicPr/>
          <p:nvPr/>
        </p:nvPicPr>
        <p:blipFill>
          <a:blip r:embed="rId1"/>
          <a:stretch/>
        </p:blipFill>
        <p:spPr>
          <a:xfrm>
            <a:off x="1082520" y="1371600"/>
            <a:ext cx="697896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Clumped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Mark-Recapture Metho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89000" y="990720"/>
            <a:ext cx="4840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random or clumped dispersion, sometimes the method used to calculate populations is the Mark-Recapture metho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With this method, a certain number of animals from a population are captured, marked, and then let go unharm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Then, over time, Ecologists will recapture animals from the same population and will count how many animals were caught against the percentage of ones caught that have the markings on them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4352e"/>
                </a:solidFill>
                <a:latin typeface="Century Gothic"/>
              </a:rPr>
              <a:t>Using simple math, the approximate population can be calculated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3" name="Picture 2" descr="http://www.pomaceaproject.org/MarkFiveA.jpg"/>
          <p:cNvPicPr/>
          <p:nvPr/>
        </p:nvPicPr>
        <p:blipFill>
          <a:blip r:embed="rId1"/>
          <a:stretch/>
        </p:blipFill>
        <p:spPr>
          <a:xfrm>
            <a:off x="4994280" y="2057400"/>
            <a:ext cx="40212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Carrying Capacity (K)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Typically, unlimited resources are rare.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pulation growth is therefore regulated by carrying capacity (</a:t>
            </a:r>
            <a:r>
              <a:rPr b="0" i="1" lang="en-US" sz="3200" spc="-1" strike="noStrike">
                <a:solidFill>
                  <a:srgbClr val="4e4e44"/>
                </a:solidFill>
                <a:latin typeface="Century Gothic"/>
              </a:rPr>
              <a:t>K</a:t>
            </a: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), which is the maximum stable population size a particular environment can support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rcRect l="21496" t="14015" r="21522" b="7412"/>
          <a:stretch/>
        </p:blipFill>
        <p:spPr>
          <a:xfrm>
            <a:off x="1479600" y="36360"/>
            <a:ext cx="6184800" cy="682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54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e44"/>
                </a:solidFill>
                <a:latin typeface="Century Gothic"/>
              </a:rPr>
              <a:t>What might influence the growth of a population of flora or fauna?</a:t>
            </a:r>
            <a:endParaRPr b="1" lang="en-US" sz="4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Limiting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61880" y="990720"/>
            <a:ext cx="739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miting factors are any factors that limit/control the growth, size, or distribution of a population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They may be density-dependent (meaning they only occur in dense populations) or density-independent (where they occur almost anywhere)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Century Gothic"/>
              </a:rPr>
              <a:t>Examples include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Food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Water suppl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Diseas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Preda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Competi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Living Spac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Exponential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33520" y="14479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Exponential growth happens when resources are unlimited and environmental conditions are ideal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The birth rate exceeds the death rate so populations go up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352e"/>
                </a:solidFill>
                <a:latin typeface="Century Gothic"/>
              </a:rPr>
              <a:t>J-shaped curve results when number of organisms over time is graphed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2.estrellamountain.edu/faculty/farabee/BIOBK/expgrowth.gif"/>
          <p:cNvPicPr/>
          <p:nvPr/>
        </p:nvPicPr>
        <p:blipFill>
          <a:blip r:embed="rId1"/>
          <a:srcRect l="0" t="0" r="51406" b="0"/>
          <a:stretch/>
        </p:blipFill>
        <p:spPr>
          <a:xfrm>
            <a:off x="1905120" y="304920"/>
            <a:ext cx="464796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In Reality…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ources are NOT unlimited as we know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Limiting factors slow population growth by increasing death rate and decreasing birth rat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is demonstrated in the Logistic Model of Population Growth which incorporated limiting factors and recognizes a carrying capacity in each ecosystem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Results in an S-shaped curve when number of individuals over time is graphed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2.estrellamountain.edu/faculty/farabee/BIOBK/expgrowth.gif"/>
          <p:cNvPicPr/>
          <p:nvPr/>
        </p:nvPicPr>
        <p:blipFill>
          <a:blip r:embed="rId1"/>
          <a:srcRect l="47256" t="0" r="0" b="0"/>
          <a:stretch/>
        </p:blipFill>
        <p:spPr>
          <a:xfrm>
            <a:off x="1981080" y="717480"/>
            <a:ext cx="472464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61976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Temperature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Wind Speed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Humidity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Minerals (P, N)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Oxygen Level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H  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Pollutants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A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2.estrellamountain.edu/faculty/farabee/BIOBK/expgrowth.gif"/>
          <p:cNvPicPr/>
          <p:nvPr/>
        </p:nvPicPr>
        <p:blipFill>
          <a:blip r:embed="rId1"/>
          <a:stretch/>
        </p:blipFill>
        <p:spPr>
          <a:xfrm>
            <a:off x="685800" y="914400"/>
            <a:ext cx="79405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How well does the logistic model fit the growth of real populations?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he growth of laboratory populations of some animals fits the S-shaped curves fairly well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32999" t="0" r="25752" b="54819"/>
          <a:stretch/>
        </p:blipFill>
        <p:spPr>
          <a:xfrm>
            <a:off x="457200" y="2982960"/>
            <a:ext cx="3886200" cy="303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rcRect l="0" t="49676" r="55818" b="3323"/>
          <a:stretch/>
        </p:blipFill>
        <p:spPr>
          <a:xfrm>
            <a:off x="4572000" y="2895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639200" y="630864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184320"/>
            <a:ext cx="8077320" cy="23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4e44"/>
                </a:solidFill>
                <a:latin typeface="Century Gothic"/>
              </a:rPr>
              <a:t>Some of the assumptions built into the logistic model do not apply to all population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4e44"/>
                </a:solidFill>
                <a:latin typeface="Century Gothic"/>
              </a:rPr>
              <a:t>It is a model which provides a basis from which we can compare real population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0" y="63849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2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44253" t="45181" r="246" b="2277"/>
          <a:stretch/>
        </p:blipFill>
        <p:spPr>
          <a:xfrm>
            <a:off x="1447920" y="257508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variety of factors can cause negative feedback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Resource limitation in crowded populations can stop population growth by reducing reproduction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Negative Feedback prevents unlimited population growth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rcRect l="0" t="0" r="0" b="4765"/>
          <a:stretch/>
        </p:blipFill>
        <p:spPr>
          <a:xfrm>
            <a:off x="457200" y="2898720"/>
            <a:ext cx="762012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7848360" y="5927760"/>
            <a:ext cx="924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52.14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560" y="342720"/>
            <a:ext cx="838188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4e44"/>
                </a:solidFill>
                <a:latin typeface="Century Gothic"/>
              </a:rPr>
              <a:t>Interspecific competition for food can also cause density-dependent behavior of population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Territoriality, defense of a space, may set a limit on density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ay also b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a factor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because it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can cause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mortality of</a:t>
            </a:r>
            <a:br>
              <a:rPr sz="2800"/>
            </a:b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prey species.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rcRect l="0" t="0" r="0" b="3556"/>
          <a:stretch/>
        </p:blipFill>
        <p:spPr>
          <a:xfrm>
            <a:off x="3855960" y="2440080"/>
            <a:ext cx="5173920" cy="368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076480" y="592776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5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87624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dator and prey populations fluctuate up and down over time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When prey populations are high (birth rate &gt; death rate), predators have an easier time catching them and have plenty to eat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This often results in an increase in predator population size (birth rate &gt; dea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28600" y="1908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Predation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57200" y="876240"/>
            <a:ext cx="76960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rey populations will likely drop as a result of more individuals being caught than are bor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As prey populations drop, predators begin to starve, increasing the death rate of the predator population (death rate &gt; birth rate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4352e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52e"/>
                </a:solidFill>
                <a:latin typeface="Century Gothic"/>
              </a:rPr>
              <a:t>Populations of herbivores and plants cycle in this same manner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422360"/>
            <a:ext cx="7413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There are populations that fluctuate greatly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Century Gothic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4e44"/>
                </a:solidFill>
                <a:latin typeface="Century Gothic"/>
              </a:rPr>
              <a:t>A good example involves the lynx and snowshoe hare that cycle on a ten year basis.</a:t>
            </a:r>
            <a:endParaRPr b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096400" y="617220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9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rcRect l="0" t="0" r="0" b="6265"/>
          <a:stretch/>
        </p:blipFill>
        <p:spPr>
          <a:xfrm>
            <a:off x="990720" y="3048120"/>
            <a:ext cx="7137360" cy="3809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entury Gothic"/>
              </a:rPr>
              <a:t>Some populations have regular boom-and-bust cycles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34308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Century Gothic"/>
              </a:rPr>
              <a:t>Some populations fluctuate erratically, based on many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0574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0" t="0" r="0" b="3520"/>
          <a:stretch/>
        </p:blipFill>
        <p:spPr>
          <a:xfrm>
            <a:off x="914400" y="1469880"/>
            <a:ext cx="6553080" cy="4718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8001000" y="5867280"/>
            <a:ext cx="97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69696"/>
                </a:solidFill>
                <a:latin typeface="Times New Roman"/>
              </a:rPr>
              <a:t>Fig. 52.18</a:t>
            </a:r>
            <a:endParaRPr b="0" lang="en-US" sz="1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r-selected vs. K-selected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57200" y="744480"/>
            <a:ext cx="739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In any population, knowing if a species is r-selected or K-selected is very important when determining populations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N = population siz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r = growth rat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4352e"/>
                </a:solidFill>
                <a:latin typeface="Century Gothic"/>
              </a:rPr>
              <a:t>K = carrying capacit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62" name="Picture 2" descr="http://e7xavierbiology.wikispaces.com/file/view/r-k-selection.jpg/259837286/r-k-selection.jpg"/>
          <p:cNvPicPr/>
          <p:nvPr/>
        </p:nvPicPr>
        <p:blipFill>
          <a:blip r:embed="rId2"/>
          <a:stretch/>
        </p:blipFill>
        <p:spPr>
          <a:xfrm>
            <a:off x="1523880" y="2955960"/>
            <a:ext cx="6096240" cy="38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e4e44"/>
                </a:solidFill>
                <a:latin typeface="Century Gothic"/>
              </a:rPr>
              <a:t>BIOTIC FACTORS</a:t>
            </a:r>
            <a:endParaRPr b="1" lang="en-US" sz="48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Popula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Availability of food/resourc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Landscape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Detrivore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4e44"/>
                </a:solidFill>
                <a:latin typeface="Century Gothic"/>
              </a:rPr>
              <a:t>Community interactions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www.wildaid.org/sites/default/files/photos/iStock_000008302123Large.jpg"/>
          <p:cNvPicPr/>
          <p:nvPr/>
        </p:nvPicPr>
        <p:blipFill>
          <a:blip r:embed="rId1"/>
          <a:stretch/>
        </p:blipFill>
        <p:spPr>
          <a:xfrm>
            <a:off x="304920" y="533520"/>
            <a:ext cx="4417920" cy="2949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images4.fanpop.com/image/forum/81000/81162_1292950595859_full.jpg"/>
          <p:cNvPicPr/>
          <p:nvPr/>
        </p:nvPicPr>
        <p:blipFill>
          <a:blip r:embed="rId2"/>
          <a:stretch/>
        </p:blipFill>
        <p:spPr>
          <a:xfrm>
            <a:off x="1447920" y="3581280"/>
            <a:ext cx="5014800" cy="2675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029200" y="129528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352e"/>
                </a:solidFill>
                <a:latin typeface="Century Gothic"/>
              </a:rPr>
              <a:t>Which one is r-selected? Which one is K-selected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Data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using probes, measuring devices to calculate amounts of a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e4e44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4e44"/>
                </a:solidFill>
                <a:latin typeface="Century Gothic"/>
              </a:rPr>
              <a:t>Quantitative data and qualitative data is used for collecting information regarding biotic factors.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e4e4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4e44"/>
                </a:solidFill>
                <a:latin typeface="Century Gothic"/>
              </a:rPr>
              <a:t>What might be some of the problems with these types of studies?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Population Studies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6858000" cy="4514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Century Gothic"/>
              </a:rPr>
              <a:t>How would you count these?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There are 3 Main Types of Population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Unifor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evenly spread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Random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no pattern to how they’re spread 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96969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Century Gothic"/>
              </a:rPr>
              <a:t>Clumped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400" spc="-1" strike="noStrike">
                <a:solidFill>
                  <a:srgbClr val="96969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96969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69696"/>
                </a:solidFill>
                <a:latin typeface="Century Gothic"/>
              </a:rPr>
              <a:t>deliberate groups/clumps of organisms</a:t>
            </a:r>
            <a:endParaRPr b="1" lang="en-US" sz="4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Uniform Dispersion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3" name="Picture 5" descr="http://www.anselm.edu/homepage/jpitocch/genbi101/36_02bUniformDispersion-L%20copy.jpg"/>
          <p:cNvPicPr/>
          <p:nvPr/>
        </p:nvPicPr>
        <p:blipFill>
          <a:blip r:embed="rId1"/>
          <a:stretch/>
        </p:blipFill>
        <p:spPr>
          <a:xfrm>
            <a:off x="762120" y="1389240"/>
            <a:ext cx="7223040" cy="47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4e44"/>
                </a:solidFill>
                <a:latin typeface="Century Gothic"/>
              </a:rPr>
              <a:t>For uniform spreading, we use Random Sampling Method</a:t>
            </a:r>
            <a:endParaRPr b="1" lang="en-US" sz="40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5" name="Picture 2" descr="http://www.biologycorner.com/resources/RandomSamplingGrid.jpg"/>
          <p:cNvPicPr/>
          <p:nvPr/>
        </p:nvPicPr>
        <p:blipFill>
          <a:blip r:embed="rId1"/>
          <a:stretch/>
        </p:blipFill>
        <p:spPr>
          <a:xfrm>
            <a:off x="3352680" y="1600200"/>
            <a:ext cx="5677200" cy="4695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80880" y="1828800"/>
            <a:ext cx="2667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With transect, or random, sampling, the organisms must be uniformly dispersed throughout an ecosystem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43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352e"/>
                </a:solidFill>
                <a:latin typeface="Century Gothic"/>
              </a:rPr>
              <a:t>Ecologists can then count the amount of organisms in one transect and then multiply it by the entire study area to get the approximate population size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4e44"/>
                </a:solidFill>
                <a:latin typeface="Century Gothic"/>
              </a:rPr>
              <a:t>Random Dispersion</a:t>
            </a:r>
            <a:endParaRPr b="1" lang="en-US" sz="3600" spc="-1" strike="noStrike">
              <a:solidFill>
                <a:srgbClr val="4e4e44"/>
              </a:solidFill>
              <a:latin typeface="Arial Black"/>
            </a:endParaRPr>
          </a:p>
        </p:txBody>
      </p:sp>
      <p:pic>
        <p:nvPicPr>
          <p:cNvPr id="108" name="Picture 5" descr="http://bio1152.nicerweb.com/Locked/media/ch53/53_04cRandomDispersion-L.jpg"/>
          <p:cNvPicPr/>
          <p:nvPr/>
        </p:nvPicPr>
        <p:blipFill>
          <a:blip r:embed="rId1"/>
          <a:stretch/>
        </p:blipFill>
        <p:spPr>
          <a:xfrm>
            <a:off x="1206360" y="1309680"/>
            <a:ext cx="6731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8:22:27Z</dcterms:created>
  <dc:creator>Dee Barrett</dc:creator>
  <dc:description/>
  <dc:language>en-US</dc:language>
  <cp:lastModifiedBy>Rachel Pozzetti</cp:lastModifiedBy>
  <dcterms:modified xsi:type="dcterms:W3CDTF">2015-02-11T12:19:36Z</dcterms:modified>
  <cp:revision>64</cp:revision>
  <dc:subject/>
  <dc:title>ECOSYSTEMS</dc:title>
</cp:coreProperties>
</file>