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Click to move the slide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A299-8DF9-4ED7-AE28-7C7F77719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1462-FF83-485F-9BE6-2BB6612AD0B1}" type="slidenum">
              <a:rPr b="0" lang="en-U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7A91-C68B-4655-8FA4-C5B5D094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1CB7-C682-4863-A522-E47A1D3F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2196-F60A-446C-8A56-AB103D0B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D317-5DF3-406F-93FA-057FAFAD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D559-4A23-44FE-90E8-3CA9BEBBE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E31C-1B04-4DEA-AD69-F533B7F0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771C-241E-4CE3-BEC9-C03E3B88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4784-3B9A-4588-8C11-4F76A5E2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88B7-BDCD-4A1E-BEB5-6AE09D12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3758-065E-4A94-99E5-7AEE5116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B448-7D8D-440B-8577-27F5B775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CC40-A4C6-4765-90EA-10EC7F2F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E0AF-C8E1-42F7-8C8F-3763DEB8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3295-6038-4982-8CCA-5C78BAEF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7466-06DE-4649-AA96-0F7AC6BC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1669-983D-42E7-B5F5-708BB5AF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C94E-81DC-4110-80E6-54EDE83A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B1F1-8D0C-4343-BE56-E01B3FF1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E0E6-0206-413B-9115-EFF05BCC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EEB-9F79-4DE6-9E37-BA18289F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E6AE-09C4-44CF-9B7B-60CE84AA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3ECD-8946-44D1-B84B-A9F60287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67D5-504A-452D-ACBC-8632F409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E9D3-204C-4E9E-9102-6FA1CAAD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85120"/>
            <a:ext cx="213372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1320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07EB-0FDA-44FD-968F-B7F0C517B09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702A-789B-4572-8E2D-E7E9E4E15E6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u6ouKt9zhs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e4e44"/>
                </a:solidFill>
                <a:latin typeface="Century Gothic"/>
              </a:rPr>
              <a:t>ECOSYSTEMS</a:t>
            </a:r>
            <a:endParaRPr b="1" lang="en-US" sz="6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2971440"/>
            <a:ext cx="9144000" cy="7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Century Gothic"/>
              </a:rPr>
              <a:t>Population Dynamics</a:t>
            </a:r>
            <a:endParaRPr b="1" lang="en-US" sz="44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34352e"/>
                </a:solidFill>
                <a:latin typeface="Century Gothic"/>
              </a:rPr>
              <a:t>Adapted from Carrying Capacity of Ecosystems by Nancy Lennon, Robin Daham, Jennifer Polignone and from Population dynamics by Dee Barrett</a:t>
            </a:r>
            <a:endParaRPr b="1" lang="en-US" sz="9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://www.anselm.edu/homepage/jpitocch/genbi101/36_02aClumpedDispersion-L%20copy.jpg"/>
          <p:cNvPicPr/>
          <p:nvPr/>
        </p:nvPicPr>
        <p:blipFill>
          <a:blip r:embed="rId1"/>
          <a:stretch/>
        </p:blipFill>
        <p:spPr>
          <a:xfrm>
            <a:off x="1082520" y="1371600"/>
            <a:ext cx="6978960" cy="4572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Clumped Dispersion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Mark-Recapture Method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189000" y="990720"/>
            <a:ext cx="4840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52e"/>
                </a:solidFill>
                <a:latin typeface="Century Gothic"/>
              </a:rPr>
              <a:t>With random or clumped dispersion, sometimes the method used to calculate populations is the Mark-Recapture method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52e"/>
                </a:solidFill>
                <a:latin typeface="Century Gothic"/>
              </a:rPr>
              <a:t>With this method, a certain number of animals from a population are captured, marked, and then let go unharmed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52e"/>
                </a:solidFill>
                <a:latin typeface="Century Gothic"/>
              </a:rPr>
              <a:t>Then, over time, Ecologists will recapture animals from the same population and will count how many animals were caught against the percentage of ones caught that have the markings on them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52e"/>
                </a:solidFill>
                <a:latin typeface="Century Gothic"/>
              </a:rPr>
              <a:t>Using simple math, the approximate population can be calculated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3" name="Picture 2" descr="http://www.pomaceaproject.org/MarkFiveA.jpg"/>
          <p:cNvPicPr/>
          <p:nvPr/>
        </p:nvPicPr>
        <p:blipFill>
          <a:blip r:embed="rId1"/>
          <a:stretch/>
        </p:blipFill>
        <p:spPr>
          <a:xfrm>
            <a:off x="4994280" y="2057400"/>
            <a:ext cx="40212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4e44"/>
                </a:solidFill>
                <a:latin typeface="Century Gothic"/>
              </a:rPr>
              <a:t>Carrying Capacity (K)</a:t>
            </a:r>
            <a:endParaRPr b="1" lang="en-US" sz="40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99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Typically, unlimited resources are rare.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Population growth is therefore regulated by carrying capacity (</a:t>
            </a:r>
            <a:r>
              <a:rPr b="0" i="1" lang="en-US" sz="3200" spc="-1" strike="noStrike">
                <a:solidFill>
                  <a:srgbClr val="4e4e44"/>
                </a:solidFill>
                <a:latin typeface="Century Gothic"/>
              </a:rPr>
              <a:t>K</a:t>
            </a: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), which is the maximum stable population size a particular environment can support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rcRect l="21496" t="14015" r="21522" b="7412"/>
          <a:stretch/>
        </p:blipFill>
        <p:spPr>
          <a:xfrm>
            <a:off x="1479600" y="36360"/>
            <a:ext cx="6184800" cy="6821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e4e44"/>
                </a:solidFill>
                <a:latin typeface="Century Gothic"/>
              </a:rPr>
              <a:t>Limiting Factors</a:t>
            </a:r>
            <a:endParaRPr b="1" lang="en-US" sz="54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e44"/>
                </a:solidFill>
                <a:latin typeface="Century Gothic"/>
              </a:rPr>
              <a:t>What might influence the growth of a population of flora or fauna?</a:t>
            </a:r>
            <a:endParaRPr b="1" lang="en-US" sz="4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e4e44"/>
                </a:solidFill>
                <a:latin typeface="Century Gothic"/>
              </a:rPr>
              <a:t>Limiting Factors</a:t>
            </a:r>
            <a:endParaRPr b="1" lang="en-US" sz="48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61880" y="990720"/>
            <a:ext cx="739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Limiting factors are any factors that limit/control the growth, size, or distribution of a population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They may be density-dependent (meaning they only occur in dense populations) or density-independent (where they occur almost anywhere)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52e"/>
                </a:solidFill>
                <a:latin typeface="Century Gothic"/>
              </a:rPr>
              <a:t>Examples include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Food supply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Water supply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Diseas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Predation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Competition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Living Spac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Exponential Population Growth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533520" y="1447920"/>
            <a:ext cx="7696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352e"/>
                </a:solidFill>
                <a:latin typeface="Century Gothic"/>
              </a:rPr>
              <a:t>Exponential growth happens when resources are unlimited and environmental conditions are ideal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352e"/>
                </a:solidFill>
                <a:latin typeface="Century Gothic"/>
              </a:rPr>
              <a:t>The birth rate exceeds the death rate so populations go up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352e"/>
                </a:solidFill>
                <a:latin typeface="Century Gothic"/>
              </a:rPr>
              <a:t>J-shaped curve results when number of organisms over time is graphed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www2.estrellamountain.edu/faculty/farabee/BIOBK/expgrowth.gif"/>
          <p:cNvPicPr/>
          <p:nvPr/>
        </p:nvPicPr>
        <p:blipFill>
          <a:blip r:embed="rId1"/>
          <a:srcRect l="0" t="0" r="51406" b="0"/>
          <a:stretch/>
        </p:blipFill>
        <p:spPr>
          <a:xfrm>
            <a:off x="1905120" y="304920"/>
            <a:ext cx="4647960" cy="57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228600" y="1908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In Reality…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87624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Resources are NOT unlimited as we know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Limiting factors slow population growth by increasing death rate and decreasing birth rate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This is demonstrated in the Logistic Model of Population Growth which incorporated limiting factors and recognizes a carrying capacity in each ecosystem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Results in an S-shaped curve when number of individuals over time is graphed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www2.estrellamountain.edu/faculty/farabee/BIOBK/expgrowth.gif"/>
          <p:cNvPicPr/>
          <p:nvPr/>
        </p:nvPicPr>
        <p:blipFill>
          <a:blip r:embed="rId1"/>
          <a:srcRect l="47256" t="0" r="0" b="0"/>
          <a:stretch/>
        </p:blipFill>
        <p:spPr>
          <a:xfrm>
            <a:off x="1981080" y="717480"/>
            <a:ext cx="4724640" cy="54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1371240"/>
            <a:ext cx="761976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Temperature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Wind Speed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Humidity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Minerals (P, N)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Oxygen Levels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pH  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Pollutants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e4e44"/>
                </a:solidFill>
                <a:latin typeface="Century Gothic"/>
              </a:rPr>
              <a:t>ABIOTIC FACTORS</a:t>
            </a:r>
            <a:endParaRPr b="1" lang="en-US" sz="4800" spc="-1" strike="noStrike">
              <a:solidFill>
                <a:srgbClr val="4e4e44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http://www2.estrellamountain.edu/faculty/farabee/BIOBK/expgrowth.gif"/>
          <p:cNvPicPr/>
          <p:nvPr/>
        </p:nvPicPr>
        <p:blipFill>
          <a:blip r:embed="rId1"/>
          <a:stretch/>
        </p:blipFill>
        <p:spPr>
          <a:xfrm>
            <a:off x="685800" y="914400"/>
            <a:ext cx="79405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381880" cy="24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Century Gothic"/>
              </a:rPr>
              <a:t>How well does the logistic model fit the growth of real populations?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Century Gothic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The growth of laboratory populations of some animals fits the S-shaped curves fairly well.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rcRect l="32999" t="0" r="25752" b="54819"/>
          <a:stretch/>
        </p:blipFill>
        <p:spPr>
          <a:xfrm>
            <a:off x="457200" y="2982960"/>
            <a:ext cx="3886200" cy="3036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rcRect l="0" t="49676" r="55818" b="3323"/>
          <a:stretch/>
        </p:blipFill>
        <p:spPr>
          <a:xfrm>
            <a:off x="4572000" y="2895480"/>
            <a:ext cx="4114800" cy="31244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7639200" y="630864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 52.12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51920" y="184320"/>
            <a:ext cx="8077320" cy="23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Century Gothic"/>
              </a:rPr>
              <a:t>Some of the assumptions built into the logistic model do not apply to all populations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4e44"/>
                </a:solidFill>
                <a:latin typeface="Century Gothic"/>
              </a:rPr>
              <a:t>It is a model which provides a basis from which we can compare real populations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858000" y="638496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 52.12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rcRect l="44253" t="45181" r="246" b="2277"/>
          <a:stretch/>
        </p:blipFill>
        <p:spPr>
          <a:xfrm>
            <a:off x="1447920" y="2575080"/>
            <a:ext cx="56386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Century Gothic"/>
              </a:rPr>
              <a:t>A variety of factors can cause negative feedback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Century Gothic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Century Gothic"/>
              </a:rPr>
              <a:t>Resource limitation in crowded populations can stop population growth by reducing reproduction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entury Gothic"/>
              </a:rPr>
              <a:t>Negative Feedback prevents unlimited population growth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rcRect l="0" t="0" r="0" b="4765"/>
          <a:stretch/>
        </p:blipFill>
        <p:spPr>
          <a:xfrm>
            <a:off x="457200" y="2898720"/>
            <a:ext cx="7620120" cy="3959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7848360" y="5927760"/>
            <a:ext cx="924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52.14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560" y="342720"/>
            <a:ext cx="8381880" cy="60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Century Gothic"/>
              </a:rPr>
              <a:t>Interspecific competition for food can also cause density-dependent behavior of populations.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Century Gothic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Territoriality, defense of a space, may set a limit on density.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Century Gothic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Predation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may also be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a factor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because it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can cause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mortality of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prey species.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0574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rcRect l="0" t="0" r="0" b="3556"/>
          <a:stretch/>
        </p:blipFill>
        <p:spPr>
          <a:xfrm>
            <a:off x="3855960" y="2440080"/>
            <a:ext cx="5173920" cy="3687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2076480" y="592776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 52.15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228600" y="1908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Predation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57200" y="87624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Predator and prey populations fluctuate up and down over time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When prey populations are high (birth rate &gt; death rate), predators have an easier time catching them and have plenty to eat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This often results in an increase in predator population size (birth rate &gt; death rate)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228600" y="1908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Predation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57200" y="876240"/>
            <a:ext cx="769608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Prey populations will likely drop as a result of more individuals being caught than are born (death rate &gt; birth rate)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As prey populations drop, predators begin to starve, increasing the death rate of the predator population (death rate &gt; birth rate)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Populations of herbivores and plants cycle in this same manner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1422360"/>
            <a:ext cx="74134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Century Gothic"/>
              </a:rPr>
              <a:t>There are populations that fluctuate greatly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Century Gothic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Century Gothic"/>
              </a:rPr>
              <a:t>A good example involves the lynx and snowshoe hare that cycle on a ten year basis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0574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8096400" y="617220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 52.19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rcRect l="0" t="0" r="0" b="6265"/>
          <a:stretch/>
        </p:blipFill>
        <p:spPr>
          <a:xfrm>
            <a:off x="990720" y="3048120"/>
            <a:ext cx="7137360" cy="38098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entury Gothic"/>
              </a:rPr>
              <a:t>Some populations have regular boom-and-bust cycles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343080"/>
            <a:ext cx="838188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4352e"/>
                </a:solidFill>
                <a:latin typeface="Century Gothic"/>
              </a:rPr>
              <a:t>Some populations fluctuate erratically, based on many factors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20574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rcRect l="0" t="0" r="0" b="3520"/>
          <a:stretch/>
        </p:blipFill>
        <p:spPr>
          <a:xfrm>
            <a:off x="914400" y="1469880"/>
            <a:ext cx="6553080" cy="47181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8001000" y="586728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 52.18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66"/>
                </a:solidFill>
                <a:uFillTx/>
                <a:latin typeface="Century Gothic"/>
                <a:hlinkClick r:id="rId1"/>
              </a:rPr>
              <a:t>r-selected vs. K-selected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457200" y="744480"/>
            <a:ext cx="739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In any population, knowing if a species is r-selected or K-selected is very important when determining populations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N = population siz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r = growth rat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K = carrying capacity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62" name="Picture 2" descr="http://e7xavierbiology.wikispaces.com/file/view/r-k-selection.jpg/259837286/r-k-selection.jpg"/>
          <p:cNvPicPr/>
          <p:nvPr/>
        </p:nvPicPr>
        <p:blipFill>
          <a:blip r:embed="rId2"/>
          <a:stretch/>
        </p:blipFill>
        <p:spPr>
          <a:xfrm>
            <a:off x="1523880" y="2955960"/>
            <a:ext cx="6096240" cy="38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e4e44"/>
                </a:solidFill>
                <a:latin typeface="Century Gothic"/>
              </a:rPr>
              <a:t>BIOTIC FACTORS</a:t>
            </a:r>
            <a:endParaRPr b="1" lang="en-US" sz="48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678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Populations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Availability of food/resources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Landscape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Detrivores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Community interactions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http://www.wildaid.org/sites/default/files/photos/iStock_000008302123Large.jpg"/>
          <p:cNvPicPr/>
          <p:nvPr/>
        </p:nvPicPr>
        <p:blipFill>
          <a:blip r:embed="rId1"/>
          <a:stretch/>
        </p:blipFill>
        <p:spPr>
          <a:xfrm>
            <a:off x="304920" y="533520"/>
            <a:ext cx="4417920" cy="2949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http://images4.fanpop.com/image/forum/81000/81162_1292950595859_full.jpg"/>
          <p:cNvPicPr/>
          <p:nvPr/>
        </p:nvPicPr>
        <p:blipFill>
          <a:blip r:embed="rId2"/>
          <a:stretch/>
        </p:blipFill>
        <p:spPr>
          <a:xfrm>
            <a:off x="1447920" y="3581280"/>
            <a:ext cx="5014800" cy="26751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3"/>
          <p:cNvSpPr/>
          <p:nvPr/>
        </p:nvSpPr>
        <p:spPr>
          <a:xfrm>
            <a:off x="5029200" y="129528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352e"/>
                </a:solidFill>
                <a:latin typeface="Century Gothic"/>
              </a:rPr>
              <a:t>Which one is r-selected? Which one is K-selected?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4e44"/>
                </a:solidFill>
                <a:latin typeface="Century Gothic"/>
              </a:rPr>
              <a:t>Data</a:t>
            </a:r>
            <a:endParaRPr b="1" lang="en-US" sz="40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Quantitative data using probes, measuring devices to calculate amounts of abiotic factors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Quantitative data and qualitative data is used for collecting information regarding biotic factors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e4e44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What might be some of the problems with these types of studies?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4e44"/>
                </a:solidFill>
                <a:latin typeface="Century Gothic"/>
              </a:rPr>
              <a:t>Population Studies</a:t>
            </a:r>
            <a:endParaRPr b="1" lang="en-US" sz="4000" spc="-1" strike="noStrike">
              <a:solidFill>
                <a:srgbClr val="4e4e44"/>
              </a:solidFill>
              <a:latin typeface="Arial Black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6858000" cy="4514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1295280" y="10666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Century Gothic"/>
              </a:rPr>
              <a:t>How would you count these?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There are 3 Main Types of Population Dispersion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96969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Century Gothic"/>
              </a:rPr>
              <a:t>Uniform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400" spc="-1" strike="noStrike">
                <a:solidFill>
                  <a:srgbClr val="96969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969696"/>
                </a:solidFill>
                <a:latin typeface="Century Gothic"/>
              </a:rPr>
              <a:t>evenly spread</a:t>
            </a:r>
            <a:endParaRPr b="1" lang="en-US" sz="4000" spc="-1" strike="noStrike">
              <a:solidFill>
                <a:srgbClr val="96969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96969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Century Gothic"/>
              </a:rPr>
              <a:t>Random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400" spc="-1" strike="noStrike">
                <a:solidFill>
                  <a:srgbClr val="96969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969696"/>
                </a:solidFill>
                <a:latin typeface="Century Gothic"/>
              </a:rPr>
              <a:t>no pattern to how they’re spread </a:t>
            </a:r>
            <a:endParaRPr b="1" lang="en-US" sz="4000" spc="-1" strike="noStrike">
              <a:solidFill>
                <a:srgbClr val="96969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96969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Century Gothic"/>
              </a:rPr>
              <a:t>Clumped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400" spc="-1" strike="noStrike">
                <a:solidFill>
                  <a:srgbClr val="96969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969696"/>
                </a:solidFill>
                <a:latin typeface="Century Gothic"/>
              </a:rPr>
              <a:t>deliberate groups/clumps of organisms</a:t>
            </a:r>
            <a:endParaRPr b="1" lang="en-US" sz="4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4e44"/>
                </a:solidFill>
                <a:latin typeface="Century Gothic"/>
              </a:rPr>
              <a:t>Uniform Dispersion</a:t>
            </a:r>
            <a:endParaRPr b="1" lang="en-US" sz="4000" spc="-1" strike="noStrike">
              <a:solidFill>
                <a:srgbClr val="4e4e44"/>
              </a:solidFill>
              <a:latin typeface="Arial Black"/>
            </a:endParaRPr>
          </a:p>
        </p:txBody>
      </p:sp>
      <p:pic>
        <p:nvPicPr>
          <p:cNvPr id="103" name="Picture 5" descr="http://www.anselm.edu/homepage/jpitocch/genbi101/36_02bUniformDispersion-L%20copy.jpg"/>
          <p:cNvPicPr/>
          <p:nvPr/>
        </p:nvPicPr>
        <p:blipFill>
          <a:blip r:embed="rId1"/>
          <a:stretch/>
        </p:blipFill>
        <p:spPr>
          <a:xfrm>
            <a:off x="762120" y="1389240"/>
            <a:ext cx="7223040" cy="47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4e44"/>
                </a:solidFill>
                <a:latin typeface="Century Gothic"/>
              </a:rPr>
              <a:t>For uniform spreading, we use Random Sampling Method</a:t>
            </a:r>
            <a:endParaRPr b="1" lang="en-US" sz="4000" spc="-1" strike="noStrike">
              <a:solidFill>
                <a:srgbClr val="4e4e44"/>
              </a:solidFill>
              <a:latin typeface="Arial Black"/>
            </a:endParaRPr>
          </a:p>
        </p:txBody>
      </p:sp>
      <p:pic>
        <p:nvPicPr>
          <p:cNvPr id="105" name="Picture 2" descr="http://www.biologycorner.com/resources/RandomSamplingGrid.jpg"/>
          <p:cNvPicPr/>
          <p:nvPr/>
        </p:nvPicPr>
        <p:blipFill>
          <a:blip r:embed="rId1"/>
          <a:stretch/>
        </p:blipFill>
        <p:spPr>
          <a:xfrm>
            <a:off x="3352680" y="1600200"/>
            <a:ext cx="5677200" cy="46958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380880" y="1828800"/>
            <a:ext cx="2667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4352e"/>
                </a:solidFill>
                <a:latin typeface="Century Gothic"/>
              </a:rPr>
              <a:t>With transect, or random, sampling, the organisms must be uniformly dispersed throughout an ecosystem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4352e"/>
                </a:solidFill>
                <a:latin typeface="Century Gothic"/>
              </a:rPr>
              <a:t>Ecologists can then count the amount of organisms in one transect and then multiply it by the entire study area to get the approximate population size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Random Dispersion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pic>
        <p:nvPicPr>
          <p:cNvPr id="108" name="Picture 5" descr="http://bio1152.nicerweb.com/Locked/media/ch53/53_04cRandomDispersion-L.jpg"/>
          <p:cNvPicPr/>
          <p:nvPr/>
        </p:nvPicPr>
        <p:blipFill>
          <a:blip r:embed="rId1"/>
          <a:stretch/>
        </p:blipFill>
        <p:spPr>
          <a:xfrm>
            <a:off x="1206360" y="1309680"/>
            <a:ext cx="67312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18:22:27Z</dcterms:created>
  <dc:creator>Dee Barrett</dc:creator>
  <dc:description/>
  <dc:language>en-US</dc:language>
  <cp:lastModifiedBy>Rachel Pozzetti</cp:lastModifiedBy>
  <dcterms:modified xsi:type="dcterms:W3CDTF">2015-02-11T12:19:36Z</dcterms:modified>
  <cp:revision>64</cp:revision>
  <dc:subject/>
  <dc:title>ECOSYSTEMS</dc:title>
</cp:coreProperties>
</file>