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3FB-AE51-44EB-ADB1-FC7DAF30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D9E-E452-4934-9B57-588FDB60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1BB-0A07-4553-8613-D1F86D19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2BC-49FA-4AA6-A225-0AED753C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A39-0C2E-4ABA-AAB2-56415ED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4A6-E3B4-4A17-A8CB-FBC7DB08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B42-792D-43DB-995B-B9E41A09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D9A-C024-4D7E-BB2F-2EA5391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348-1D20-4570-903B-469DBD2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E28-C498-4C27-9469-712E495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4D9-562D-45E9-9599-46A3785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2B2-1620-4A77-9AF9-BB2C95D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8A3A-587C-4148-B5D3-E8AA24F7C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In the box below, sketch a side-view of the Rocky Shore and clearly label each zone of the Rocky Shore. When you are done drawing/labeling, find 2 plants or animals 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dcterms:modified xsi:type="dcterms:W3CDTF">2014-01-06T20:28:50Z</dcterms:modified>
  <cp:revision>3</cp:revision>
  <dc:subject/>
  <dc:title>PowerPoint Presentation</dc:title>
</cp:coreProperties>
</file>