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A69-7CAB-41B9-9584-03BBE68D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D427-2831-42DC-8E54-5086648A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B7B-F254-4B48-9DA2-596F3478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412-20D6-4F0B-808F-8D580770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448-48DD-471F-B66D-CC05E7BA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442-0B83-4372-8BE9-464AB769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921-D1B6-4804-9598-6496D4B0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6D3-2A0E-4298-86E7-F5D1E112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6365-B518-483E-9583-F2136DE5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98E6-A6C2-48C9-8BEF-69EA20FC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1AD-98CA-41C3-A37B-99A63D4C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B6F-4079-459F-A914-B9956F20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88B8-7B37-4405-959B-423699C8D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745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Name: ________________________________________________________________________ Date: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4920" y="838080"/>
            <a:ext cx="8534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Directions: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In the box below, sketch a side-view of the Rocky Shore and clearly label each zone of the Rocky Shore. When you are done drawing/labeling, find 2 plants or animals that live in each zone. Write those within each zone on your sketch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19040" y="37944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ocky Sh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8600" y="1371600"/>
            <a:ext cx="8686800" cy="525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20:16:31Z</dcterms:created>
  <dc:creator>Rachel Pozzetti</dc:creator>
  <dc:description/>
  <dc:language>en-US</dc:language>
  <cp:lastModifiedBy>Rachel Pozzetti</cp:lastModifiedBy>
  <dcterms:modified xsi:type="dcterms:W3CDTF">2014-01-06T20:28:50Z</dcterms:modified>
  <cp:revision>3</cp:revision>
  <dc:subject/>
  <dc:title>PowerPoint Presentation</dc:title>
</cp:coreProperties>
</file>