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116-705D-4683-B6EB-8ED57E89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316-AB0B-4259-8E29-2B06315D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037-E968-4C25-A7E0-1967927B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1BB-5E09-4C7B-87E5-97202918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243-D175-4DCC-BE7F-A1C27C8E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9D5-F94B-47D1-A853-FBA3CAD0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50C-145C-4371-BCDD-0218088A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74D-6C85-45D1-B12F-3A9D3723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64A-9B5D-493F-9AA9-AE166670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48D-22BC-4BB1-9789-9C719BB0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C4A-4F77-44E6-B67D-4ED88E0E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8D3-6621-40AE-BE58-9AC1FABF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A844-56D2-49D0-9840-517356034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745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ame: ________________________________________________________________________ Date: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838080"/>
            <a:ext cx="8534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Directions: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In the box below, sketch a side-view of the Rocky Shore and clearly label each zone of the Rocky Shore. When you are done drawing/labeling, find 2 plants or animals that live in each zone. Write those within each zone on your sket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9040" y="379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ocky Sh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16:31Z</dcterms:created>
  <dc:creator>Rachel Pozzetti</dc:creator>
  <dc:description/>
  <dc:language>en-US</dc:language>
  <cp:lastModifiedBy>Rachel Pozzetti</cp:lastModifiedBy>
  <dcterms:modified xsi:type="dcterms:W3CDTF">2014-01-06T20:28:50Z</dcterms:modified>
  <cp:revision>3</cp:revision>
  <dc:subject/>
  <dc:title>PowerPoint Presentation</dc:title>
</cp:coreProperties>
</file>