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76F4-A2A7-496B-8428-B1CE570BD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60D9-BC30-49E0-B0DF-EF6A53A09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7158-84C3-41CA-87FC-0E3F876C9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2BBE-121A-4705-B41E-B6654CD21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C5A2-23AB-428C-A0F4-6387DF983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6FD2-3AFE-459A-8C67-B85B4CFEE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0D65-5970-432A-B3AC-EFDAC64C4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7773-9F77-4158-AD9E-A0674A882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EA84-BD35-42BA-B48C-81C5D2CE6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E9A5-3BC0-4155-9B48-EE0CAE19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2317-35D1-42DE-BCF1-18B410865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25B5-9990-4631-BDD0-9E35BCBB6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7CE8A-0B4D-448B-AC48-85F1284994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80880" y="74520"/>
            <a:ext cx="830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  <a:ea typeface="Arial"/>
              </a:rPr>
              <a:t>Name: ________________________________________________________________________ Date: 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04920" y="838080"/>
            <a:ext cx="85341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entury Gothic"/>
                <a:ea typeface="Arial"/>
              </a:rPr>
              <a:t>Directions: </a:t>
            </a:r>
            <a:r>
              <a:rPr b="0" lang="en-US" sz="1100" spc="-1" strike="noStrike">
                <a:solidFill>
                  <a:srgbClr val="000000"/>
                </a:solidFill>
                <a:latin typeface="Century Gothic"/>
                <a:ea typeface="Arial"/>
              </a:rPr>
              <a:t>In the box below, sketch a side-view of the Rocky Shore and clearly </a:t>
            </a:r>
            <a:r>
              <a:rPr b="1" lang="en-US" sz="1100" spc="-1" strike="noStrike">
                <a:solidFill>
                  <a:srgbClr val="000000"/>
                </a:solidFill>
                <a:latin typeface="Century Gothic"/>
                <a:ea typeface="Arial"/>
              </a:rPr>
              <a:t>label each zone </a:t>
            </a:r>
            <a:r>
              <a:rPr b="0" lang="en-US" sz="1100" spc="-1" strike="noStrike">
                <a:solidFill>
                  <a:srgbClr val="000000"/>
                </a:solidFill>
                <a:latin typeface="Century Gothic"/>
                <a:ea typeface="Arial"/>
              </a:rPr>
              <a:t>of the Rocky Shore. When you are done drawing/labeling, </a:t>
            </a:r>
            <a:r>
              <a:rPr b="1" lang="en-US" sz="1100" spc="-1" strike="noStrike">
                <a:solidFill>
                  <a:srgbClr val="000000"/>
                </a:solidFill>
                <a:latin typeface="Century Gothic"/>
                <a:ea typeface="Arial"/>
              </a:rPr>
              <a:t>find 4 plants or animals </a:t>
            </a:r>
            <a:r>
              <a:rPr b="0" lang="en-US" sz="1100" spc="-1" strike="noStrike">
                <a:solidFill>
                  <a:srgbClr val="000000"/>
                </a:solidFill>
                <a:latin typeface="Century Gothic"/>
                <a:ea typeface="Arial"/>
              </a:rPr>
              <a:t>that live in each zone. Write those within each zone on your sketch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419040" y="37944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Rocky Sho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228600" y="1371600"/>
            <a:ext cx="8686800" cy="5257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6T20:16:31Z</dcterms:created>
  <dc:creator>Rachel Pozzetti</dc:creator>
  <dc:description/>
  <dc:language>en-US</dc:language>
  <cp:lastModifiedBy>Rachel Pozzetti</cp:lastModifiedBy>
  <cp:lastPrinted>2015-03-26T18:37:41Z</cp:lastPrinted>
  <dcterms:modified xsi:type="dcterms:W3CDTF">2015-03-26T18:38:16Z</dcterms:modified>
  <cp:revision>5</cp:revision>
  <dc:subject/>
  <dc:title>PowerPoint Presentation</dc:title>
</cp:coreProperties>
</file>