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E59-0662-406E-A942-692B644B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C24-D2C8-473C-943C-12DF9D1A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F0C-69D4-42AD-997F-0D28705E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E69-8A15-4FFA-B9F8-B8942577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544-7095-4711-9F8F-FDCAD03A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635A-FF00-4B7B-9062-B40650C7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A5C-25DD-4FD4-A714-19209084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15F-D029-4116-83B1-E61634D9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D2E-8BC7-4549-BDDE-6BF05F5A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D8F-F631-44C7-B2AE-F3CDBD3B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C00-8353-4716-9384-FE83EE50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94D-BCBE-4D12-8490-1F4FDAC3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3C62-404D-4B73-9B9E-3543E140F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745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Name: ________________________________________________________________________ Date: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4920" y="838080"/>
            <a:ext cx="8534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In the box below, sketch a side-view of the Rocky Shore and clearly </a:t>
            </a: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label each zone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of the Rocky Shore. When you are done drawing/labeling, </a:t>
            </a: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find 4 plants or animals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that live in each zone. Write those within each zone on your sketch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19040" y="37944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Rocky Sh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8600" y="1371600"/>
            <a:ext cx="8686800" cy="525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20:16:31Z</dcterms:created>
  <dc:creator>Rachel Pozzetti</dc:creator>
  <dc:description/>
  <dc:language>en-US</dc:language>
  <cp:lastModifiedBy>Rachel Pozzetti</cp:lastModifiedBy>
  <cp:lastPrinted>2015-03-26T18:37:41Z</cp:lastPrinted>
  <dcterms:modified xsi:type="dcterms:W3CDTF">2015-03-26T18:38:16Z</dcterms:modified>
  <cp:revision>5</cp:revision>
  <dc:subject/>
  <dc:title>PowerPoint Presentation</dc:title>
</cp:coreProperties>
</file>