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10B-E477-47F7-8485-38B83754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A3E-A548-4460-910E-2757A8EF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3FA1-9EE1-46EC-BBE7-5278D720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228-69C0-408A-993F-28E9958F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256-BE72-4C6D-A008-ACFD102C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EFB-281A-4344-8160-F0C7221A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204-CEA1-48B2-A3CD-0D543B97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648-AEBC-45F7-A167-E2ABD298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514-9456-4B20-89D4-D30B394A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2FE-B717-4BCE-85B1-D06DC36C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003-790E-4629-8465-3382A1A9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99C-B1B9-4ADC-9984-369CBC7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4E51-499F-40D1-9A7A-CAC8C2918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n the box below, sketch a side-view of the Rocky Shore and clearly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label each zone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of the Rocky Shore. When you are done drawing/labeling,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find 4 plants or animals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cp:lastPrinted>2015-03-26T18:37:41Z</cp:lastPrinted>
  <dcterms:modified xsi:type="dcterms:W3CDTF">2015-03-26T18:38:16Z</dcterms:modified>
  <cp:revision>5</cp:revision>
  <dc:subject/>
  <dc:title>PowerPoint Presentation</dc:title>
</cp:coreProperties>
</file>