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EC5-F98C-4C87-B031-ED8E29C7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F68-62CF-4E5F-AC27-3FED1CD3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088-D111-498C-9FBA-65A9E6BF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007-CE0F-4A4E-B81F-A969F555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374-57C6-45F4-96AD-57911431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013-1634-49EC-AEBF-21DAEF27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B26-EA4A-4424-A690-6ADD0BFD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19A-3109-488D-AB72-9C1E8DAA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02E-7F2A-4025-8E7C-D07FCC33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345-8E71-4EC8-934E-FBC16ED4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FC3-69AA-4CAE-903F-369AD195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B50-95E5-48E6-9FD6-88B6658F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422D-AE15-44C4-94C4-B661CB9A0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745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Name: ________________________________________________________________________ Date: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838080"/>
            <a:ext cx="8534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In the box below, sketch a side-view of the Rocky Shore and clearly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label each zone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of the Rocky Shore. When you are done drawing/labeling,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find 4 plants or animals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that live in each zone. Write those within each zone on your sket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9040" y="379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Rocky Sh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20:16:31Z</dcterms:created>
  <dc:creator>Rachel Pozzetti</dc:creator>
  <dc:description/>
  <dc:language>en-US</dc:language>
  <cp:lastModifiedBy>Rachel Pozzetti</cp:lastModifiedBy>
  <cp:lastPrinted>2015-03-26T18:37:41Z</cp:lastPrinted>
  <dcterms:modified xsi:type="dcterms:W3CDTF">2015-03-26T18:38:16Z</dcterms:modified>
  <cp:revision>5</cp:revision>
  <dc:subject/>
  <dc:title>PowerPoint Presentation</dc:title>
</cp:coreProperties>
</file>