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ED7-3050-4656-9178-6BFEA65E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D37-01C1-4C3E-B385-F13E0108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9F2-4F4B-4C11-9032-B60DEFD1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2FF-D2B6-45AC-9B76-88CB13BD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1A9-791D-416D-8364-46A0D63D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9F7-E92D-4D0C-9362-A66D162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0F4-12F7-4CC1-92E1-24644C6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350-4981-4463-AF0E-4B4FCC81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07E-EC29-4A0B-AC72-0FDF594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31C-A49F-4FDB-8A78-63C30AC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BE6-2270-4487-B3FD-3F57C4A3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210-FEC0-4975-A68B-B735D61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DA5-8C7B-4BFE-9341-807DD98BB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0880" y="745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ame: ________________________________________________________________________ Date: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838080"/>
            <a:ext cx="8534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entury Gothic"/>
              </a:rPr>
              <a:t>Directions: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</a:rPr>
              <a:t>In the box below, sketch a side-view of the Rocky Shore and clearly label each zone of the Rocky Shore. When you are done drawing/labeling, find 2 plants or animals that live in each zone. Write those within each zone on your sketch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19040" y="379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Rocky Sh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20:16:31Z</dcterms:created>
  <dc:creator>Rachel Pozzetti</dc:creator>
  <dc:description/>
  <dc:language>en-US</dc:language>
  <cp:lastModifiedBy>Rachel Pozzetti</cp:lastModifiedBy>
  <dcterms:modified xsi:type="dcterms:W3CDTF">2014-01-06T20:28:50Z</dcterms:modified>
  <cp:revision>3</cp:revision>
  <dc:subject/>
  <dc:title>PowerPoint Presentation</dc:title>
</cp:coreProperties>
</file>