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E7A9-5952-4606-A534-7F1D89B34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1D8C-DDF4-44ED-8547-FBE457F9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8291-8C00-4515-B9E4-D8C9AE6A1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B6E9-65BE-4683-B498-2AE780BEF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1803-738E-43B7-A135-E0718C3A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AB92-8B4E-43DF-8578-D684931B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5DAB-E5D0-421B-A2F4-04E5BF70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A60A-B1EF-43A0-9568-6BD35B0E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A5BE-18DA-4F76-9514-D158C2FE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A9B8-758F-45A6-A90D-196770C0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D598-DB3F-4166-AF58-B43E8014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FAE8-090F-4F57-8D58-CA08B6D6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A56C-BD73-4C52-9B1C-E0348F6A9D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80880" y="74520"/>
            <a:ext cx="83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  <a:ea typeface="Arial"/>
              </a:rPr>
              <a:t>Name: ________________________________________________________________________ Date: 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04920" y="838080"/>
            <a:ext cx="85341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Gothic"/>
                <a:ea typeface="Arial"/>
              </a:rPr>
              <a:t>Directions: </a:t>
            </a: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Arial"/>
              </a:rPr>
              <a:t>In the box below, sketch a side-view of the Rocky Shore and clearly </a:t>
            </a:r>
            <a:r>
              <a:rPr b="1" lang="en-US" sz="1100" spc="-1" strike="noStrike">
                <a:solidFill>
                  <a:srgbClr val="000000"/>
                </a:solidFill>
                <a:latin typeface="Century Gothic"/>
                <a:ea typeface="Arial"/>
              </a:rPr>
              <a:t>label each zone </a:t>
            </a: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Arial"/>
              </a:rPr>
              <a:t>of the Rocky Shore. When you are done drawing/labeling, </a:t>
            </a:r>
            <a:r>
              <a:rPr b="1" lang="en-US" sz="1100" spc="-1" strike="noStrike">
                <a:solidFill>
                  <a:srgbClr val="000000"/>
                </a:solidFill>
                <a:latin typeface="Century Gothic"/>
                <a:ea typeface="Arial"/>
              </a:rPr>
              <a:t>find 4 plants or animals </a:t>
            </a: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Arial"/>
              </a:rPr>
              <a:t>that live in each zone. Write those within each zone on your sketch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19040" y="37944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Rocky Sh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228600" y="1371600"/>
            <a:ext cx="8686800" cy="5257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6T20:16:31Z</dcterms:created>
  <dc:creator>Rachel Pozzetti</dc:creator>
  <dc:description/>
  <dc:language>en-US</dc:language>
  <cp:lastModifiedBy>Rachel Pozzetti</cp:lastModifiedBy>
  <cp:lastPrinted>2015-03-26T18:37:41Z</cp:lastPrinted>
  <dcterms:modified xsi:type="dcterms:W3CDTF">2015-03-26T18:38:16Z</dcterms:modified>
  <cp:revision>5</cp:revision>
  <dc:subject/>
  <dc:title>PowerPoint Presentation</dc:title>
</cp:coreProperties>
</file>