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86EFA-1F86-462D-8C85-1A557E8B5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AEDE4-A2A6-4E82-9F69-713B3873F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36242-0B2C-433B-AAD1-800D8CAE2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30947-D7A1-42F6-81B8-E47DFEE74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52D47-6334-4E1E-8A62-79CD88C10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666B0-3CBA-4B9C-8B1A-E3D4E2D30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54B0C-9D83-441E-A263-817B15CD3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360CF-CBBC-46B6-A64A-380A148C0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94A13-5CE8-41C4-8CFA-F4616F4B1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ABA6E-8726-4FB1-8C8D-7004DE995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4D44F-2BDC-4071-8013-3F777340C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85D29-32DF-44DF-A26B-8A92AF08A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CF659-DA37-45E4-96C8-A0DA36CE9A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380880" y="74520"/>
            <a:ext cx="830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entury Gothic"/>
                <a:ea typeface="Arial"/>
              </a:rPr>
              <a:t>Name: ________________________________________________________________________ Date: __________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Box 4"/>
          <p:cNvSpPr/>
          <p:nvPr/>
        </p:nvSpPr>
        <p:spPr>
          <a:xfrm>
            <a:off x="304920" y="838080"/>
            <a:ext cx="85341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entury Gothic"/>
                <a:ea typeface="Arial"/>
              </a:rPr>
              <a:t>Directions: </a:t>
            </a:r>
            <a:r>
              <a:rPr b="0" lang="en-US" sz="1100" spc="-1" strike="noStrike">
                <a:solidFill>
                  <a:srgbClr val="000000"/>
                </a:solidFill>
                <a:latin typeface="Century Gothic"/>
                <a:ea typeface="Arial"/>
              </a:rPr>
              <a:t>In the box below, sketch a side-view of the Rocky Shore and clearly </a:t>
            </a:r>
            <a:r>
              <a:rPr b="1" lang="en-US" sz="1100" spc="-1" strike="noStrike">
                <a:solidFill>
                  <a:srgbClr val="000000"/>
                </a:solidFill>
                <a:latin typeface="Century Gothic"/>
                <a:ea typeface="Arial"/>
              </a:rPr>
              <a:t>label each zone </a:t>
            </a:r>
            <a:r>
              <a:rPr b="0" lang="en-US" sz="1100" spc="-1" strike="noStrike">
                <a:solidFill>
                  <a:srgbClr val="000000"/>
                </a:solidFill>
                <a:latin typeface="Century Gothic"/>
                <a:ea typeface="Arial"/>
              </a:rPr>
              <a:t>of the Rocky Shore. When you are done drawing/labeling, </a:t>
            </a:r>
            <a:r>
              <a:rPr b="1" lang="en-US" sz="1100" spc="-1" strike="noStrike">
                <a:solidFill>
                  <a:srgbClr val="000000"/>
                </a:solidFill>
                <a:latin typeface="Century Gothic"/>
                <a:ea typeface="Arial"/>
              </a:rPr>
              <a:t>find 4 plants or animals </a:t>
            </a:r>
            <a:r>
              <a:rPr b="0" lang="en-US" sz="1100" spc="-1" strike="noStrike">
                <a:solidFill>
                  <a:srgbClr val="000000"/>
                </a:solidFill>
                <a:latin typeface="Century Gothic"/>
                <a:ea typeface="Arial"/>
              </a:rPr>
              <a:t>that live in each zone. Write those within each zone on your sketch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5"/>
          <p:cNvSpPr/>
          <p:nvPr/>
        </p:nvSpPr>
        <p:spPr>
          <a:xfrm>
            <a:off x="419040" y="37944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  <a:ea typeface="Arial"/>
              </a:rPr>
              <a:t>Rocky Sho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228600" y="1371600"/>
            <a:ext cx="8686800" cy="52578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06T20:16:31Z</dcterms:created>
  <dc:creator>Rachel Pozzetti</dc:creator>
  <dc:description/>
  <dc:language>en-US</dc:language>
  <cp:lastModifiedBy>Rachel Pozzetti</cp:lastModifiedBy>
  <cp:lastPrinted>2015-03-26T18:37:41Z</cp:lastPrinted>
  <dcterms:modified xsi:type="dcterms:W3CDTF">2015-03-26T18:38:16Z</dcterms:modified>
  <cp:revision>5</cp:revision>
  <dc:subject/>
  <dc:title>PowerPoint Presentation</dc:title>
</cp:coreProperties>
</file>