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C8DC-6F14-41CC-B397-43A31B83B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3CD5-842F-443B-B084-E812F562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695F-3EE8-4303-8049-DAF6BB57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8ECF-4ADC-401D-81DD-4FB556972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B0CA-40E9-40B6-98CB-F13C1446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EB59-1675-4B24-9C2E-3F68E8F2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1276-CF8D-459D-BC1A-82F4D07A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CBD8-769E-43C6-A0A6-2C1D2462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4E1B-01E0-4A8D-90D0-E5B1433C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FC58-562C-4361-BBC6-FDE65E16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7DEB-DDE4-4607-86F5-91FFB9A5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8D6A-FAB0-4170-B54D-D2D16423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FD06-138F-48CC-A486-1F9179593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268200" y="512640"/>
            <a:ext cx="2914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Life Cycle of a Sta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Sun-Like St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Directions: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Sketch and describe each phase of the life cycle for a sun-like star (small-medium siz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3429000" y="208080"/>
            <a:ext cx="1766880" cy="121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5195880" y="22320"/>
            <a:ext cx="16621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279520" y="1785960"/>
            <a:ext cx="1905120" cy="127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1685880" y="4572000"/>
            <a:ext cx="1641600" cy="136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4844880" y="3276720"/>
            <a:ext cx="2013120" cy="129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3476520" y="5959440"/>
            <a:ext cx="1587600" cy="140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1965240" y="7696080"/>
            <a:ext cx="1768680" cy="12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5"/>
          <p:cNvSpPr/>
          <p:nvPr/>
        </p:nvSpPr>
        <p:spPr>
          <a:xfrm>
            <a:off x="146160" y="1736640"/>
            <a:ext cx="21477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7"/>
          <p:cNvSpPr/>
          <p:nvPr/>
        </p:nvSpPr>
        <p:spPr>
          <a:xfrm>
            <a:off x="47520" y="4491000"/>
            <a:ext cx="17431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8"/>
          <p:cNvSpPr/>
          <p:nvPr/>
        </p:nvSpPr>
        <p:spPr>
          <a:xfrm>
            <a:off x="5000760" y="5937120"/>
            <a:ext cx="20174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9"/>
          <p:cNvSpPr/>
          <p:nvPr/>
        </p:nvSpPr>
        <p:spPr>
          <a:xfrm>
            <a:off x="228600" y="7537320"/>
            <a:ext cx="1898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Straight Arrow Connector 25"/>
          <p:cNvCxnSpPr/>
          <p:nvPr/>
        </p:nvCxnSpPr>
        <p:spPr>
          <a:xfrm flipH="1">
            <a:off x="3571200" y="1468440"/>
            <a:ext cx="423000" cy="31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Straight Arrow Connector 32"/>
          <p:cNvCxnSpPr/>
          <p:nvPr/>
        </p:nvCxnSpPr>
        <p:spPr>
          <a:xfrm>
            <a:off x="4225680" y="2533680"/>
            <a:ext cx="619560" cy="743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" name="Straight Arrow Connector 36"/>
          <p:cNvCxnSpPr>
            <a:endCxn id="45" idx="3"/>
          </p:cNvCxnSpPr>
          <p:nvPr/>
        </p:nvCxnSpPr>
        <p:spPr>
          <a:xfrm flipH="1">
            <a:off x="3327480" y="4572000"/>
            <a:ext cx="1673640" cy="682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" name="Straight Arrow Connector 39"/>
          <p:cNvCxnSpPr/>
          <p:nvPr/>
        </p:nvCxnSpPr>
        <p:spPr>
          <a:xfrm>
            <a:off x="2937960" y="5937120"/>
            <a:ext cx="538920" cy="464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Straight Arrow Connector 41"/>
          <p:cNvCxnSpPr>
            <a:endCxn id="48" idx="0"/>
          </p:cNvCxnSpPr>
          <p:nvPr/>
        </p:nvCxnSpPr>
        <p:spPr>
          <a:xfrm flipH="1">
            <a:off x="2849400" y="7086240"/>
            <a:ext cx="62748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TextBox 57"/>
          <p:cNvSpPr/>
          <p:nvPr/>
        </p:nvSpPr>
        <p:spPr>
          <a:xfrm>
            <a:off x="2743200" y="3233880"/>
            <a:ext cx="21016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74520" y="-54000"/>
            <a:ext cx="6572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Name: ______________________________________________ Date: 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tle 1"/>
          <p:cNvSpPr/>
          <p:nvPr/>
        </p:nvSpPr>
        <p:spPr>
          <a:xfrm>
            <a:off x="69840" y="512640"/>
            <a:ext cx="2914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Life Cycle of a Sta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Massive St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Directions: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Sketch and describe each phase of the life cycle for massive st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846520" y="339840"/>
            <a:ext cx="1638000" cy="131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4429080" y="263520"/>
            <a:ext cx="229572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0" y="2095560"/>
            <a:ext cx="17035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5095800" y="2984400"/>
            <a:ext cx="176220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2"/>
          <p:cNvSpPr/>
          <p:nvPr/>
        </p:nvSpPr>
        <p:spPr>
          <a:xfrm>
            <a:off x="0" y="3933720"/>
            <a:ext cx="16257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3"/>
          <p:cNvSpPr/>
          <p:nvPr/>
        </p:nvSpPr>
        <p:spPr>
          <a:xfrm>
            <a:off x="539640" y="7391520"/>
            <a:ext cx="268632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Straight Arrow Connector 24"/>
          <p:cNvCxnSpPr/>
          <p:nvPr/>
        </p:nvCxnSpPr>
        <p:spPr>
          <a:xfrm flipH="1">
            <a:off x="2846160" y="1676520"/>
            <a:ext cx="380160" cy="419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Straight Arrow Connector 25"/>
          <p:cNvCxnSpPr/>
          <p:nvPr/>
        </p:nvCxnSpPr>
        <p:spPr>
          <a:xfrm>
            <a:off x="3044880" y="2643120"/>
            <a:ext cx="535680" cy="450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Straight Arrow Connector 30"/>
          <p:cNvCxnSpPr/>
          <p:nvPr/>
        </p:nvCxnSpPr>
        <p:spPr>
          <a:xfrm>
            <a:off x="2846160" y="5380200"/>
            <a:ext cx="1215000" cy="71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Straight Arrow Connector 31"/>
          <p:cNvCxnSpPr>
            <a:endCxn id="71" idx="0"/>
          </p:cNvCxnSpPr>
          <p:nvPr/>
        </p:nvCxnSpPr>
        <p:spPr>
          <a:xfrm flipH="1">
            <a:off x="1956960" y="5379840"/>
            <a:ext cx="248400" cy="751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Straight Arrow Connector 32"/>
          <p:cNvCxnSpPr>
            <a:endCxn id="73" idx="3"/>
          </p:cNvCxnSpPr>
          <p:nvPr/>
        </p:nvCxnSpPr>
        <p:spPr>
          <a:xfrm flipH="1">
            <a:off x="3142440" y="4343040"/>
            <a:ext cx="405720" cy="367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Rectangle 40"/>
          <p:cNvSpPr/>
          <p:nvPr/>
        </p:nvSpPr>
        <p:spPr>
          <a:xfrm>
            <a:off x="1527120" y="2095560"/>
            <a:ext cx="1517760" cy="14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42"/>
          <p:cNvSpPr/>
          <p:nvPr/>
        </p:nvSpPr>
        <p:spPr>
          <a:xfrm>
            <a:off x="1066680" y="6130800"/>
            <a:ext cx="1779840" cy="126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43"/>
          <p:cNvSpPr/>
          <p:nvPr/>
        </p:nvSpPr>
        <p:spPr>
          <a:xfrm>
            <a:off x="4060800" y="6095880"/>
            <a:ext cx="1730520" cy="129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4"/>
          <p:cNvSpPr/>
          <p:nvPr/>
        </p:nvSpPr>
        <p:spPr>
          <a:xfrm>
            <a:off x="1511280" y="4041720"/>
            <a:ext cx="1631880" cy="133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5"/>
          <p:cNvSpPr/>
          <p:nvPr/>
        </p:nvSpPr>
        <p:spPr>
          <a:xfrm>
            <a:off x="3583080" y="3035160"/>
            <a:ext cx="1515960" cy="156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61"/>
          <p:cNvSpPr/>
          <p:nvPr/>
        </p:nvSpPr>
        <p:spPr>
          <a:xfrm>
            <a:off x="3583080" y="7419960"/>
            <a:ext cx="26859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74520" y="-54000"/>
            <a:ext cx="6572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Name: ______________________________________________ Date: 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1T19:00:25Z</dcterms:created>
  <dc:creator>Rachel Pozzetti</dc:creator>
  <dc:description/>
  <dc:language>en-US</dc:language>
  <cp:lastModifiedBy>Rachel Pozzetti</cp:lastModifiedBy>
  <dcterms:modified xsi:type="dcterms:W3CDTF">2013-09-12T10:59:18Z</dcterms:modified>
  <cp:revision>16</cp:revision>
  <dc:subject/>
  <dc:title>Life Cycle of a Star</dc:title>
</cp:coreProperties>
</file>