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BA6-49B1-442A-8091-B6D7B681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0DF-1CBF-43B7-9F4D-EC2975BF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B6D-DA3D-404B-ACAE-BE7FFF4A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BE4-0EF3-4845-BFBE-68B15F23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E3E-F0A0-4149-ABF2-5A284A4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15A-F207-45A9-BCDE-FF0B5CD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39C-E7EA-4C45-BA00-2274479C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15F-67B1-4B59-B22F-D06E2177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2F6-9808-4AC8-8A86-0F9062E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D88-2B88-40E5-A322-125D9E2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E39-9BB6-457E-9EF1-1A36A444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163A-EC8B-4384-964C-1D6DC86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2BE6-57BB-428E-A453-5F4ED6950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26820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a sun-like star (small-medium s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429000" y="208080"/>
            <a:ext cx="1766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95880" y="22320"/>
            <a:ext cx="1662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79520" y="1785960"/>
            <a:ext cx="1905120" cy="12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5880" y="4572000"/>
            <a:ext cx="164160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44880" y="3276720"/>
            <a:ext cx="20131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476520" y="5959440"/>
            <a:ext cx="1587600" cy="14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965240" y="7696080"/>
            <a:ext cx="1768680" cy="12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6160" y="1736640"/>
            <a:ext cx="21477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7520" y="4491000"/>
            <a:ext cx="174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5000760" y="5937120"/>
            <a:ext cx="2017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228600" y="7537320"/>
            <a:ext cx="189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5"/>
          <p:cNvCxnSpPr/>
          <p:nvPr/>
        </p:nvCxnSpPr>
        <p:spPr>
          <a:xfrm flipH="1">
            <a:off x="3571200" y="1468440"/>
            <a:ext cx="423000" cy="31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/>
          <p:nvPr/>
        </p:nvCxnSpPr>
        <p:spPr>
          <a:xfrm>
            <a:off x="4225680" y="2533680"/>
            <a:ext cx="61956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6"/>
          <p:cNvCxnSpPr>
            <a:endCxn id="45" idx="3"/>
          </p:cNvCxnSpPr>
          <p:nvPr/>
        </p:nvCxnSpPr>
        <p:spPr>
          <a:xfrm flipH="1">
            <a:off x="3327480" y="4572000"/>
            <a:ext cx="1673640" cy="68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9"/>
          <p:cNvCxnSpPr/>
          <p:nvPr/>
        </p:nvCxnSpPr>
        <p:spPr>
          <a:xfrm>
            <a:off x="2937960" y="5937120"/>
            <a:ext cx="538920" cy="46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41"/>
          <p:cNvCxnSpPr>
            <a:endCxn id="48" idx="0"/>
          </p:cNvCxnSpPr>
          <p:nvPr/>
        </p:nvCxnSpPr>
        <p:spPr>
          <a:xfrm flipH="1">
            <a:off x="2849400" y="7086240"/>
            <a:ext cx="6274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57"/>
          <p:cNvSpPr/>
          <p:nvPr/>
        </p:nvSpPr>
        <p:spPr>
          <a:xfrm>
            <a:off x="2743200" y="3233880"/>
            <a:ext cx="2101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984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massiv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46520" y="339840"/>
            <a:ext cx="1638000" cy="13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29080" y="263520"/>
            <a:ext cx="229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0" y="2095560"/>
            <a:ext cx="1703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095800" y="2984400"/>
            <a:ext cx="1762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0" y="3933720"/>
            <a:ext cx="1625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39640" y="7391520"/>
            <a:ext cx="2686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4"/>
          <p:cNvCxnSpPr/>
          <p:nvPr/>
        </p:nvCxnSpPr>
        <p:spPr>
          <a:xfrm flipH="1">
            <a:off x="2846160" y="1676520"/>
            <a:ext cx="3801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/>
          <p:nvPr/>
        </p:nvCxnSpPr>
        <p:spPr>
          <a:xfrm>
            <a:off x="3044880" y="2643120"/>
            <a:ext cx="535680" cy="45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>
            <a:off x="2846160" y="5380200"/>
            <a:ext cx="1215000" cy="71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1"/>
          <p:cNvCxnSpPr>
            <a:endCxn id="71" idx="0"/>
          </p:cNvCxnSpPr>
          <p:nvPr/>
        </p:nvCxnSpPr>
        <p:spPr>
          <a:xfrm flipH="1">
            <a:off x="1956960" y="5379840"/>
            <a:ext cx="248400" cy="75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2"/>
          <p:cNvCxnSpPr>
            <a:endCxn id="73" idx="3"/>
          </p:cNvCxnSpPr>
          <p:nvPr/>
        </p:nvCxnSpPr>
        <p:spPr>
          <a:xfrm flipH="1">
            <a:off x="3142440" y="4343040"/>
            <a:ext cx="405720" cy="36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Rectangle 40"/>
          <p:cNvSpPr/>
          <p:nvPr/>
        </p:nvSpPr>
        <p:spPr>
          <a:xfrm>
            <a:off x="1527120" y="2095560"/>
            <a:ext cx="151776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066680" y="6130800"/>
            <a:ext cx="1779840" cy="12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060800" y="6095880"/>
            <a:ext cx="173052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511280" y="4041720"/>
            <a:ext cx="1631880" cy="13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3583080" y="3035160"/>
            <a:ext cx="1515960" cy="156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3583080" y="7419960"/>
            <a:ext cx="2685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9:00:25Z</dcterms:created>
  <dc:creator>Rachel Pozzetti</dc:creator>
  <dc:description/>
  <dc:language>en-US</dc:language>
  <cp:lastModifiedBy>Rachel Pozzetti</cp:lastModifiedBy>
  <dcterms:modified xsi:type="dcterms:W3CDTF">2013-09-12T10:59:18Z</dcterms:modified>
  <cp:revision>16</cp:revision>
  <dc:subject/>
  <dc:title>Life Cycle of a Star</dc:title>
</cp:coreProperties>
</file>