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B84-28A8-472A-B18C-32F0FD8B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10C-3F3B-40A3-A33C-4D8DA544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138-41B3-4763-BD20-6C69FE9F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6D6-01C9-41B0-884F-67E7B94A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0E0-704B-474B-B25A-792A4454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496-A9D8-49D2-A504-269D90F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709-3DD8-4F56-A361-06262E2E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880-176F-4AB4-840C-FAD91C6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74B-BA7A-4AD6-9A72-D0CB1D12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E3B-BC72-4A85-B3E5-E2A21999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73C-E04D-4CC3-8121-F119C39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C90-8535-46B8-9C82-79435676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DB6-EEFC-4BE7-BC90-74ED24623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26820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Sun-Lik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a sun-like star (small-medium s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429000" y="208080"/>
            <a:ext cx="1766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95880" y="22320"/>
            <a:ext cx="1662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79520" y="1785960"/>
            <a:ext cx="1905120" cy="12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5880" y="4572000"/>
            <a:ext cx="164160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844880" y="3276720"/>
            <a:ext cx="201312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476520" y="5959440"/>
            <a:ext cx="1587600" cy="14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965240" y="7696080"/>
            <a:ext cx="1768680" cy="12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46160" y="1736640"/>
            <a:ext cx="21477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47520" y="4491000"/>
            <a:ext cx="1743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5000760" y="5937120"/>
            <a:ext cx="2017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228600" y="7537320"/>
            <a:ext cx="189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5"/>
          <p:cNvCxnSpPr/>
          <p:nvPr/>
        </p:nvCxnSpPr>
        <p:spPr>
          <a:xfrm flipH="1">
            <a:off x="3571200" y="1468440"/>
            <a:ext cx="423000" cy="31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/>
          <p:nvPr/>
        </p:nvCxnSpPr>
        <p:spPr>
          <a:xfrm>
            <a:off x="4225680" y="2533680"/>
            <a:ext cx="61956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6"/>
          <p:cNvCxnSpPr>
            <a:endCxn id="45" idx="3"/>
          </p:cNvCxnSpPr>
          <p:nvPr/>
        </p:nvCxnSpPr>
        <p:spPr>
          <a:xfrm flipH="1">
            <a:off x="3327480" y="4572000"/>
            <a:ext cx="1673640" cy="68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9"/>
          <p:cNvCxnSpPr/>
          <p:nvPr/>
        </p:nvCxnSpPr>
        <p:spPr>
          <a:xfrm>
            <a:off x="2937960" y="5937120"/>
            <a:ext cx="538920" cy="464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41"/>
          <p:cNvCxnSpPr>
            <a:endCxn id="48" idx="0"/>
          </p:cNvCxnSpPr>
          <p:nvPr/>
        </p:nvCxnSpPr>
        <p:spPr>
          <a:xfrm flipH="1">
            <a:off x="2849400" y="7086240"/>
            <a:ext cx="6274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57"/>
          <p:cNvSpPr/>
          <p:nvPr/>
        </p:nvSpPr>
        <p:spPr>
          <a:xfrm>
            <a:off x="2743200" y="3233880"/>
            <a:ext cx="2101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984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ssiv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massiv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46520" y="339840"/>
            <a:ext cx="1638000" cy="13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29080" y="263520"/>
            <a:ext cx="2295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0" y="2095560"/>
            <a:ext cx="1703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095800" y="2984400"/>
            <a:ext cx="17622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0" y="3933720"/>
            <a:ext cx="16257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39640" y="7391520"/>
            <a:ext cx="2686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4"/>
          <p:cNvCxnSpPr/>
          <p:nvPr/>
        </p:nvCxnSpPr>
        <p:spPr>
          <a:xfrm flipH="1">
            <a:off x="2846160" y="1676520"/>
            <a:ext cx="3801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/>
          <p:nvPr/>
        </p:nvCxnSpPr>
        <p:spPr>
          <a:xfrm>
            <a:off x="3044880" y="2643120"/>
            <a:ext cx="535680" cy="45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30"/>
          <p:cNvCxnSpPr/>
          <p:nvPr/>
        </p:nvCxnSpPr>
        <p:spPr>
          <a:xfrm>
            <a:off x="2846160" y="5380200"/>
            <a:ext cx="1215000" cy="71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1"/>
          <p:cNvCxnSpPr>
            <a:endCxn id="71" idx="0"/>
          </p:cNvCxnSpPr>
          <p:nvPr/>
        </p:nvCxnSpPr>
        <p:spPr>
          <a:xfrm flipH="1">
            <a:off x="1956960" y="5379840"/>
            <a:ext cx="248400" cy="75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2"/>
          <p:cNvCxnSpPr>
            <a:endCxn id="73" idx="3"/>
          </p:cNvCxnSpPr>
          <p:nvPr/>
        </p:nvCxnSpPr>
        <p:spPr>
          <a:xfrm flipH="1">
            <a:off x="3142440" y="4343040"/>
            <a:ext cx="405720" cy="36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Rectangle 40"/>
          <p:cNvSpPr/>
          <p:nvPr/>
        </p:nvSpPr>
        <p:spPr>
          <a:xfrm>
            <a:off x="1527120" y="2095560"/>
            <a:ext cx="151776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066680" y="6130800"/>
            <a:ext cx="1779840" cy="12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060800" y="6095880"/>
            <a:ext cx="173052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511280" y="4041720"/>
            <a:ext cx="1631880" cy="13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3583080" y="3035160"/>
            <a:ext cx="1515960" cy="156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3583080" y="7419960"/>
            <a:ext cx="2685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9:00:25Z</dcterms:created>
  <dc:creator>Rachel Pozzetti</dc:creator>
  <dc:description/>
  <dc:language>en-US</dc:language>
  <cp:lastModifiedBy>Rachel Pozzetti</cp:lastModifiedBy>
  <dcterms:modified xsi:type="dcterms:W3CDTF">2013-09-12T10:59:18Z</dcterms:modified>
  <cp:revision>16</cp:revision>
  <dc:subject/>
  <dc:title>Life Cycle of a Star</dc:title>
</cp:coreProperties>
</file>