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A752-0405-480D-992A-FA8C7A20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A92-168A-4CA6-80B7-CD00F44F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D78-A959-4521-8E39-E7E681FA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06B-855F-4820-814F-F31B7436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873-D502-4F60-ACE9-BB395F92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501-CA0B-48AC-92A8-570AAA73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752-1E9B-47E8-A37A-513D5418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E5A3-DA66-44AF-92B3-5BCEFE7A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6D3-5B62-4EE4-8725-68F32C32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035-29F0-4BA6-B4A8-EDD76D7F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E610-64AF-4537-BC55-588F1A2E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E228-9D75-4886-AF7B-08DC6FB0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5CCE-D373-4366-8A93-032793751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268200" y="512640"/>
            <a:ext cx="2914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Life Cycle of a Sta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Sun-Like St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Sketch and describe each phase of the life cycle for a sun-like star (small-medium siz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429000" y="208080"/>
            <a:ext cx="176688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5195880" y="22320"/>
            <a:ext cx="16621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79520" y="1785960"/>
            <a:ext cx="1905120" cy="127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685880" y="4572000"/>
            <a:ext cx="1641600" cy="136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4844880" y="3276720"/>
            <a:ext cx="2013120" cy="12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3476520" y="5959440"/>
            <a:ext cx="1587600" cy="14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1965240" y="7696080"/>
            <a:ext cx="1768680" cy="12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5"/>
          <p:cNvSpPr/>
          <p:nvPr/>
        </p:nvSpPr>
        <p:spPr>
          <a:xfrm>
            <a:off x="146160" y="1736640"/>
            <a:ext cx="21477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7"/>
          <p:cNvSpPr/>
          <p:nvPr/>
        </p:nvSpPr>
        <p:spPr>
          <a:xfrm>
            <a:off x="47520" y="4491000"/>
            <a:ext cx="17431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8"/>
          <p:cNvSpPr/>
          <p:nvPr/>
        </p:nvSpPr>
        <p:spPr>
          <a:xfrm>
            <a:off x="5000760" y="5937120"/>
            <a:ext cx="20174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9"/>
          <p:cNvSpPr/>
          <p:nvPr/>
        </p:nvSpPr>
        <p:spPr>
          <a:xfrm>
            <a:off x="228600" y="7537320"/>
            <a:ext cx="1898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25"/>
          <p:cNvCxnSpPr/>
          <p:nvPr/>
        </p:nvCxnSpPr>
        <p:spPr>
          <a:xfrm flipH="1">
            <a:off x="3571200" y="1468440"/>
            <a:ext cx="423000" cy="31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Straight Arrow Connector 32"/>
          <p:cNvCxnSpPr/>
          <p:nvPr/>
        </p:nvCxnSpPr>
        <p:spPr>
          <a:xfrm>
            <a:off x="4225680" y="2533680"/>
            <a:ext cx="619560" cy="743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36"/>
          <p:cNvCxnSpPr>
            <a:endCxn id="45" idx="3"/>
          </p:cNvCxnSpPr>
          <p:nvPr/>
        </p:nvCxnSpPr>
        <p:spPr>
          <a:xfrm flipH="1">
            <a:off x="3327480" y="4572000"/>
            <a:ext cx="1673640" cy="682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39"/>
          <p:cNvCxnSpPr/>
          <p:nvPr/>
        </p:nvCxnSpPr>
        <p:spPr>
          <a:xfrm>
            <a:off x="2937960" y="5937120"/>
            <a:ext cx="538920" cy="464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41"/>
          <p:cNvCxnSpPr>
            <a:endCxn id="48" idx="0"/>
          </p:cNvCxnSpPr>
          <p:nvPr/>
        </p:nvCxnSpPr>
        <p:spPr>
          <a:xfrm flipH="1">
            <a:off x="2849400" y="7086240"/>
            <a:ext cx="62748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TextBox 57"/>
          <p:cNvSpPr/>
          <p:nvPr/>
        </p:nvSpPr>
        <p:spPr>
          <a:xfrm>
            <a:off x="2743200" y="3233880"/>
            <a:ext cx="21016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74520" y="-54000"/>
            <a:ext cx="6572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Name: ______________________________________________ Date: 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le 1"/>
          <p:cNvSpPr/>
          <p:nvPr/>
        </p:nvSpPr>
        <p:spPr>
          <a:xfrm>
            <a:off x="69840" y="512640"/>
            <a:ext cx="2914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Life Cycle of a Sta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Massive St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Sketch and describe each phase of the life cycle for massiv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846520" y="339840"/>
            <a:ext cx="1638000" cy="131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4429080" y="263520"/>
            <a:ext cx="22957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0" y="2095560"/>
            <a:ext cx="17035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5095800" y="2984400"/>
            <a:ext cx="17622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2"/>
          <p:cNvSpPr/>
          <p:nvPr/>
        </p:nvSpPr>
        <p:spPr>
          <a:xfrm>
            <a:off x="0" y="3933720"/>
            <a:ext cx="16257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539640" y="7391520"/>
            <a:ext cx="26863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Straight Arrow Connector 24"/>
          <p:cNvCxnSpPr/>
          <p:nvPr/>
        </p:nvCxnSpPr>
        <p:spPr>
          <a:xfrm flipH="1">
            <a:off x="2846160" y="1676520"/>
            <a:ext cx="380160" cy="419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25"/>
          <p:cNvCxnSpPr/>
          <p:nvPr/>
        </p:nvCxnSpPr>
        <p:spPr>
          <a:xfrm>
            <a:off x="3044880" y="2643120"/>
            <a:ext cx="535680" cy="45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30"/>
          <p:cNvCxnSpPr/>
          <p:nvPr/>
        </p:nvCxnSpPr>
        <p:spPr>
          <a:xfrm>
            <a:off x="2846160" y="5380200"/>
            <a:ext cx="1215000" cy="71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31"/>
          <p:cNvCxnSpPr>
            <a:endCxn id="71" idx="0"/>
          </p:cNvCxnSpPr>
          <p:nvPr/>
        </p:nvCxnSpPr>
        <p:spPr>
          <a:xfrm flipH="1">
            <a:off x="1956960" y="5379840"/>
            <a:ext cx="248400" cy="751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32"/>
          <p:cNvCxnSpPr>
            <a:endCxn id="73" idx="3"/>
          </p:cNvCxnSpPr>
          <p:nvPr/>
        </p:nvCxnSpPr>
        <p:spPr>
          <a:xfrm flipH="1">
            <a:off x="3142440" y="4343040"/>
            <a:ext cx="405720" cy="367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Rectangle 40"/>
          <p:cNvSpPr/>
          <p:nvPr/>
        </p:nvSpPr>
        <p:spPr>
          <a:xfrm>
            <a:off x="1527120" y="2095560"/>
            <a:ext cx="1517760" cy="14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2"/>
          <p:cNvSpPr/>
          <p:nvPr/>
        </p:nvSpPr>
        <p:spPr>
          <a:xfrm>
            <a:off x="1066680" y="6130800"/>
            <a:ext cx="1779840" cy="126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3"/>
          <p:cNvSpPr/>
          <p:nvPr/>
        </p:nvSpPr>
        <p:spPr>
          <a:xfrm>
            <a:off x="4060800" y="6095880"/>
            <a:ext cx="173052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44"/>
          <p:cNvSpPr/>
          <p:nvPr/>
        </p:nvSpPr>
        <p:spPr>
          <a:xfrm>
            <a:off x="1511280" y="4041720"/>
            <a:ext cx="1631880" cy="133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5"/>
          <p:cNvSpPr/>
          <p:nvPr/>
        </p:nvSpPr>
        <p:spPr>
          <a:xfrm>
            <a:off x="3583080" y="3035160"/>
            <a:ext cx="1515960" cy="156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61"/>
          <p:cNvSpPr/>
          <p:nvPr/>
        </p:nvSpPr>
        <p:spPr>
          <a:xfrm>
            <a:off x="3583080" y="7419960"/>
            <a:ext cx="26859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74520" y="-54000"/>
            <a:ext cx="6572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Name: ______________________________________________ Date: _____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1T19:00:25Z</dcterms:created>
  <dc:creator>Rachel Pozzetti</dc:creator>
  <dc:description/>
  <dc:language>en-US</dc:language>
  <cp:lastModifiedBy>Rachel Pozzetti</cp:lastModifiedBy>
  <dcterms:modified xsi:type="dcterms:W3CDTF">2013-09-12T10:59:18Z</dcterms:modified>
  <cp:revision>16</cp:revision>
  <dc:subject/>
  <dc:title>Life Cycle of a Star</dc:title>
</cp:coreProperties>
</file>