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DC9-E70E-485C-B255-23D7F05E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9E9-9D03-48C8-B503-5789D9A4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FC1-E453-447F-B0B9-F096656A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1DB-D26B-437A-9DA1-D0ED656D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41B-8A4A-4AFC-A97D-29478E26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328-1ED5-420E-A370-76935FFD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69F-01A2-40F7-A3E9-435337C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698-EF22-4C0B-8C32-817B2D55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5EF-88D9-4DC9-9CC3-8DABB65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907-BADB-445B-9715-1A6FFB3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937-E813-444C-8325-AC31FEA8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AA4-9869-4AD4-82BB-975E644E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976-3206-4B66-9C07-DC9CA8E0F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10703"/>
          <a:stretch/>
        </p:blipFill>
        <p:spPr>
          <a:xfrm>
            <a:off x="457200" y="1981080"/>
            <a:ext cx="6172200" cy="6940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952560" y="457200"/>
            <a:ext cx="5181480" cy="8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abel the Z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Littoral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enth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lag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hotic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Aphot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2:44:12Z</dcterms:created>
  <dc:creator>Rachel Fritschy</dc:creator>
  <dc:description/>
  <dc:language>en-US</dc:language>
  <cp:lastModifiedBy>Rachel Fritschy</cp:lastModifiedBy>
  <dcterms:modified xsi:type="dcterms:W3CDTF">2012-03-13T12:46:34Z</dcterms:modified>
  <cp:revision>2</cp:revision>
  <dc:subject/>
  <dc:title>PowerPoint Presentation</dc:title>
</cp:coreProperties>
</file>