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4F6-D645-4514-A2BE-02AC0260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E28-6A7B-4A38-AE21-A0964AA8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049-5AB4-4B18-8BEA-FFD658D4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E5B-A794-4CC2-A644-4456F8F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017-6778-43DB-90CC-9D30EAA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492-B4EB-4A8F-8B4D-0DB75E8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E45-32FF-4750-9B0F-C4EBC9AB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8F9-83A2-4434-A9B7-7BF6957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0DE-112C-47A0-972B-2F30F296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796-8EA1-4817-A0C4-C404CDC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212-D5CC-41EF-8EB2-1BC60450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908-BB8C-490C-9532-CFF85D7D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EFE-0E1C-4882-9528-799BA2AB3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10703"/>
          <a:stretch/>
        </p:blipFill>
        <p:spPr>
          <a:xfrm>
            <a:off x="457200" y="1981080"/>
            <a:ext cx="6172200" cy="6940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952560" y="457200"/>
            <a:ext cx="5181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bel the Z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ittoral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Benth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lag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hot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Apho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2:44:12Z</dcterms:created>
  <dc:creator>Rachel Fritschy</dc:creator>
  <dc:description/>
  <dc:language>en-US</dc:language>
  <cp:lastModifiedBy>Rachel Fritschy</cp:lastModifiedBy>
  <dcterms:modified xsi:type="dcterms:W3CDTF">2012-03-13T12:46:34Z</dcterms:modified>
  <cp:revision>2</cp:revision>
  <dc:subject/>
  <dc:title>PowerPoint Presentation</dc:title>
</cp:coreProperties>
</file>