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C9F-29BE-43B0-B13F-798770E9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AFA-438E-4F19-BAA8-BE562FEE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FC2-FCEF-4175-9D34-C8A4A2B9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2D8-DB15-412E-B545-0A95171E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5EE-2E96-4322-BD9B-C64B1CE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F02-A864-4CB0-97AC-572409E5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B53-43DA-4768-8DE0-44097828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0BA-2EF1-449F-95F0-28AABB0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F47-BFF6-4485-ABBD-ABED974D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F48-F0A1-42E3-A1CD-1818B6C2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7CB-6AF9-4D89-AE40-6CBBA6B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F81-2A0C-454B-AFD5-827EC68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5C9-F108-44CF-A7C4-EBD4C21DB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10703"/>
          <a:stretch/>
        </p:blipFill>
        <p:spPr>
          <a:xfrm>
            <a:off x="457200" y="1981080"/>
            <a:ext cx="6172200" cy="694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52560" y="457200"/>
            <a:ext cx="5181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bel the Z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ittor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enth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lag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hot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Apho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4:12Z</dcterms:created>
  <dc:creator>Rachel Fritschy</dc:creator>
  <dc:description/>
  <dc:language>en-US</dc:language>
  <cp:lastModifiedBy>Rachel Fritschy</cp:lastModifiedBy>
  <dcterms:modified xsi:type="dcterms:W3CDTF">2012-03-13T12:46:34Z</dcterms:modified>
  <cp:revision>2</cp:revision>
  <dc:subject/>
  <dc:title>PowerPoint Presentation</dc:title>
</cp:coreProperties>
</file>