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F95-35D3-456F-A921-C8C77C9F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2D3-3823-4653-94E6-959E99C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A5A-51A1-46D7-896E-5B78BBEA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4DC-4552-499C-9FD5-6C29A221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F2C-873B-4C17-9824-7A559ED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5A7-ABAC-47F2-B46B-187B51C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DF2-35D5-4BAE-9942-0FCA46E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736-B9E7-41E2-9570-969AA0D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B2B-51C1-402D-BE0B-F9BB54FE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3DC-2650-4B51-9AC3-793239C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C8B-F7B8-4A62-B563-39D5451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15C-18DF-44C9-A1B4-EDAEFE8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1EFB-9DC6-4496-9260-059D0B88C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10703"/>
          <a:stretch/>
        </p:blipFill>
        <p:spPr>
          <a:xfrm>
            <a:off x="457200" y="1981080"/>
            <a:ext cx="6172200" cy="694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52560" y="457200"/>
            <a:ext cx="5181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bel the Z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ittoral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Benth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lag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hot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Apho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2:44:12Z</dcterms:created>
  <dc:creator>Rachel Fritschy</dc:creator>
  <dc:description/>
  <dc:language>en-US</dc:language>
  <cp:lastModifiedBy>Rachel Fritschy</cp:lastModifiedBy>
  <dcterms:modified xsi:type="dcterms:W3CDTF">2012-03-13T12:46:34Z</dcterms:modified>
  <cp:revision>2</cp:revision>
  <dc:subject/>
  <dc:title>PowerPoint Presentation</dc:title>
</cp:coreProperties>
</file>