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9B0-3D9A-48B9-B4DF-74916D77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38E-144B-4207-8BD0-C331ED3A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CA3-8733-45BE-8B79-4B870A2A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0F3-B123-4345-895D-EF15DC54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1CBD-04FF-412D-BCA2-AA891388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F9FD-B43A-4720-886F-250FE1A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F9D0-B3D9-4016-B352-7FDF652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10A-B0F6-4270-9F9C-91B5748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E88A-298E-4F1B-9A83-48F00587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ADB0-9FD8-4C13-882D-1E0D0A9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2CEA-E4BB-4670-8616-0A92421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EF9-7CCF-4DED-BC7F-AC66E76D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6AD7-F8A1-44D1-BFBB-925E4309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4D5-627B-41F1-AED3-0247CF8F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74B6-7F0C-4153-B364-EDF4E85A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27F4-A027-42E4-841B-F8B32060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B0B8-0277-48CF-8015-81D54EDE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502B2-24B5-4DBB-A80A-B33C1149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54C9E-5F99-4B9C-AE76-47179BA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F2B77-FC4F-4143-8A65-1368E8F2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2F8F7-FE1B-4383-A28C-A568A9F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0FA2B-BCD3-43EB-AF34-97906AE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7C7-91FF-41FE-9B4E-1C16E8A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09BD1-DACF-44DF-9A47-B65D246E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91843-106D-478C-B726-9CDD39F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82180-4B02-4B3E-A737-D6A0AF5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E7DDB-6C2D-428F-B613-33967093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A419C-1559-43F4-8973-C82D0D33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7A786-E1B9-4715-B804-0908148F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94A1-485B-4F24-BDA6-713A0A6B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A23D-82EF-4297-91ED-D370954A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B934-6A4C-49A4-ADAD-737D93BB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C471-F83E-455E-A2C9-D75A2F56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D5B-1B14-4DD2-815C-A5C7D13F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A04F-F8F2-47F0-B1C8-28C0E3A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EE70-914D-4C70-B408-2A6A341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1860-9D84-49A7-B2C8-18C5C63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7556-E62A-44D1-B784-EBA381B0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4686-7CC3-452B-8FC5-BC00B00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F8B1-A693-4018-BC0B-9E9CA419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CD7C-523D-400B-A3A7-08B6EEE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831A-9342-4A17-AF31-D6A5B85E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DFD3-095B-4FDB-9980-3193D744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C8A00-DE5E-45D8-8C61-836AEB4B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F2B-3FBC-492A-B0A2-58A20BA8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1516F-A19C-4C8E-87CC-D9C67AC4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8D488-070F-411C-9B45-E9B880E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D4CA5-71A2-457F-BE7B-FAD8018C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01743-F90B-4003-89CE-2827E28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822A7-8081-4A64-96C8-33880891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E1C36-44B7-45AA-9AB8-0C6DDA1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A05AA-D705-4D88-97B6-1C8F8E0C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6AC50-2643-431C-8970-5B19AA1F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199B1-83FE-4079-899D-542DCB3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75B40-957D-464A-AF96-35CD8BD4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2EA-D332-4AE3-BCE4-EF3BA57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EF4E7-E861-4E81-A8EF-3574ABBD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A275C-6FFD-438B-ADAF-E53E7B1A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AB09C-7CDF-4169-A1F2-448F8BDE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7A3958-3B08-47AE-988F-0EDC469E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C7C16-1B86-4D4D-84E6-8AC2C79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385A5-2217-4BA0-A57A-966D2494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2279D-0BAE-4FE7-9AEF-42CFF04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D2019-BA93-4C1E-A24C-54163DC1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4FE53-85AC-489A-B5B3-36990A3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D9434-6BCE-4410-B882-2619B89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A6E-D6C5-4893-BC36-00B719D9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4C168-FAA5-4539-BE6D-8F0EE65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62795-E710-415D-9DD2-B227C694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97D70-3D5B-4DAD-8A05-8CB1580F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B646F-2B4F-4DE2-88EE-D976BFB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DFA840-BCB9-4D24-AA05-61AAFEF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7BBD7-0A06-4060-AD72-D03AD5C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59C72-EFCE-4D66-A41E-CA42876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51224-78EE-43B6-8BC7-68A2B735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467D1-8A9F-46CD-B44B-FDECEE09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6C79F-C501-4A26-AC96-9132A4A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83C-2A5F-44C7-8BE6-E74F81E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B6D38-76E1-495F-B904-19B26EB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2CD44-9A4D-4C3B-9D58-D4C4C63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C4AC1-3F52-42EF-97B0-C93D53E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54705-CC78-49D9-897A-8AF77CD1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A6F26-C2E8-4021-921A-321629E3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A84-DBF1-4154-860A-ACFBEC3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CFD-A1FE-4827-9107-53C74C1C9A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6C66-F1AB-4B94-AD06-65F7593145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4445-CCFD-4CCB-8DE4-40933C0364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6F7-F6A2-463F-8E8F-3C1638F481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20A7-499C-45B8-B3F3-8A868522A4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36BC-D5B9-4351-B4D1-62B03493F6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5DDF-F53E-476A-8E9C-29B9F2724F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39625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ERCENT OXYGEN LAB</a:t>
            </a:r>
            <a:br>
              <a:rPr sz="6600"/>
            </a:br>
            <a:br>
              <a:rPr sz="6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BJECTIVE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YOU AND YOUR LAB PARTNER WILL USE ANY OF THE MATERIALS AVAILABLE TO FIGURE OUT HOW TO PROVE THERE IS 21% OXYGEN IN THE AIR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31608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ab Report Format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533520" y="1447920"/>
            <a:ext cx="838188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ercent Oxygen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o prove that there is 21% oxygen in the a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Hypothesi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ame as purpose f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aterial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List like in a recipe; include every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rocedur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ut these in a numbered format. They need to be clear, as if the reader is doing this for the first time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O NOT MAKE CONCLUSIONS HERE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be presented as data table and/or graph.  Do not write a paragraph in this section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onclusion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he most important section so we will talk about this part separately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582480" y="152280"/>
            <a:ext cx="79362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uidelines to follo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of some ideas before you try them, that way you don’t waste materia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andle needs to be on a paper towel at all ti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If wax/candle is not on the paper towel, your lab group will receive a strik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n’t waste matches unless you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using them; there is a limited amoun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 strikes and you are out (receive a zero)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ight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thing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but the candle wi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reaking beak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urning another per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eaving your lab bench/horsing ar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utting matches in the sin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else I deem inappropri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7:47Z</dcterms:created>
  <dc:creator>Rachel Fritschy</dc:creator>
  <dc:description/>
  <dc:language>en-US</dc:language>
  <cp:lastModifiedBy>Rachel Pozzetti</cp:lastModifiedBy>
  <dcterms:modified xsi:type="dcterms:W3CDTF">2013-10-01T11:26:54Z</dcterms:modified>
  <cp:revision>14</cp:revision>
  <dc:subject/>
  <dc:title>Percent Oxygen Lab</dc:title>
</cp:coreProperties>
</file>