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805-719C-41B5-8119-BB6D8FAE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E52-6175-4A50-9489-DB3BFF7B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DBF-CD9D-4C48-AFCB-327E757C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546-7864-4B40-A1E3-7132925B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4EF6-55A5-4649-8744-D0C67884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53EE-F805-480C-8EEA-990EA0B3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77DA-CD26-470C-AB2B-35D8701C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9DB-39F5-4809-B4BD-337D7CF7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7489-8580-4FDA-8776-6AE75C04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EDB7-C739-4556-8B49-8256CD8A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C704-B2D8-4D32-A86E-F609D5FA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B67-E480-40DD-8B3D-7BACB7F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23CC-A0A6-42CA-A873-060B7C25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930F-E081-404B-BC48-B9B4FFF2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59A-AF2F-45B5-B835-9758A827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DCD2-1DAB-4079-B948-510FB78F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61FA-DC08-4AE4-B65F-0CE0491D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3E60C-4B93-4C35-9143-873EA3A0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399F1-1901-4BC9-A390-998785A1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39D3B-F048-4133-AD27-69C61205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B96CA-B3AF-446B-A539-AF4389F8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44AA0-CE82-43B9-952A-6EFEC687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66D-FA43-4E43-B815-E9201B80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C663E-FB6D-4288-A0E3-31DE012A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2432F-0330-4467-8022-4B3F5C64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8DF10-D1BB-4531-908B-94494A3E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644F4-652B-4FD1-B1FB-C97ECDA1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F9FB3-2DA4-4E82-A9E1-158A8228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A4B9F-CCC1-48C5-9E72-1F22AE67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BF2C9-A817-4A39-8A6D-3E46E7A5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E21C-45AD-4CB6-9C79-CB35DA6F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D83E-1425-4CE0-A90F-4557A42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9321-685E-4268-90F0-F370100F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A5B-F7CE-4253-96BB-B500F5E7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BC0D-7250-439D-8881-67BBE793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6488-52E8-422C-9EF5-D041DBA2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53330-71CE-484A-A475-4DA95478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62488-2DDF-4AF3-AA1B-CD0EB697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255C-2662-46A6-BC54-54CD7E16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54A4-0605-4E30-A257-2E47CCE2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367F-6605-45A6-A3DE-E5F466A7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AE91-1051-4990-867F-E51FAA92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A28B-1FCF-4A4B-B365-4953830B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14942-11EC-4A34-BB55-3CC46B5F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3B0-99E9-46E3-97D5-C68473EA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92140-03A4-456C-BDF1-E0F1F0B9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83640-733A-4A57-AC51-4E0CA52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E1D43-D52F-4147-A694-CD3C2C44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1270EF-ACC3-405D-9D7E-62A72942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579EE-0A68-418F-86DE-532185B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BC488-A196-4FD6-AE64-864DB27E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C3B79-42CB-4FE3-904D-B53087B5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ACD51-D23D-4A70-AB13-D3F160D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589A5-D5D3-4C0E-9C21-CE4D9DF0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159A7-9759-4496-8375-78355A32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ED9-1F88-4BA3-BC58-5B804D5A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0D4AE-18E4-4201-ABBE-7711C54A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3CDBC-998A-4F1A-BC3D-4E213847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99D9B-1B2E-4DFA-8257-8E88D7C1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C76C5-D405-4A0E-8ABE-13A3E82C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E355E-8367-4468-972C-D8E5790F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8CBD7-565C-4E42-958D-CFA52C9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E5627-3FD9-4ECC-B6AF-6CD0CF52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5DA87-0ACD-417E-8DA5-38D8AD38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4A0BD-E368-4342-97C0-BB90379F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96BF0-E6A0-46B1-AFAE-4F004E4A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C70-6514-4912-93E5-750AA961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D10B3-D3B9-454B-B264-C5602D5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3C225-4083-40D7-82DF-FAEA7BDD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8C179B-1618-4AA2-90A9-C78F70E5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0D86E-81B6-4DE6-A61D-6CF3A8F1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3978B-1E41-4575-9ED9-174036B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94EFF-4326-4B19-A701-E277E475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D3E110-404B-4AFF-8259-309FE78A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22CAE-2A02-44C9-9BE5-B3E2626B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5F960-7F9E-44DF-BD7C-17E38171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5CC76-D96C-467C-85E6-90DF30D0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9A71-78FE-4276-AEF2-F1A4DD03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A6C5E-C268-493D-BE04-E4A5617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C5EE5-A9B3-43DC-B82C-3584DD6C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702BA-437A-4994-ADD8-3A0E34E4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52F34-44A9-4E17-962A-C7009B00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63B3A9-83CE-45FC-AD34-BC1FE10B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973-7ACB-49CD-94BA-2816AA22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9EE-2CB6-44C0-95B0-1E71089FE1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B2B0-E0AE-4C86-8408-346FE93E8C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434C-C314-44A8-8A94-6B986A68BE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99F4-464B-43AF-A69B-387DCF1922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481C-4914-4C20-B278-12A4CFCB13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A9B0-CA31-4F49-9BB5-4A719A0AFB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F3C-A74C-4607-9B13-B8C5F60729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7560" y="396252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ERCENT OXYGEN LAB</a:t>
            </a:r>
            <a:br>
              <a:rPr sz="6600"/>
            </a:br>
            <a:br>
              <a:rPr sz="66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OBJECTIVE: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YOU AND YOUR LAB PARTNER WILL USE ANY OF THE MATERIALS AVAILABLE TO FIGURE OUT HOW TO PROVE THERE IS 21% OXYGEN IN THE AIR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3"/>
          <p:cNvSpPr/>
          <p:nvPr/>
        </p:nvSpPr>
        <p:spPr>
          <a:xfrm>
            <a:off x="316080" y="2286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ab Report Format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4"/>
          <p:cNvSpPr/>
          <p:nvPr/>
        </p:nvSpPr>
        <p:spPr>
          <a:xfrm>
            <a:off x="533520" y="1447920"/>
            <a:ext cx="838188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ercent Oxygen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o prove that there is 21% oxygen in the ai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Hypothesi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same as purpose for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la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aterials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List like in a recipe; include everyth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Procedure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Put these in a numbered format. They need to be clear, as if the reader is doing this for the first time.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O NOT MAKE CONCLUSIONS HERE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be presented as data table and/or graph.  Do not write a paragraph in this section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onclusion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he most important section so we will talk about this part separately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4"/>
          <p:cNvSpPr/>
          <p:nvPr/>
        </p:nvSpPr>
        <p:spPr>
          <a:xfrm>
            <a:off x="582480" y="152280"/>
            <a:ext cx="79362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uidelines to follo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nk of some ideas before you try them, that way you don’t waste material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Candle needs to be on a paper towel at all tim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If wax/candle is not on the paper towel, your lab group will receive a strik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on’t waste matches unless you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using them; there is a limited amount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 strikes and you are out (receive a zero)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ight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anything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but the candle wic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reaking beak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Burning another per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Leaving your lab bench/horsing arou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utting matches in the sin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nything else I deem inappropria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7:17:47Z</dcterms:created>
  <dc:creator>Rachel Fritschy</dc:creator>
  <dc:description/>
  <dc:language>en-US</dc:language>
  <cp:lastModifiedBy>Rachel Pozzetti</cp:lastModifiedBy>
  <dcterms:modified xsi:type="dcterms:W3CDTF">2013-10-01T11:26:54Z</dcterms:modified>
  <cp:revision>14</cp:revision>
  <dc:subject/>
  <dc:title>Percent Oxygen Lab</dc:title>
</cp:coreProperties>
</file>