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57A-6B07-45FD-82BB-FCB5D77E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3A2-B674-4BDC-930E-6C5DF099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F00-4581-45F0-8BF6-CA69F8D8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254-F506-4780-981E-E139DA32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F3CD-F9EA-43C6-A463-D20B8AF2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B549-D5C4-4E99-BCEB-121C6051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ADB7-772A-4724-9763-97A4FB89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4B19-18B5-4834-A67B-E1A62A78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F131-12C8-4709-910D-C3F267F4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080A-24A8-4F23-824F-1A56A9CA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5983-C22D-4B1B-91FC-5F669BD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7FB-398D-4527-8EBC-CDAD246D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0AB8-46C0-4A9A-8A10-B594127F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28DC-6F53-4077-AD47-4A90F868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FB5E-D8BF-4E1C-B25B-A873D8FD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01AB-715E-401C-A1BB-E0A50979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C01A-5FC8-4BDA-8E79-B17EFAAA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3EBEE-92C5-41BF-BB7C-60E2BC51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61042-2291-4534-A99B-B7B2B0F2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C39ED-41F6-42DB-A343-AB7B7A2F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1B264-705C-4D30-87F2-E990A2C6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E693A-7313-4406-BD33-58E4C055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F75-F757-4DCB-8CA3-59893CF5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8EE0A-7861-401C-9A1F-B0D097FB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1CB07-D5BC-45D0-A865-D28841DE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A2264-271C-4D0F-BB56-523C4EF7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CB52B-6E06-468B-AE4D-A50D4210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02A67-EB88-4A85-8B33-FC6104AE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E93FE-B95E-4412-BE3B-D2C6B3A2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E852C-565C-4E26-9562-6E5DBF09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15F16-DC28-4C3A-AD10-D0554F82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62229-5144-4DEA-B2CA-4986EC5A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26BB9-17D5-4608-9CFA-7DE9F95B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656-4BE8-4DFA-BB2A-42B44704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C0AC3-3D2B-4590-BCF3-CCC4CAD4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5B03-2445-4B92-8DCD-85E38DD7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C5927-51D7-4051-B7C6-26BD7D65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BE5C0-F183-45B0-AC76-D4E7210B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573E-65BB-44A6-833E-C9BF1926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62F0-ED33-4BC8-9026-D94E841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5D2B9-09CA-4606-AA29-F06714A3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59F4-E205-4AE0-95A0-3266E7FF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8B5B-BA69-4260-9D03-2630116F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F4BE9-EC3E-4318-AA74-B6BBFC13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D45-47E6-44FC-8311-6AEF03AD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E2840-B76E-4C79-B675-1E7BDD64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8122B-52CE-43BC-8278-4B4DD656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95E2D-0F81-49D0-AA51-483F26D7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7F1E2-3EA3-4F7A-B235-16F47607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492370-A5AF-428E-98A3-D02450A3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7477D-F611-411D-A1AC-DC34EE80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016AB-EC90-4110-9D94-79C01CA0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EA957-5163-4287-8EC9-CCC41ECD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125FD-DA1F-4640-9A1B-D12418A5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9FD16-3767-4293-B9BF-43F1E3A5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19D-D17B-40BB-A24B-1F12A676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3E46F-A9DD-4AEE-9CA9-BD632017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98924-FBB5-43E7-8205-5D24AEED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62042-CD48-4548-93A8-DACF00C9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9160B-87BE-4C6A-B087-A7BFBA36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CCFC0-914A-4AB9-A2A2-6518F346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F746C-0712-4470-8C6E-16C894D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505A2-6D7F-41F6-8D5B-0707550D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A3C7D-3653-40BD-8EA4-94D2D478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3BDFC-E322-4243-A2AD-274059C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890E7-6A80-44C4-8552-85E7502B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1A7-F059-4E30-9850-C4E3A53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1B115-AF08-4485-98EF-32A4B734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AABC64-FD99-4C57-BFFA-6AF80265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68965-4E2F-4FE4-8E52-5BD54056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0822C-D72B-4094-B8FA-8871B8E4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D197B3-C42E-4B56-885B-45C75A32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13A32-FACC-487D-8746-93582492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E3DDA-F708-460F-8D22-C26FEEF7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DD86A-0FD5-4D4A-A2F5-33E78A8A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C38F90-CC29-4179-AB96-BAFB4F2B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C129B-ABCD-4546-B0AE-665E4EA4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2ED-21FA-403C-B5BD-3952ED78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2D5A0-F5E9-4E65-992E-ED8DA12B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2035C-E514-4899-BDB9-B465D5E7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C995C-272C-4441-92E7-8AB9AC69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7DEB6-8505-463C-8CA2-C326E575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6AC8E-EABE-4E8C-A5FD-5F5BA58B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4D0-359C-4B67-87C0-F821DF9F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4F9A-2034-489E-803C-E0C3B14C47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AD32-B4F1-4556-8FF7-8D238EDC6A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20F1-FE47-4604-912D-E0B1CB4949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8086-AAA6-45BD-8283-5538CC52C7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28AC-E7CA-4BC5-99A8-ADFAECCD72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A894-503F-40EB-BEB6-36522D38D8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0765-1318-4819-A2FE-91262528DC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560" y="396252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PERCENT OXYGEN LAB</a:t>
            </a:r>
            <a:br>
              <a:rPr sz="6600"/>
            </a:br>
            <a:br>
              <a:rPr sz="66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OBJECTIVE: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YOU AND YOUR LAB PARTNER WILL USE ANY OF THE MATERIALS AVAILABLE TO FIGURE OUT HOW TO PROVE THERE IS 21% OXYGEN IN THE AIR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3"/>
          <p:cNvSpPr/>
          <p:nvPr/>
        </p:nvSpPr>
        <p:spPr>
          <a:xfrm>
            <a:off x="31608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Lab Report Format: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533520" y="1447920"/>
            <a:ext cx="838188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Percent Oxygen La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To prove that there is 21% oxygen in the ai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Hypothesi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same as purpose for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la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aterial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List like in a recipe; include everyth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Procedur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Put these in a numbered format. They need to be clear, as if the reader is doing this for the first time.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O NOT MAKE CONCLUSIONS HERE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Data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be presented as data table and/or graph.  Do not write a paragraph in this section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Conclusion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The most important section so we will talk about this part separately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4"/>
          <p:cNvSpPr/>
          <p:nvPr/>
        </p:nvSpPr>
        <p:spPr>
          <a:xfrm>
            <a:off x="582480" y="152280"/>
            <a:ext cx="793620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uidelines to follo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k of some ideas before you try them, that way you don’t waste material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Candle needs to be on a paper towel at all tim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If wax/candle is not on the paper towel, your lab group will receive a strik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on’t waste matches unless you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actually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using them; there is a limited amount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 strikes and you are out (receive a zero)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ight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thing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but the candle wic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Breaking beak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Burning another pers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eaving your lab bench/horsing arou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utting matches in the sin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nything else I deem inappropria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7:17:47Z</dcterms:created>
  <dc:creator>Rachel Fritschy</dc:creator>
  <dc:description/>
  <dc:language>en-US</dc:language>
  <cp:lastModifiedBy>Rachel Pozzetti</cp:lastModifiedBy>
  <dcterms:modified xsi:type="dcterms:W3CDTF">2013-10-01T11:26:54Z</dcterms:modified>
  <cp:revision>14</cp:revision>
  <dc:subject/>
  <dc:title>Percent Oxygen Lab</dc:title>
</cp:coreProperties>
</file>