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51BC-FF2C-42BA-A679-9BC5EDBD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043A-3AC5-47C8-BE0C-CB66AECB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2DB1-B4B2-4A65-A7E6-F2F7D56B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343B-1F28-44FD-B922-5E4FAC688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F20C-9E75-4350-B381-33EDADAB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00F5-BD36-4192-8460-DDAC19E9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0CBA-ADAA-4589-9E05-077A2350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B8D7-B46B-4751-8CC8-EB801420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ABEC-7107-4D5E-82D1-79AF70BC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8629-79B2-4D16-B073-E11BC380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1765-FDD6-4D2D-8714-1110E6B5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63B9-0CD1-4A73-BA78-A30ED35E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02C3-DAC2-45FE-A87F-5A299540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B310-626E-4E22-8713-B331BF93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6D1A-7FA4-42B2-939C-C186DCA7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752C-32CF-4176-94A7-C6CFADD80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06A1-86C5-41B6-AC7B-A5A346C3C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27261B-2B3E-4627-84DF-21AF5AE77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12E8AE-91B1-4D09-B79A-2400ABB9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7F1F5D-74E2-41CE-A937-4F382713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4C5C97-BCD6-4DC1-A99A-A557180B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217FC9-C073-4128-8956-E2715660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EF51-61A1-4E08-AAC7-D955F096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DA2340-63A8-45EA-9C95-F0CE0D9C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3A1B10-7C80-4F14-874D-E594807D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2BE1C4-00DF-4CE5-8930-34A5383B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318B3D-2CDD-47F4-85CF-BF432E18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E309CF-24FC-4AFC-8250-0DF83DC3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7FB4E9-9CAA-40D2-B1FD-76D3769B4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32D823-C9B0-44D3-BACD-9E61968AC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20CE1-3BF4-4A52-86AF-AC9B03C2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0E184-02F8-4320-BB58-0942E21A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0F75E-C6D1-46D3-B291-61548977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2AEE-8C1A-4B87-9E8E-9C5D29EA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16F5A-7BE0-44F8-BD40-CD0752E4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83DBF-27EC-405C-AAF8-6BBC6049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A4362-58D3-4226-9C56-DA3EFDBE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EEBAC-207E-4AAF-96E7-8D82E8BD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6538C-640E-4C86-841C-54A8E947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E169B-9CD5-4872-85A7-9D988818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FD19F-48E2-43FD-98FC-C945B796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68109-05C7-48F9-BC36-1F6163C4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7D1CA-FEC8-439F-B429-35B1AF479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25458C-C980-489C-A9BC-7AFEF93D5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E81F-165B-453A-98AC-513759A8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541A5D-0F80-4DB8-8E3F-B4E186DE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9241F3-9D61-4B85-AAAA-D4D03DDE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F497C0-C67D-42A3-B495-575DD872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CB8AAA-5F64-4D24-8075-78649E43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123727-6AF8-4E8F-96F2-40D7E56A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7C3C2F-2812-4328-B222-9F09DF6F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CDDA2D-A8BE-423C-B638-FC50E130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CBB616-F597-4CAB-8797-E06AA5CD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546BD0-9535-4958-BCA3-95734388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6FAAB0-924A-46AA-821B-5511D0AF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C1A0-2CEB-4105-9BD7-C6E12232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17E491-1192-437E-95F5-EB5EBC2F5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EC64FC-783B-4790-BD97-9B07EC31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9BE9A2-B7A6-4F8C-92B6-BB4993BC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515CDD-9BBD-4DB6-A0EA-006C91EC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B7E080-5E2A-4D16-B465-70399AFA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27F085-F0CC-4CC2-B970-0B4A5AD2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D9E1E9-5423-454B-AAA0-EE30A555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AB0873-E5C2-4945-BE2F-E4FE3986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306183-91A9-4075-9802-30029EA8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832928-6A6D-4C5C-B7AA-66135BBE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9DE4-33A8-4BA3-A8BB-DA30E544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232F81-17AA-4033-A228-E1450A28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5133AA-70E3-4682-BB90-AB763942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6DA6EC-F55D-4B54-9069-615931F9B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2249CF-9713-4C4A-B37D-84A69490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C44DC2-DC72-4701-9B8A-3263772D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4A8B7B-4F50-49C2-A4D0-B1AFF243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90A27E-C1E1-48D3-8F99-76133FA8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131A66-E211-4BDE-81D3-FE8AFCF4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C0DB45-F3AE-495B-A812-56F06654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8664B3-1649-4EE3-B482-E8511E92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F785-0DF7-42BA-8741-9336F0AA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D0B246-B30E-423B-A65A-EF386D7A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7FB2D8-70C5-43C5-B6FF-EC221A0F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CDD4B0-2E4D-4FD0-84BF-CB39B78D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5DB0C7-7456-4647-AD31-2871DFB6E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6060C5-AF32-4C1B-BF49-0016BB7AA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366C-5453-4723-9C67-D0E9E9B5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BED6-22C0-403E-9E1B-823858E80C3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D67D-ADDB-4C1D-8A68-3B7D493436E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29D8-2087-4DD0-9A6F-C305B0BC4EB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11BA-B1CE-4B3D-8144-1FCEEE87BF4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0C24-A056-4698-B5E1-64819EDA18C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BB09-5BD1-4011-8C0F-05A9FFAD0B1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2F97-2B98-4C7D-87C5-D2F1108F629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47560" y="396252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entury Schoolbook"/>
              </a:rPr>
              <a:t>PERCENT OXYGEN LAB</a:t>
            </a:r>
            <a:br>
              <a:rPr sz="6600"/>
            </a:br>
            <a:br>
              <a:rPr sz="66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OBJECTIVE: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YOU AND YOUR LAB PARTNER WILL USE ANY OF THE MATERIALS AVAILABLE TO FIGURE OUT HOW TO PROVE THERE IS 21% OXYGEN IN THE AIR.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Box 3"/>
          <p:cNvSpPr/>
          <p:nvPr/>
        </p:nvSpPr>
        <p:spPr>
          <a:xfrm>
            <a:off x="316080" y="2286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Lab Report Format: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TextBox 4"/>
          <p:cNvSpPr/>
          <p:nvPr/>
        </p:nvSpPr>
        <p:spPr>
          <a:xfrm>
            <a:off x="533520" y="1447920"/>
            <a:ext cx="8381880" cy="48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Title: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Percent Oxygen Lab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Purpose: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To prove that there is 21% oxygen in the ai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Hypothesis: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same as purpose for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lab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Materials: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List like in a recipe; include everyth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Procedure: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Put these in a numbered format. They need to be clear, as if the reader is doing this for the first time.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O NOT MAKE CONCLUSIONS HERE!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Data: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Needs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o be presented as data table and/or graph.  Do not write a paragraph in this section!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Conclusion: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The most important section so we will talk about this part separately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4"/>
          <p:cNvSpPr/>
          <p:nvPr/>
        </p:nvSpPr>
        <p:spPr>
          <a:xfrm>
            <a:off x="582480" y="152280"/>
            <a:ext cx="7936200" cy="63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Guidelines to follow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nk of some ideas before you try them, that way you don’t waste material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Candle needs to be on a paper towel at all times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. If wax/candle is not on the paper towel, your lab group will receive a strike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on’t waste matches unless you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actually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using them; there is a limited amount!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3 strikes and you are out (receive a zero)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Lighting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anything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 but the candle wick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Breaking beaker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Burning another pers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Leaving your lab bench/horsing aroun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Putting matches in the sink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Anything else I deem inappropriat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17:17:47Z</dcterms:created>
  <dc:creator>Rachel Fritschy</dc:creator>
  <dc:description/>
  <dc:language>en-US</dc:language>
  <cp:lastModifiedBy>Rachel Pozzetti</cp:lastModifiedBy>
  <dcterms:modified xsi:type="dcterms:W3CDTF">2013-10-01T11:26:54Z</dcterms:modified>
  <cp:revision>14</cp:revision>
  <dc:subject/>
  <dc:title>Percent Oxygen Lab</dc:title>
</cp:coreProperties>
</file>