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237663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D33-D600-4B48-A329-C8E580CE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A21-C707-4E98-9CD8-E5F4620E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BA2-C677-424A-B1B9-E1AC92E6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F55-F65D-4ABF-B1FD-E1721EC0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1F2-EFA5-4987-A71E-ACD4687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CB8-6D8A-40B5-9635-ACA200A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F12D-25F8-420A-AF87-47AADFD2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F4E-470D-4414-B94C-A26AB0E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C92-CCF1-414C-ACCA-BE5C33E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8E2-F5D4-4A6D-8D44-D54A0747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0DD-7610-4950-B224-9EAA36D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7BC-3CCF-4EB7-8656-1C81C19E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7BCD-63AB-40F9-991F-ACE8FC202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tatic.ddmcdn.com/gif/extinction-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3284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2921040" y="62866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http://www.bbc.co.uk/nature/history_of_the_ear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5" descr=""/>
          <p:cNvPicPr/>
          <p:nvPr/>
        </p:nvPicPr>
        <p:blipFill>
          <a:blip r:embed="rId2"/>
          <a:stretch/>
        </p:blipFill>
        <p:spPr>
          <a:xfrm>
            <a:off x="792000" y="1163520"/>
            <a:ext cx="75470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33440" y="295200"/>
            <a:ext cx="848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ucmp.berkeley.edu/mesozoic/mesozoic.gif"/>
          <p:cNvPicPr/>
          <p:nvPr/>
        </p:nvPicPr>
        <p:blipFill>
          <a:blip r:embed="rId1"/>
          <a:stretch/>
        </p:blipFill>
        <p:spPr>
          <a:xfrm>
            <a:off x="2590920" y="1752480"/>
            <a:ext cx="3504960" cy="469908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5"/>
          <p:cNvCxnSpPr/>
          <p:nvPr/>
        </p:nvCxnSpPr>
        <p:spPr>
          <a:xfrm flipH="1">
            <a:off x="5714640" y="4740120"/>
            <a:ext cx="175320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1" name="Straight Connector 6"/>
          <p:cNvSpPr/>
          <p:nvPr/>
        </p:nvSpPr>
        <p:spPr>
          <a:xfrm>
            <a:off x="3733920" y="51814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6240" y="147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Triassic-Jurassic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20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75248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2 to 3 phases of this extinction over 18 m.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ny animals died out; marine reptiles, amphibians, some reef-building comm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bout 50% of all life was predicted to have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Plants, mysteriously, were not affected very mu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Postosuchus with a kill"/>
          <p:cNvPicPr/>
          <p:nvPr/>
        </p:nvPicPr>
        <p:blipFill>
          <a:blip r:embed="rId1"/>
          <a:stretch/>
        </p:blipFill>
        <p:spPr>
          <a:xfrm>
            <a:off x="2265480" y="3733920"/>
            <a:ext cx="4613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ucmp.berkeley.edu/mesozoic/mesozoic.gif"/>
          <p:cNvPicPr/>
          <p:nvPr/>
        </p:nvPicPr>
        <p:blipFill>
          <a:blip r:embed="rId1"/>
          <a:srcRect l="0" t="0" r="8544" b="0"/>
          <a:stretch/>
        </p:blipFill>
        <p:spPr>
          <a:xfrm>
            <a:off x="990720" y="2286000"/>
            <a:ext cx="3392280" cy="2766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www.ucmp.berkeley.edu/cenozoic/tertiary.gif"/>
          <p:cNvPicPr/>
          <p:nvPr/>
        </p:nvPicPr>
        <p:blipFill>
          <a:blip r:embed="rId2"/>
          <a:srcRect l="11004" t="0" r="0" b="0"/>
          <a:stretch/>
        </p:blipFill>
        <p:spPr>
          <a:xfrm>
            <a:off x="4383000" y="2292480"/>
            <a:ext cx="3327480" cy="2789280"/>
          </a:xfrm>
          <a:prstGeom prst="rect">
            <a:avLst/>
          </a:prstGeom>
          <a:ln w="0">
            <a:noFill/>
          </a:ln>
        </p:spPr>
      </p:pic>
      <p:sp>
        <p:nvSpPr>
          <p:cNvPr id="78" name="Straight Connector 6"/>
          <p:cNvSpPr/>
          <p:nvPr/>
        </p:nvSpPr>
        <p:spPr>
          <a:xfrm>
            <a:off x="4383000" y="2089080"/>
            <a:ext cx="0" cy="3160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 flipH="1" flipV="1">
            <a:off x="4479480" y="5249520"/>
            <a:ext cx="1656720" cy="954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19040" y="147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Cretaceous-Tertiary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65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57200" y="1752480"/>
            <a:ext cx="8572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K-T Mas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Famous for the death of the din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inos, however, weren’t the only organisms to go extin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mmon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any flowering plants (angiosp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terosa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orized that flood basalt eruptions severely affected climate change and caused many of these species to be on the decline well before this exti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Huge asteroid hit in Yucatan Peninsula which pushed these dwindling species over the 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Two prehistoric marine reptiles (Elasmosaurus) catching fish underwater"/>
          <p:cNvPicPr/>
          <p:nvPr/>
        </p:nvPicPr>
        <p:blipFill>
          <a:blip r:embed="rId1"/>
          <a:stretch/>
        </p:blipFill>
        <p:spPr>
          <a:xfrm>
            <a:off x="5200560" y="295200"/>
            <a:ext cx="3625920" cy="2238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nkylosaurus armed with thick skin, bony plates and a club like tail"/>
          <p:cNvPicPr/>
          <p:nvPr/>
        </p:nvPicPr>
        <p:blipFill>
          <a:blip r:embed="rId2"/>
          <a:stretch/>
        </p:blipFill>
        <p:spPr>
          <a:xfrm>
            <a:off x="228600" y="264960"/>
            <a:ext cx="3886200" cy="239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Fossilized ammonite"/>
          <p:cNvPicPr/>
          <p:nvPr/>
        </p:nvPicPr>
        <p:blipFill>
          <a:blip r:embed="rId3"/>
          <a:stretch/>
        </p:blipFill>
        <p:spPr>
          <a:xfrm>
            <a:off x="228600" y="3487680"/>
            <a:ext cx="3835440" cy="236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terosaurs catching fish from the sea"/>
          <p:cNvPicPr/>
          <p:nvPr/>
        </p:nvPicPr>
        <p:blipFill>
          <a:blip r:embed="rId4"/>
          <a:stretch/>
        </p:blipFill>
        <p:spPr>
          <a:xfrm>
            <a:off x="5562720" y="4791240"/>
            <a:ext cx="3363840" cy="207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 pair of Tyrannosaurus rex in a misty landscape"/>
          <p:cNvPicPr/>
          <p:nvPr/>
        </p:nvPicPr>
        <p:blipFill>
          <a:blip r:embed="rId5"/>
          <a:stretch/>
        </p:blipFill>
        <p:spPr>
          <a:xfrm>
            <a:off x="3733920" y="2438280"/>
            <a:ext cx="3959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http://ottawa-rasc.ca/wiki/images/c/c3/Odale_extinction.jpg"/>
          <p:cNvPicPr/>
          <p:nvPr/>
        </p:nvPicPr>
        <p:blipFill>
          <a:blip r:embed="rId1"/>
          <a:stretch/>
        </p:blipFill>
        <p:spPr>
          <a:xfrm>
            <a:off x="190440" y="1066680"/>
            <a:ext cx="8763120" cy="45594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838080" y="763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440 million years ag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5"/>
          <p:cNvCxnSpPr/>
          <p:nvPr/>
        </p:nvCxnSpPr>
        <p:spPr>
          <a:xfrm flipH="1">
            <a:off x="4952160" y="426708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" name="Straight Connector 7"/>
          <p:cNvSpPr/>
          <p:nvPr/>
        </p:nvSpPr>
        <p:spPr>
          <a:xfrm>
            <a:off x="2971800" y="470844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838080" y="7632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Ordovician-Silurian Mass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2280" y="1555920"/>
            <a:ext cx="6019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largest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Actually h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peaks in which the extinction was the greatest over hundreds of thousands of y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During this time, most life on Earth existed in the oceans which is where the most damage occur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early 85% of sea life was wiped 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The reason?  The most accepted cause of this extinction was an ice age that not only caused drastic cooling but it caused sea-levels to dr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csulb.edu/depts/geology/research/graptolites.jpg"/>
          <p:cNvPicPr/>
          <p:nvPr/>
        </p:nvPicPr>
        <p:blipFill>
          <a:blip r:embed="rId1"/>
          <a:stretch/>
        </p:blipFill>
        <p:spPr>
          <a:xfrm>
            <a:off x="6477120" y="1752480"/>
            <a:ext cx="204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519480" y="217440"/>
            <a:ext cx="81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pratclif.com/geology/paleozoic_fichiers/paleozoic.gif"/>
          <p:cNvPicPr/>
          <p:nvPr/>
        </p:nvPicPr>
        <p:blipFill>
          <a:blip r:embed="rId1"/>
          <a:stretch/>
        </p:blipFill>
        <p:spPr>
          <a:xfrm>
            <a:off x="1676520" y="1606680"/>
            <a:ext cx="3778200" cy="5065560"/>
          </a:xfrm>
          <a:prstGeom prst="rect">
            <a:avLst/>
          </a:prstGeom>
          <a:ln w="0">
            <a:noFill/>
          </a:ln>
        </p:spPr>
      </p:pic>
      <p:cxnSp>
        <p:nvCxnSpPr>
          <p:cNvPr id="53" name="Straight Arrow Connector 5"/>
          <p:cNvCxnSpPr/>
          <p:nvPr/>
        </p:nvCxnSpPr>
        <p:spPr>
          <a:xfrm flipH="1">
            <a:off x="4952160" y="3292560"/>
            <a:ext cx="1753560" cy="442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Straight Connector 6"/>
          <p:cNvSpPr/>
          <p:nvPr/>
        </p:nvSpPr>
        <p:spPr>
          <a:xfrm>
            <a:off x="2971800" y="373392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09520" y="2514600"/>
            <a:ext cx="8915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Also known as the “Kellwasser Event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75% of all species on Earth died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elieved to have been a series of extinctions over millions of yea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Marine life was the worse affected with coral reefs suffering the most. Actually, coral reefs didn’t rebound until well over a 100 m.y. later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Bacteria was practically the only organism that could survive in the oxygen deprived oce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Unknown caus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  <a:ea typeface="Arial"/>
              </a:rPr>
              <a:t> theories include climate change, asteroid impact, invasion of new species affecting surrounding ecosyste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08080" y="190440"/>
            <a:ext cx="556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Late Devon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36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upload.wikimedia.org/wikipedia/commons/4/4f/Ancient_coral_reefs.jpg"/>
          <p:cNvPicPr/>
          <p:nvPr/>
        </p:nvPicPr>
        <p:blipFill>
          <a:blip r:embed="rId1"/>
          <a:srcRect l="8403" t="0" r="0" b="0"/>
          <a:stretch/>
        </p:blipFill>
        <p:spPr>
          <a:xfrm>
            <a:off x="5867280" y="685800"/>
            <a:ext cx="3071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ucmp.berkeley.edu/mesozoic/mesozoic.gif"/>
          <p:cNvPicPr/>
          <p:nvPr/>
        </p:nvPicPr>
        <p:blipFill>
          <a:blip r:embed="rId1"/>
          <a:srcRect l="10644" t="7722" r="4956" b="8880"/>
          <a:stretch/>
        </p:blipFill>
        <p:spPr>
          <a:xfrm>
            <a:off x="4560840" y="2106720"/>
            <a:ext cx="3637080" cy="2681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pratclif.com/geology/paleozoic_fichiers/paleozoic.gif"/>
          <p:cNvPicPr/>
          <p:nvPr/>
        </p:nvPicPr>
        <p:blipFill>
          <a:blip r:embed="rId2"/>
          <a:srcRect l="0" t="0" r="7908" b="0"/>
          <a:stretch/>
        </p:blipFill>
        <p:spPr>
          <a:xfrm>
            <a:off x="533520" y="1828800"/>
            <a:ext cx="4038480" cy="32353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8"/>
          <p:cNvSpPr/>
          <p:nvPr/>
        </p:nvSpPr>
        <p:spPr>
          <a:xfrm>
            <a:off x="4551480" y="1905120"/>
            <a:ext cx="0" cy="315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1"/>
          <p:cNvCxnSpPr/>
          <p:nvPr/>
        </p:nvCxnSpPr>
        <p:spPr>
          <a:xfrm flipH="1" flipV="1">
            <a:off x="4647600" y="5063400"/>
            <a:ext cx="1656360" cy="956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74400" y="217440"/>
            <a:ext cx="659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Permian Mass Extinc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  <a:ea typeface="Arial"/>
              </a:rPr>
              <a:t>250 million years a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204840" y="156996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Nicknamed “The Great Dying” for being the largest mass extinction in Earth’s 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Killed 96% of marine life and 70% of terrestrial verteb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Most likely happened over millions of years with several waves of extinction, as opposed to one large ev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Only mass extinction known to affect ins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Possible C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  <a:ea typeface="Arial"/>
              </a:rPr>
              <a:t> first phase was probably due to global climate change, then increased volcanism, abundant release of methane which led to anoxia, sea-level change, a possibly a shift in ocean circulation due to climate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2.bp.blogspot.com/-YHnE0XyuMMs/T4ChGo5liLI/AAAAAAAAAh0/PoV1A_nlhEg/s1600/trilobite.jpg"/>
          <p:cNvPicPr/>
          <p:nvPr/>
        </p:nvPicPr>
        <p:blipFill>
          <a:blip r:embed="rId1"/>
          <a:stretch/>
        </p:blipFill>
        <p:spPr>
          <a:xfrm>
            <a:off x="458640" y="26668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A eurypterid - also known as a sea scorpion - catching the heavily armoured fish, Pteraspis"/>
          <p:cNvPicPr/>
          <p:nvPr/>
        </p:nvPicPr>
        <p:blipFill>
          <a:blip r:embed="rId2"/>
          <a:stretch/>
        </p:blipFill>
        <p:spPr>
          <a:xfrm>
            <a:off x="3886200" y="380880"/>
            <a:ext cx="47386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upload.wikimedia.org/wikipedia/en/thumb/9/91/Extinction_Intensity.png/325px-Extinction_Intensity.png"/>
          <p:cNvPicPr/>
          <p:nvPr/>
        </p:nvPicPr>
        <p:blipFill>
          <a:blip r:embed="rId1"/>
          <a:stretch/>
        </p:blipFill>
        <p:spPr>
          <a:xfrm>
            <a:off x="838080" y="716040"/>
            <a:ext cx="731520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12:12:14Z</dcterms:created>
  <dc:creator>Rachel Pozzetti</dc:creator>
  <dc:description/>
  <dc:language>en-US</dc:language>
  <cp:lastModifiedBy>Rachel Pozzetti</cp:lastModifiedBy>
  <cp:lastPrinted>2014-06-10T11:57:15Z</cp:lastPrinted>
  <dcterms:modified xsi:type="dcterms:W3CDTF">2014-06-10T11:57:30Z</dcterms:modified>
  <cp:revision>18</cp:revision>
  <dc:subject/>
  <dc:title>PowerPoint Presentation</dc:title>
</cp:coreProperties>
</file>