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C5D-22E7-40AB-A173-C7F2372B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16E-3FAB-4119-8B29-3C749D97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CFC-0086-42C8-8AE1-F18CBD8A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73F-C2F8-48FA-841B-C87E0D95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430-257F-406D-8E51-856BC14E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EC3-CD98-414C-918F-D116AD7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B0F-28A8-422C-9F94-50217F34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590-395A-44B5-B4AA-31A722DC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F38-7BAE-42FE-9926-7DCF7706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1E9-DDEC-4349-BE41-07F6D2E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61D-634E-4547-9BD0-069A491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A5F-1380-4542-B535-4917AB16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D6ED-C079-4EB3-BB6E-C89C563EC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tatic.ddmcdn.com/gif/extinction-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3284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92104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ttp://www.bbc.co.uk/nature/history_of_the_ear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2"/>
          <a:stretch/>
        </p:blipFill>
        <p:spPr>
          <a:xfrm>
            <a:off x="792000" y="1163520"/>
            <a:ext cx="7547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33440" y="295200"/>
            <a:ext cx="848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ucmp.berkeley.edu/mesozoic/mesozoic.gif"/>
          <p:cNvPicPr/>
          <p:nvPr/>
        </p:nvPicPr>
        <p:blipFill>
          <a:blip r:embed="rId1"/>
          <a:stretch/>
        </p:blipFill>
        <p:spPr>
          <a:xfrm>
            <a:off x="2590920" y="1752480"/>
            <a:ext cx="3504960" cy="469908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5"/>
          <p:cNvCxnSpPr/>
          <p:nvPr/>
        </p:nvCxnSpPr>
        <p:spPr>
          <a:xfrm flipH="1">
            <a:off x="5714640" y="4740120"/>
            <a:ext cx="175320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Straight Connector 6"/>
          <p:cNvSpPr/>
          <p:nvPr/>
        </p:nvSpPr>
        <p:spPr>
          <a:xfrm>
            <a:off x="3733920" y="51814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6240" y="147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57200" y="175248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2 to 3 phases of this extinction over 18 m.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ny animals died out; marine reptiles, amphibians, some reef-building comm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bout 50% of all life was predicted to have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Plants, mysteriously, were not affected very mu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Postosuchus with a kill"/>
          <p:cNvPicPr/>
          <p:nvPr/>
        </p:nvPicPr>
        <p:blipFill>
          <a:blip r:embed="rId1"/>
          <a:stretch/>
        </p:blipFill>
        <p:spPr>
          <a:xfrm>
            <a:off x="2265480" y="3733920"/>
            <a:ext cx="46130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ucmp.berkeley.edu/mesozoic/mesozoic.gif"/>
          <p:cNvPicPr/>
          <p:nvPr/>
        </p:nvPicPr>
        <p:blipFill>
          <a:blip r:embed="rId1"/>
          <a:srcRect l="0" t="0" r="8544" b="0"/>
          <a:stretch/>
        </p:blipFill>
        <p:spPr>
          <a:xfrm>
            <a:off x="990720" y="2286000"/>
            <a:ext cx="3392280" cy="2766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ucmp.berkeley.edu/cenozoic/tertiary.gif"/>
          <p:cNvPicPr/>
          <p:nvPr/>
        </p:nvPicPr>
        <p:blipFill>
          <a:blip r:embed="rId2"/>
          <a:srcRect l="11004" t="0" r="0" b="0"/>
          <a:stretch/>
        </p:blipFill>
        <p:spPr>
          <a:xfrm>
            <a:off x="4383000" y="2292480"/>
            <a:ext cx="3327480" cy="2789280"/>
          </a:xfrm>
          <a:prstGeom prst="rect">
            <a:avLst/>
          </a:prstGeom>
          <a:ln w="0">
            <a:noFill/>
          </a:ln>
        </p:spPr>
      </p:pic>
      <p:sp>
        <p:nvSpPr>
          <p:cNvPr id="78" name="Straight Connector 6"/>
          <p:cNvSpPr/>
          <p:nvPr/>
        </p:nvSpPr>
        <p:spPr>
          <a:xfrm>
            <a:off x="4383000" y="2089080"/>
            <a:ext cx="0" cy="3160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 flipH="1" flipV="1">
            <a:off x="4479480" y="5249520"/>
            <a:ext cx="1656720" cy="954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1752480"/>
            <a:ext cx="857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K-T Mas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Famous for the death of the din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inos, however, weren’t the only organisms to go extin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mmo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any flowering plants (angiosp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ter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orized that flood basalt eruptions severely affected climate change and caused many of these species to be on the decline well before thi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Huge asteroid hit in Yucatan Peninsula which pushed these dwindling species over the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Two prehistoric marine reptiles (Elasmosaurus) catching fish underwater"/>
          <p:cNvPicPr/>
          <p:nvPr/>
        </p:nvPicPr>
        <p:blipFill>
          <a:blip r:embed="rId1"/>
          <a:stretch/>
        </p:blipFill>
        <p:spPr>
          <a:xfrm>
            <a:off x="5200560" y="295200"/>
            <a:ext cx="3625920" cy="223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nkylosaurus armed with thick skin, bony plates and a club like tail"/>
          <p:cNvPicPr/>
          <p:nvPr/>
        </p:nvPicPr>
        <p:blipFill>
          <a:blip r:embed="rId2"/>
          <a:stretch/>
        </p:blipFill>
        <p:spPr>
          <a:xfrm>
            <a:off x="228600" y="264960"/>
            <a:ext cx="3886200" cy="239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Fossilized ammonite"/>
          <p:cNvPicPr/>
          <p:nvPr/>
        </p:nvPicPr>
        <p:blipFill>
          <a:blip r:embed="rId3"/>
          <a:stretch/>
        </p:blipFill>
        <p:spPr>
          <a:xfrm>
            <a:off x="228600" y="3487680"/>
            <a:ext cx="3835440" cy="236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terosaurs catching fish from the sea"/>
          <p:cNvPicPr/>
          <p:nvPr/>
        </p:nvPicPr>
        <p:blipFill>
          <a:blip r:embed="rId4"/>
          <a:stretch/>
        </p:blipFill>
        <p:spPr>
          <a:xfrm>
            <a:off x="5562720" y="4791240"/>
            <a:ext cx="3363840" cy="207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 pair of Tyrannosaurus rex in a misty landscape"/>
          <p:cNvPicPr/>
          <p:nvPr/>
        </p:nvPicPr>
        <p:blipFill>
          <a:blip r:embed="rId5"/>
          <a:stretch/>
        </p:blipFill>
        <p:spPr>
          <a:xfrm>
            <a:off x="3733920" y="2438280"/>
            <a:ext cx="39592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ottawa-rasc.ca/wiki/images/c/c3/Odale_extinction.jpg"/>
          <p:cNvPicPr/>
          <p:nvPr/>
        </p:nvPicPr>
        <p:blipFill>
          <a:blip r:embed="rId1"/>
          <a:stretch/>
        </p:blipFill>
        <p:spPr>
          <a:xfrm>
            <a:off x="190440" y="1066680"/>
            <a:ext cx="8763120" cy="45594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838080" y="763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44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/>
          <p:nvPr/>
        </p:nvCxnSpPr>
        <p:spPr>
          <a:xfrm flipH="1">
            <a:off x="4952160" y="426708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7" name="Straight Connector 7"/>
          <p:cNvSpPr/>
          <p:nvPr/>
        </p:nvSpPr>
        <p:spPr>
          <a:xfrm>
            <a:off x="2971800" y="470844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838080" y="7632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2280" y="1555920"/>
            <a:ext cx="6019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largest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ctually h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peaks in which the extinction was the greatest over hundreds of thousands of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uring this time, most life on Earth existed in the oceans which is where the most damage occur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early 85% of sea life was wip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 reason?  The most accepted cause of this extinction was an ice age that not only caused drastic cooling but it caused sea-levels to d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www.csulb.edu/depts/geology/research/graptolites.jpg"/>
          <p:cNvPicPr/>
          <p:nvPr/>
        </p:nvPicPr>
        <p:blipFill>
          <a:blip r:embed="rId1"/>
          <a:stretch/>
        </p:blipFill>
        <p:spPr>
          <a:xfrm>
            <a:off x="6477120" y="1752480"/>
            <a:ext cx="204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19480" y="217440"/>
            <a:ext cx="81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cxnSp>
        <p:nvCxnSpPr>
          <p:cNvPr id="53" name="Straight Arrow Connector 5"/>
          <p:cNvCxnSpPr/>
          <p:nvPr/>
        </p:nvCxnSpPr>
        <p:spPr>
          <a:xfrm flipH="1">
            <a:off x="4952160" y="329256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Straight Connector 6"/>
          <p:cNvSpPr/>
          <p:nvPr/>
        </p:nvSpPr>
        <p:spPr>
          <a:xfrm>
            <a:off x="2971800" y="373392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209520" y="251460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“Kellwasser Event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75% of all species on Earth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elieved to have been a series of extinctions over millions of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rine life was the worse affected with coral reefs suffering the most. Actually, coral reefs didn’t rebound until well over a 100 m.y. later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acteria was practically the only organism that could survive in the oxygen deprived oce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Unknown caus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 theories include climate change, asteroid impact, invasion of new species affecting surrounding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08080" y="190440"/>
            <a:ext cx="55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upload.wikimedia.org/wikipedia/commons/4/4f/Ancient_coral_reefs.jpg"/>
          <p:cNvPicPr/>
          <p:nvPr/>
        </p:nvPicPr>
        <p:blipFill>
          <a:blip r:embed="rId1"/>
          <a:srcRect l="8403" t="0" r="0" b="0"/>
          <a:stretch/>
        </p:blipFill>
        <p:spPr>
          <a:xfrm>
            <a:off x="5867280" y="685800"/>
            <a:ext cx="3071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ucmp.berkeley.edu/mesozoic/mesozoic.gif"/>
          <p:cNvPicPr/>
          <p:nvPr/>
        </p:nvPicPr>
        <p:blipFill>
          <a:blip r:embed="rId1"/>
          <a:srcRect l="10644" t="7722" r="4956" b="8880"/>
          <a:stretch/>
        </p:blipFill>
        <p:spPr>
          <a:xfrm>
            <a:off x="4560840" y="2106720"/>
            <a:ext cx="3637080" cy="26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pratclif.com/geology/paleozoic_fichiers/paleozoic.gif"/>
          <p:cNvPicPr/>
          <p:nvPr/>
        </p:nvPicPr>
        <p:blipFill>
          <a:blip r:embed="rId2"/>
          <a:srcRect l="0" t="0" r="7908" b="0"/>
          <a:stretch/>
        </p:blipFill>
        <p:spPr>
          <a:xfrm>
            <a:off x="533520" y="1828800"/>
            <a:ext cx="4038480" cy="32353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8"/>
          <p:cNvSpPr/>
          <p:nvPr/>
        </p:nvSpPr>
        <p:spPr>
          <a:xfrm>
            <a:off x="4551480" y="1905120"/>
            <a:ext cx="0" cy="3159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1"/>
          <p:cNvCxnSpPr/>
          <p:nvPr/>
        </p:nvCxnSpPr>
        <p:spPr>
          <a:xfrm flipH="1" flipV="1">
            <a:off x="4647600" y="5063400"/>
            <a:ext cx="1656360" cy="95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04840" y="156996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icknamed “The Great Dying” for being the largest mass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illed 96% of marine life and 70% of terrestrial verteb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ost likely happened over millions of years with several waves of extinction, as opposed to one larg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Only mass extinction known to affect ins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ossible C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first phase was probably due to global climate change, then increased volcanism, abundant release of methane which led to anoxia, sea-level change, a possibly a shift in ocean circulation due to climate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2.bp.blogspot.com/-YHnE0XyuMMs/T4ChGo5liLI/AAAAAAAAAh0/PoV1A_nlhEg/s1600/trilobite.jpg"/>
          <p:cNvPicPr/>
          <p:nvPr/>
        </p:nvPicPr>
        <p:blipFill>
          <a:blip r:embed="rId1"/>
          <a:stretch/>
        </p:blipFill>
        <p:spPr>
          <a:xfrm>
            <a:off x="458640" y="26668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A eurypterid - also known as a sea scorpion - catching the heavily armoured fish, Pteraspis"/>
          <p:cNvPicPr/>
          <p:nvPr/>
        </p:nvPicPr>
        <p:blipFill>
          <a:blip r:embed="rId2"/>
          <a:stretch/>
        </p:blipFill>
        <p:spPr>
          <a:xfrm>
            <a:off x="3886200" y="380880"/>
            <a:ext cx="4738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upload.wikimedia.org/wikipedia/en/thumb/9/91/Extinction_Intensity.png/325px-Extinction_Intensity.png"/>
          <p:cNvPicPr/>
          <p:nvPr/>
        </p:nvPicPr>
        <p:blipFill>
          <a:blip r:embed="rId1"/>
          <a:stretch/>
        </p:blipFill>
        <p:spPr>
          <a:xfrm>
            <a:off x="838080" y="716040"/>
            <a:ext cx="73152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2:12:14Z</dcterms:created>
  <dc:creator>Rachel Pozzetti</dc:creator>
  <dc:description/>
  <dc:language>en-US</dc:language>
  <cp:lastModifiedBy>Rachel Pozzetti</cp:lastModifiedBy>
  <cp:lastPrinted>2014-06-10T11:57:15Z</cp:lastPrinted>
  <dcterms:modified xsi:type="dcterms:W3CDTF">2014-06-10T11:57:30Z</dcterms:modified>
  <cp:revision>18</cp:revision>
  <dc:subject/>
  <dc:title>PowerPoint Presentation</dc:title>
</cp:coreProperties>
</file>