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237663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0C5E-9E1A-4FAA-9362-EEDB2A3B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33F2-20C9-49AC-8404-AE6A0B49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92D-1F82-480B-974E-9F6BC7F1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CE46-837E-4857-AB47-DD432620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C45-3740-4377-888F-5B14C112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38C4-8D3B-4609-B3BA-C3D5F8D4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8CA8-55EA-473D-88A2-8639B2A1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9A16-2512-4392-9C96-A6D107F7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FC3-6D1B-43EF-A68F-1D6F0B56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4890-5FA8-4DCE-9D20-B0EF3B00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68AB-5B2E-4117-A515-00C70666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CE37-7C38-4B7E-A16B-D1C5E256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D6D3-E033-44A9-B886-58A0D4CB5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tatic.ddmcdn.com/gif/extinction-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6480"/>
            <a:ext cx="913284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2921040" y="62866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http://www.bbc.co.uk/nature/history_of_the_eart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5" descr=""/>
          <p:cNvPicPr/>
          <p:nvPr/>
        </p:nvPicPr>
        <p:blipFill>
          <a:blip r:embed="rId2"/>
          <a:stretch/>
        </p:blipFill>
        <p:spPr>
          <a:xfrm>
            <a:off x="792000" y="1163520"/>
            <a:ext cx="75470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33440" y="295200"/>
            <a:ext cx="848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Triassic-Jurassic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20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ucmp.berkeley.edu/mesozoic/mesozoic.gif"/>
          <p:cNvPicPr/>
          <p:nvPr/>
        </p:nvPicPr>
        <p:blipFill>
          <a:blip r:embed="rId1"/>
          <a:stretch/>
        </p:blipFill>
        <p:spPr>
          <a:xfrm>
            <a:off x="2590920" y="1752480"/>
            <a:ext cx="3504960" cy="4699080"/>
          </a:xfrm>
          <a:prstGeom prst="rect">
            <a:avLst/>
          </a:prstGeom>
          <a:ln w="0">
            <a:noFill/>
          </a:ln>
        </p:spPr>
      </p:pic>
      <p:cxnSp>
        <p:nvCxnSpPr>
          <p:cNvPr id="70" name="Straight Arrow Connector 5"/>
          <p:cNvCxnSpPr/>
          <p:nvPr/>
        </p:nvCxnSpPr>
        <p:spPr>
          <a:xfrm flipH="1">
            <a:off x="5714640" y="4740120"/>
            <a:ext cx="1753200" cy="442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1" name="Straight Connector 6"/>
          <p:cNvSpPr/>
          <p:nvPr/>
        </p:nvSpPr>
        <p:spPr>
          <a:xfrm>
            <a:off x="3733920" y="518148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876240" y="147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Triassic-Jurassic Mass Extinc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200 million years a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457200" y="1752480"/>
            <a:ext cx="857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2 to 3 phases of this extinction over 18 m.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Many animals died out; marine reptiles, amphibians, some reef-building commun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About 50% of all life was predicted to have died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Plants, mysteriously, were not affected very mu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Postosuchus with a kill"/>
          <p:cNvPicPr/>
          <p:nvPr/>
        </p:nvPicPr>
        <p:blipFill>
          <a:blip r:embed="rId1"/>
          <a:stretch/>
        </p:blipFill>
        <p:spPr>
          <a:xfrm>
            <a:off x="2265480" y="3733920"/>
            <a:ext cx="46130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419040" y="147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Cretaceous-Tertiary Mass Extinc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65 million years a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ucmp.berkeley.edu/mesozoic/mesozoic.gif"/>
          <p:cNvPicPr/>
          <p:nvPr/>
        </p:nvPicPr>
        <p:blipFill>
          <a:blip r:embed="rId1"/>
          <a:srcRect l="0" t="0" r="8544" b="0"/>
          <a:stretch/>
        </p:blipFill>
        <p:spPr>
          <a:xfrm>
            <a:off x="990720" y="2286000"/>
            <a:ext cx="3392280" cy="2766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www.ucmp.berkeley.edu/cenozoic/tertiary.gif"/>
          <p:cNvPicPr/>
          <p:nvPr/>
        </p:nvPicPr>
        <p:blipFill>
          <a:blip r:embed="rId2"/>
          <a:srcRect l="11004" t="0" r="0" b="0"/>
          <a:stretch/>
        </p:blipFill>
        <p:spPr>
          <a:xfrm>
            <a:off x="4383000" y="2292480"/>
            <a:ext cx="3327480" cy="2789280"/>
          </a:xfrm>
          <a:prstGeom prst="rect">
            <a:avLst/>
          </a:prstGeom>
          <a:ln w="0">
            <a:noFill/>
          </a:ln>
        </p:spPr>
      </p:pic>
      <p:sp>
        <p:nvSpPr>
          <p:cNvPr id="78" name="Straight Connector 6"/>
          <p:cNvSpPr/>
          <p:nvPr/>
        </p:nvSpPr>
        <p:spPr>
          <a:xfrm>
            <a:off x="4383000" y="2089080"/>
            <a:ext cx="0" cy="3160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7"/>
          <p:cNvCxnSpPr/>
          <p:nvPr/>
        </p:nvCxnSpPr>
        <p:spPr>
          <a:xfrm flipH="1" flipV="1">
            <a:off x="4479480" y="5249520"/>
            <a:ext cx="1656720" cy="9547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419040" y="147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Cretaceous-Tertiary Mass Extinc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65 million years a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57200" y="1752480"/>
            <a:ext cx="8572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Also known as the K-T Mass Exti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Famous for the death of the dinosa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Dinos, however, weren’t the only organisms to go extin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Ammon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Many flowering plants (angiosper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Pterosa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Theorized that flood basalt eruptions severely affected climate change and caused many of these species to be on the decline well before this exti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Huge asteroid hit in Yucatan Peninsula which pushed these dwindling species over the 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Two prehistoric marine reptiles (Elasmosaurus) catching fish underwater"/>
          <p:cNvPicPr/>
          <p:nvPr/>
        </p:nvPicPr>
        <p:blipFill>
          <a:blip r:embed="rId1"/>
          <a:stretch/>
        </p:blipFill>
        <p:spPr>
          <a:xfrm>
            <a:off x="5200560" y="295200"/>
            <a:ext cx="3625920" cy="2238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Ankylosaurus armed with thick skin, bony plates and a club like tail"/>
          <p:cNvPicPr/>
          <p:nvPr/>
        </p:nvPicPr>
        <p:blipFill>
          <a:blip r:embed="rId2"/>
          <a:stretch/>
        </p:blipFill>
        <p:spPr>
          <a:xfrm>
            <a:off x="228600" y="264960"/>
            <a:ext cx="3886200" cy="2399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Fossilized ammonite"/>
          <p:cNvPicPr/>
          <p:nvPr/>
        </p:nvPicPr>
        <p:blipFill>
          <a:blip r:embed="rId3"/>
          <a:stretch/>
        </p:blipFill>
        <p:spPr>
          <a:xfrm>
            <a:off x="228600" y="3487680"/>
            <a:ext cx="3835440" cy="2367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Pterosaurs catching fish from the sea"/>
          <p:cNvPicPr/>
          <p:nvPr/>
        </p:nvPicPr>
        <p:blipFill>
          <a:blip r:embed="rId4"/>
          <a:stretch/>
        </p:blipFill>
        <p:spPr>
          <a:xfrm>
            <a:off x="5562720" y="4791240"/>
            <a:ext cx="3363840" cy="2076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A pair of Tyrannosaurus rex in a misty landscape"/>
          <p:cNvPicPr/>
          <p:nvPr/>
        </p:nvPicPr>
        <p:blipFill>
          <a:blip r:embed="rId5"/>
          <a:stretch/>
        </p:blipFill>
        <p:spPr>
          <a:xfrm>
            <a:off x="3733920" y="2438280"/>
            <a:ext cx="395928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http://ottawa-rasc.ca/wiki/images/c/c3/Odale_extinction.jpg"/>
          <p:cNvPicPr/>
          <p:nvPr/>
        </p:nvPicPr>
        <p:blipFill>
          <a:blip r:embed="rId1"/>
          <a:stretch/>
        </p:blipFill>
        <p:spPr>
          <a:xfrm>
            <a:off x="190440" y="1066680"/>
            <a:ext cx="8763120" cy="45594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pratclif.com/geology/paleozoic_fichiers/paleozoic.gif"/>
          <p:cNvPicPr/>
          <p:nvPr/>
        </p:nvPicPr>
        <p:blipFill>
          <a:blip r:embed="rId1"/>
          <a:stretch/>
        </p:blipFill>
        <p:spPr>
          <a:xfrm>
            <a:off x="1676520" y="1606680"/>
            <a:ext cx="3778200" cy="5065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838080" y="7632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Ordovician-Silurian Mass Extinc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440 million years a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5"/>
          <p:cNvCxnSpPr/>
          <p:nvPr/>
        </p:nvCxnSpPr>
        <p:spPr>
          <a:xfrm flipH="1">
            <a:off x="4952160" y="4267080"/>
            <a:ext cx="1753560" cy="442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7" name="Straight Connector 7"/>
          <p:cNvSpPr/>
          <p:nvPr/>
        </p:nvSpPr>
        <p:spPr>
          <a:xfrm>
            <a:off x="2971800" y="470844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838080" y="76320"/>
            <a:ext cx="746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Ordovician-Silurian Mass Exti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52280" y="1555920"/>
            <a:ext cx="6019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  <a:ea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largest extinction in Earth’s his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Actually ha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peaks in which the extinction was the greatest over hundreds of thousands of yea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During this time, most life on Earth existed in the oceans which is where the most damage occur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Nearly 85% of sea life was wiped 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The reason?  The most accepted cause of this extinction was an ice age that not only caused drastic cooling but it caused sea-levels to dr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www.csulb.edu/depts/geology/research/graptolites.jpg"/>
          <p:cNvPicPr/>
          <p:nvPr/>
        </p:nvPicPr>
        <p:blipFill>
          <a:blip r:embed="rId1"/>
          <a:stretch/>
        </p:blipFill>
        <p:spPr>
          <a:xfrm>
            <a:off x="6477120" y="1752480"/>
            <a:ext cx="204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519480" y="217440"/>
            <a:ext cx="81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Late Devonian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36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pratclif.com/geology/paleozoic_fichiers/paleozoic.gif"/>
          <p:cNvPicPr/>
          <p:nvPr/>
        </p:nvPicPr>
        <p:blipFill>
          <a:blip r:embed="rId1"/>
          <a:stretch/>
        </p:blipFill>
        <p:spPr>
          <a:xfrm>
            <a:off x="1676520" y="1606680"/>
            <a:ext cx="3778200" cy="5065560"/>
          </a:xfrm>
          <a:prstGeom prst="rect">
            <a:avLst/>
          </a:prstGeom>
          <a:ln w="0">
            <a:noFill/>
          </a:ln>
        </p:spPr>
      </p:pic>
      <p:cxnSp>
        <p:nvCxnSpPr>
          <p:cNvPr id="53" name="Straight Arrow Connector 5"/>
          <p:cNvCxnSpPr/>
          <p:nvPr/>
        </p:nvCxnSpPr>
        <p:spPr>
          <a:xfrm flipH="1">
            <a:off x="4952160" y="3292560"/>
            <a:ext cx="1753560" cy="442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4" name="Straight Connector 6"/>
          <p:cNvSpPr/>
          <p:nvPr/>
        </p:nvSpPr>
        <p:spPr>
          <a:xfrm>
            <a:off x="2971800" y="373392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4"/>
          <p:cNvSpPr/>
          <p:nvPr/>
        </p:nvSpPr>
        <p:spPr>
          <a:xfrm>
            <a:off x="209520" y="2514600"/>
            <a:ext cx="8915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Also known as the “Kellwasser Event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75% of all species on Earth died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Believed to have been a series of extinctions over millions of yea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Marine life was the worse affected with coral reefs suffering the most. Actually, coral reefs didn’t rebound until well over a 100 m.y. later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Bacteria was practically the only organism that could survive in the oxygen deprived oce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Unknown caus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 theories include climate change, asteroid impact, invasion of new species affecting surrounding ecosyste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08080" y="190440"/>
            <a:ext cx="556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Late Devonian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36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upload.wikimedia.org/wikipedia/commons/4/4f/Ancient_coral_reefs.jpg"/>
          <p:cNvPicPr/>
          <p:nvPr/>
        </p:nvPicPr>
        <p:blipFill>
          <a:blip r:embed="rId1"/>
          <a:srcRect l="8403" t="0" r="0" b="0"/>
          <a:stretch/>
        </p:blipFill>
        <p:spPr>
          <a:xfrm>
            <a:off x="5867280" y="685800"/>
            <a:ext cx="30718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274400" y="217440"/>
            <a:ext cx="659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Permian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25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http://www.ucmp.berkeley.edu/mesozoic/mesozoic.gif"/>
          <p:cNvPicPr/>
          <p:nvPr/>
        </p:nvPicPr>
        <p:blipFill>
          <a:blip r:embed="rId1"/>
          <a:srcRect l="10644" t="7722" r="4956" b="8880"/>
          <a:stretch/>
        </p:blipFill>
        <p:spPr>
          <a:xfrm>
            <a:off x="4560840" y="2106720"/>
            <a:ext cx="3637080" cy="268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pratclif.com/geology/paleozoic_fichiers/paleozoic.gif"/>
          <p:cNvPicPr/>
          <p:nvPr/>
        </p:nvPicPr>
        <p:blipFill>
          <a:blip r:embed="rId2"/>
          <a:srcRect l="0" t="0" r="7908" b="0"/>
          <a:stretch/>
        </p:blipFill>
        <p:spPr>
          <a:xfrm>
            <a:off x="533520" y="1828800"/>
            <a:ext cx="4038480" cy="323532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8"/>
          <p:cNvSpPr/>
          <p:nvPr/>
        </p:nvSpPr>
        <p:spPr>
          <a:xfrm>
            <a:off x="4551480" y="1905120"/>
            <a:ext cx="0" cy="3159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11"/>
          <p:cNvCxnSpPr/>
          <p:nvPr/>
        </p:nvCxnSpPr>
        <p:spPr>
          <a:xfrm flipH="1" flipV="1">
            <a:off x="4647600" y="5063400"/>
            <a:ext cx="1656360" cy="956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1274400" y="217440"/>
            <a:ext cx="659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Permian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25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204840" y="1569960"/>
            <a:ext cx="891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Nicknamed “The Great Dying” for being the largest mass extinction in Earth’s his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Killed 96% of marine life and 70% of terrestrial verteb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Most likely happened over millions of years with several waves of extinction, as opposed to one large e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Only mass extinction known to affect ins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Possible Caus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first phase was probably due to global climate change, then increased volcanism, abundant release of methane which led to anoxia, sea-level change, a possibly a shift in ocean circulation due to climate ch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2.bp.blogspot.com/-YHnE0XyuMMs/T4ChGo5liLI/AAAAAAAAAh0/PoV1A_nlhEg/s1600/trilobite.jpg"/>
          <p:cNvPicPr/>
          <p:nvPr/>
        </p:nvPicPr>
        <p:blipFill>
          <a:blip r:embed="rId1"/>
          <a:stretch/>
        </p:blipFill>
        <p:spPr>
          <a:xfrm>
            <a:off x="458640" y="2666880"/>
            <a:ext cx="4368960" cy="327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A eurypterid - also known as a sea scorpion - catching the heavily armoured fish, Pteraspis"/>
          <p:cNvPicPr/>
          <p:nvPr/>
        </p:nvPicPr>
        <p:blipFill>
          <a:blip r:embed="rId2"/>
          <a:stretch/>
        </p:blipFill>
        <p:spPr>
          <a:xfrm>
            <a:off x="3886200" y="380880"/>
            <a:ext cx="47386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upload.wikimedia.org/wikipedia/en/thumb/9/91/Extinction_Intensity.png/325px-Extinction_Intensity.png"/>
          <p:cNvPicPr/>
          <p:nvPr/>
        </p:nvPicPr>
        <p:blipFill>
          <a:blip r:embed="rId1"/>
          <a:stretch/>
        </p:blipFill>
        <p:spPr>
          <a:xfrm>
            <a:off x="838080" y="716040"/>
            <a:ext cx="731520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2:12:14Z</dcterms:created>
  <dc:creator>Rachel Pozzetti</dc:creator>
  <dc:description/>
  <dc:language>en-US</dc:language>
  <cp:lastModifiedBy>Rachel Pozzetti</cp:lastModifiedBy>
  <cp:lastPrinted>2014-06-10T11:57:15Z</cp:lastPrinted>
  <dcterms:modified xsi:type="dcterms:W3CDTF">2014-06-10T11:57:30Z</dcterms:modified>
  <cp:revision>18</cp:revision>
  <dc:subject/>
  <dc:title>PowerPoint Presentation</dc:title>
</cp:coreProperties>
</file>