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5A2-D082-4EC3-8108-A8BFAC97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33F-9F0A-4EE5-AD76-05551E1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0A3-518F-48A3-80D6-39586B82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70C-A680-42C8-9C30-57BF482E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A26-DAB8-4975-B189-F6D3651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E33-E91D-4885-9C9D-65A1104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869-4773-4088-98A1-6F5FAF7D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8F6-8491-4575-8D87-057343E0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6D5-7F80-4C4F-8EC1-E0AE022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251-CDB8-421C-AEA2-CA2C8F5D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F53-2B98-4CBE-BC3E-6F658A3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08D-BEFE-4C46-9AC6-15EE1CE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F4D4-E2CB-42F4-88DD-349ED8F28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ddmcdn.com/gif/extinction-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3284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92104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://www.bbc.co.uk/nature/history_of_the_ear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792000" y="1163520"/>
            <a:ext cx="754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33440" y="295200"/>
            <a:ext cx="84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ucmp.berkeley.edu/mesozoic/mesozoic.gif"/>
          <p:cNvPicPr/>
          <p:nvPr/>
        </p:nvPicPr>
        <p:blipFill>
          <a:blip r:embed="rId1"/>
          <a:stretch/>
        </p:blipFill>
        <p:spPr>
          <a:xfrm>
            <a:off x="2590920" y="1752480"/>
            <a:ext cx="3504960" cy="4699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5"/>
          <p:cNvCxnSpPr/>
          <p:nvPr/>
        </p:nvCxnSpPr>
        <p:spPr>
          <a:xfrm flipH="1">
            <a:off x="5714640" y="4740120"/>
            <a:ext cx="175320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Straight Connector 6"/>
          <p:cNvSpPr/>
          <p:nvPr/>
        </p:nvSpPr>
        <p:spPr>
          <a:xfrm>
            <a:off x="3733920" y="51814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6240" y="147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7524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2 to 3 phases of this extinction over 18 m.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ny animals died out; marine reptiles, amphibians, some reef-building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bout 50% of all life was predicted to have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lants, mysteriously, were not affected very mu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ostosuchus with a kill"/>
          <p:cNvPicPr/>
          <p:nvPr/>
        </p:nvPicPr>
        <p:blipFill>
          <a:blip r:embed="rId1"/>
          <a:stretch/>
        </p:blipFill>
        <p:spPr>
          <a:xfrm>
            <a:off x="2265480" y="3733920"/>
            <a:ext cx="4613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ucmp.berkeley.edu/mesozoic/mesozoic.gif"/>
          <p:cNvPicPr/>
          <p:nvPr/>
        </p:nvPicPr>
        <p:blipFill>
          <a:blip r:embed="rId1"/>
          <a:srcRect l="0" t="0" r="8544" b="0"/>
          <a:stretch/>
        </p:blipFill>
        <p:spPr>
          <a:xfrm>
            <a:off x="990720" y="2286000"/>
            <a:ext cx="33922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ucmp.berkeley.edu/cenozoic/tertiary.gif"/>
          <p:cNvPicPr/>
          <p:nvPr/>
        </p:nvPicPr>
        <p:blipFill>
          <a:blip r:embed="rId2"/>
          <a:srcRect l="11004" t="0" r="0" b="0"/>
          <a:stretch/>
        </p:blipFill>
        <p:spPr>
          <a:xfrm>
            <a:off x="4383000" y="2292480"/>
            <a:ext cx="332748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Straight Connector 6"/>
          <p:cNvSpPr/>
          <p:nvPr/>
        </p:nvSpPr>
        <p:spPr>
          <a:xfrm>
            <a:off x="4383000" y="2089080"/>
            <a:ext cx="0" cy="3160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 flipH="1" flipV="1">
            <a:off x="4479480" y="5249520"/>
            <a:ext cx="1656720" cy="954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75248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K-T Mas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Famous for the death of the din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inos, however, weren’t the only organisms to go extin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any flowering plants (angiosp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ter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orized that flood basalt eruptions severely affected climate change and caused many of these species to be on the decline well before thi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Huge asteroid hit in Yucatan Peninsula which pushed these dwindling species over the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wo prehistoric marine reptiles (Elasmosaurus) catching fish underwater"/>
          <p:cNvPicPr/>
          <p:nvPr/>
        </p:nvPicPr>
        <p:blipFill>
          <a:blip r:embed="rId1"/>
          <a:stretch/>
        </p:blipFill>
        <p:spPr>
          <a:xfrm>
            <a:off x="5200560" y="295200"/>
            <a:ext cx="362592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nkylosaurus armed with thick skin, bony plates and a club like tail"/>
          <p:cNvPicPr/>
          <p:nvPr/>
        </p:nvPicPr>
        <p:blipFill>
          <a:blip r:embed="rId2"/>
          <a:stretch/>
        </p:blipFill>
        <p:spPr>
          <a:xfrm>
            <a:off x="228600" y="264960"/>
            <a:ext cx="3886200" cy="239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Fossilized ammonite"/>
          <p:cNvPicPr/>
          <p:nvPr/>
        </p:nvPicPr>
        <p:blipFill>
          <a:blip r:embed="rId3"/>
          <a:stretch/>
        </p:blipFill>
        <p:spPr>
          <a:xfrm>
            <a:off x="228600" y="3487680"/>
            <a:ext cx="3835440" cy="236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terosaurs catching fish from the sea"/>
          <p:cNvPicPr/>
          <p:nvPr/>
        </p:nvPicPr>
        <p:blipFill>
          <a:blip r:embed="rId4"/>
          <a:stretch/>
        </p:blipFill>
        <p:spPr>
          <a:xfrm>
            <a:off x="5562720" y="4791240"/>
            <a:ext cx="3363840" cy="207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 pair of Tyrannosaurus rex in a misty landscape"/>
          <p:cNvPicPr/>
          <p:nvPr/>
        </p:nvPicPr>
        <p:blipFill>
          <a:blip r:embed="rId5"/>
          <a:stretch/>
        </p:blipFill>
        <p:spPr>
          <a:xfrm>
            <a:off x="3733920" y="2438280"/>
            <a:ext cx="3959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ottawa-rasc.ca/wiki/images/c/c3/Odale_extinction.jpg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455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838080" y="763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44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/>
          <p:nvPr/>
        </p:nvCxnSpPr>
        <p:spPr>
          <a:xfrm flipH="1">
            <a:off x="4952160" y="426708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" name="Straight Connector 7"/>
          <p:cNvSpPr/>
          <p:nvPr/>
        </p:nvSpPr>
        <p:spPr>
          <a:xfrm>
            <a:off x="2971800" y="470844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838080" y="7632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1555920"/>
            <a:ext cx="60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largest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ctually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eaks in which the extinction was the greatest over hundreds of thousands of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uring this time, most life on Earth existed in the oceans which is where the most damage occ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early 85% of sea life was wip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 reason?  The most accepted cause of this extinction was an ice age that not only caused drastic cooling but it caused sea-levels to d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csulb.edu/depts/geology/research/graptolites.jpg"/>
          <p:cNvPicPr/>
          <p:nvPr/>
        </p:nvPicPr>
        <p:blipFill>
          <a:blip r:embed="rId1"/>
          <a:stretch/>
        </p:blipFill>
        <p:spPr>
          <a:xfrm>
            <a:off x="6477120" y="1752480"/>
            <a:ext cx="204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19480" y="217440"/>
            <a:ext cx="81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5"/>
          <p:cNvCxnSpPr/>
          <p:nvPr/>
        </p:nvCxnSpPr>
        <p:spPr>
          <a:xfrm flipH="1">
            <a:off x="4952160" y="329256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Straight Connector 6"/>
          <p:cNvSpPr/>
          <p:nvPr/>
        </p:nvSpPr>
        <p:spPr>
          <a:xfrm>
            <a:off x="2971800" y="373392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09520" y="25146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“Kellwasser Event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75% of all species on Earth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elieved to have been a series of extinctions over millions of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rine life was the worse affected with coral reefs suffering the most. Actually, coral reefs didn’t rebound until well over a 100 m.y. lat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acteria was practically the only organism that could survive in the oxygen deprived oce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caus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 theories include climate change, asteroid impact, invasion of new species affecting surrounding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8080" y="19044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upload.wikimedia.org/wikipedia/commons/4/4f/Ancient_coral_reefs.jpg"/>
          <p:cNvPicPr/>
          <p:nvPr/>
        </p:nvPicPr>
        <p:blipFill>
          <a:blip r:embed="rId1"/>
          <a:srcRect l="8403" t="0" r="0" b="0"/>
          <a:stretch/>
        </p:blipFill>
        <p:spPr>
          <a:xfrm>
            <a:off x="5867280" y="68580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ucmp.berkeley.edu/mesozoic/mesozoic.gif"/>
          <p:cNvPicPr/>
          <p:nvPr/>
        </p:nvPicPr>
        <p:blipFill>
          <a:blip r:embed="rId1"/>
          <a:srcRect l="10644" t="7722" r="4956" b="8880"/>
          <a:stretch/>
        </p:blipFill>
        <p:spPr>
          <a:xfrm>
            <a:off x="4560840" y="2106720"/>
            <a:ext cx="363708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ratclif.com/geology/paleozoic_fichiers/paleozoic.gif"/>
          <p:cNvPicPr/>
          <p:nvPr/>
        </p:nvPicPr>
        <p:blipFill>
          <a:blip r:embed="rId2"/>
          <a:srcRect l="0" t="0" r="7908" b="0"/>
          <a:stretch/>
        </p:blipFill>
        <p:spPr>
          <a:xfrm>
            <a:off x="533520" y="1828800"/>
            <a:ext cx="4038480" cy="32353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8"/>
          <p:cNvSpPr/>
          <p:nvPr/>
        </p:nvSpPr>
        <p:spPr>
          <a:xfrm>
            <a:off x="4551480" y="1905120"/>
            <a:ext cx="0" cy="315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1"/>
          <p:cNvCxnSpPr/>
          <p:nvPr/>
        </p:nvCxnSpPr>
        <p:spPr>
          <a:xfrm flipH="1" flipV="1">
            <a:off x="4647600" y="5063400"/>
            <a:ext cx="1656360" cy="95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04840" y="15699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icknamed “The Great Dying” for being the largest mass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lled 96% of marine life and 70% of terrestrial verteb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st likely happened over millions of years with several waves of extinction, as opposed to one larg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Only mass extinction known to affect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ossible C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first phase was probably due to global climate change, then increased volcanism, abundant release of methane which led to anoxia, sea-level change, a possibly a shift in ocean circulation due to climate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2.bp.blogspot.com/-YHnE0XyuMMs/T4ChGo5liLI/AAAAAAAAAh0/PoV1A_nlhEg/s1600/trilobite.jpg"/>
          <p:cNvPicPr/>
          <p:nvPr/>
        </p:nvPicPr>
        <p:blipFill>
          <a:blip r:embed="rId1"/>
          <a:stretch/>
        </p:blipFill>
        <p:spPr>
          <a:xfrm>
            <a:off x="458640" y="26668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 eurypterid - also known as a sea scorpion - catching the heavily armoured fish, Pteraspis"/>
          <p:cNvPicPr/>
          <p:nvPr/>
        </p:nvPicPr>
        <p:blipFill>
          <a:blip r:embed="rId2"/>
          <a:stretch/>
        </p:blipFill>
        <p:spPr>
          <a:xfrm>
            <a:off x="3886200" y="380880"/>
            <a:ext cx="4738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en/thumb/9/91/Extinction_Intensity.png/325px-Extinction_Intensity.png"/>
          <p:cNvPicPr/>
          <p:nvPr/>
        </p:nvPicPr>
        <p:blipFill>
          <a:blip r:embed="rId1"/>
          <a:stretch/>
        </p:blipFill>
        <p:spPr>
          <a:xfrm>
            <a:off x="838080" y="716040"/>
            <a:ext cx="73152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2:12:14Z</dcterms:created>
  <dc:creator>Rachel Pozzetti</dc:creator>
  <dc:description/>
  <dc:language>en-US</dc:language>
  <cp:lastModifiedBy>Rachel Pozzetti</cp:lastModifiedBy>
  <cp:lastPrinted>2014-06-10T11:57:15Z</cp:lastPrinted>
  <dcterms:modified xsi:type="dcterms:W3CDTF">2014-06-10T11:57:30Z</dcterms:modified>
  <cp:revision>18</cp:revision>
  <dc:subject/>
  <dc:title>PowerPoint Presentation</dc:title>
</cp:coreProperties>
</file>