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F404-1B3F-47D9-A2E1-B4DC040BB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13CF-24B2-4FCB-A594-DA315FFE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9D62F-0EF6-43D6-A71E-C88DCC3E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B38A6-A992-4830-B70A-D0C045F67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0EB69-0CF5-4D5F-8F97-C3C76F301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75AB3-A544-45A0-946F-DC87E906A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F4ACA-9720-4F6A-B72F-7BEDCAD9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2165-6673-4F6F-AB85-FA552D7C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12BA7-D538-43BE-B245-0C37CE14C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503A6-1BB5-4AC5-833A-8A67F311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9293-C27A-4B80-9FA7-1246F2B1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59A2-635E-4998-B980-3AD3EB820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47FA-D486-4428-9042-BBD5927BF5B9}"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7T11:15:22Z</dcterms:modified>
  <cp:revision>105</cp:revision>
  <dc:subject/>
  <dc:title>Slide 1</dc:title>
</cp:coreProperties>
</file>