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0AC-246A-4EA9-AECE-07AFB19E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FC8-3CCF-4555-8435-C5862A36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EC8-C983-4F84-BB23-4452906C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429-7F08-438B-B2BB-7B4620A0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3CF-42D1-4E96-94B8-A64A0FED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669-0802-4C66-8101-61F4C5E5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FC6E-D926-457B-9EF1-BC173D0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310-134B-44F9-9B94-2309703C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BEB-1032-424A-A51A-6E8368BF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12F-CB0B-46DF-9484-0B9AA4E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340-2969-4531-95B5-21F0ED0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20B-EBD1-4158-A13B-EE870B5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8E2-7837-46A0-9E31-E569C5E9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04920" y="380880"/>
            <a:ext cx="8610120" cy="6477120"/>
            <a:chOff x="304920" y="380880"/>
            <a:chExt cx="8610120" cy="647712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2307" t="2897" r="1876" b="2897"/>
            <a:stretch/>
          </p:blipFill>
          <p:spPr>
            <a:xfrm>
              <a:off x="304920" y="380880"/>
              <a:ext cx="86101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7"/>
            <p:cNvSpPr/>
            <p:nvPr/>
          </p:nvSpPr>
          <p:spPr>
            <a:xfrm>
              <a:off x="1534680" y="264852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2534040" y="405180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4379400" y="353448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4533120" y="25743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6301440" y="213156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7147080" y="44949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5763240" y="641484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4938840" y="73080"/>
            <a:ext cx="39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me: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54:13Z</dcterms:created>
  <dc:creator>Rachel</dc:creator>
  <dc:description/>
  <dc:language>en-US</dc:language>
  <cp:lastModifiedBy>Rachel Fritschy</cp:lastModifiedBy>
  <cp:lastPrinted>2012-05-30T10:41:39Z</cp:lastPrinted>
  <dcterms:modified xsi:type="dcterms:W3CDTF">2012-05-30T10:44:53Z</dcterms:modified>
  <cp:revision>4</cp:revision>
  <dc:subject/>
  <dc:title>Slide 1</dc:title>
</cp:coreProperties>
</file>