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52D-3EB2-4D94-BE1C-A09FCFAC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E08C-DC5D-4BD2-89CB-CFFF9D0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861-ADA3-46DA-8A23-CA4B0B4F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50F-3662-4C96-B5F0-A848EB61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5C8-AF5F-4F62-883F-160D1C8D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1BF-D22C-45A0-8E02-37C24405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73A-A21F-487A-8DCA-8E8BD26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A99-5259-4777-B98B-439FDF85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102-3B81-4DDA-9768-C46C332D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3CC-5F2F-4FE2-8C33-3E226DFC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A35-AB8D-4BFB-BEC2-CCDAAE5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ED3-30DC-439C-9573-79D90CB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A1A0-24F3-4BC6-9726-BD854B587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04920" y="380880"/>
            <a:ext cx="8610120" cy="6477120"/>
            <a:chOff x="304920" y="380880"/>
            <a:chExt cx="8610120" cy="6477120"/>
          </a:xfrm>
        </p:grpSpPr>
        <p:pic>
          <p:nvPicPr>
            <p:cNvPr id="42" name="Picture 6" descr=""/>
            <p:cNvPicPr/>
            <p:nvPr/>
          </p:nvPicPr>
          <p:blipFill>
            <a:blip r:embed="rId1"/>
            <a:srcRect l="2307" t="2897" r="1876" b="2897"/>
            <a:stretch/>
          </p:blipFill>
          <p:spPr>
            <a:xfrm>
              <a:off x="304920" y="380880"/>
              <a:ext cx="86101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7"/>
            <p:cNvSpPr/>
            <p:nvPr/>
          </p:nvSpPr>
          <p:spPr>
            <a:xfrm>
              <a:off x="1534680" y="264852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2534040" y="405180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4379400" y="353448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4533120" y="25743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1"/>
            <p:cNvSpPr/>
            <p:nvPr/>
          </p:nvSpPr>
          <p:spPr>
            <a:xfrm>
              <a:off x="6301440" y="213156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7147080" y="44949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5763240" y="6414840"/>
              <a:ext cx="92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arct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"/>
          <p:cNvSpPr/>
          <p:nvPr/>
        </p:nvSpPr>
        <p:spPr>
          <a:xfrm>
            <a:off x="4938840" y="73080"/>
            <a:ext cx="39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me: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0:54:13Z</dcterms:created>
  <dc:creator>Rachel</dc:creator>
  <dc:description/>
  <dc:language>en-US</dc:language>
  <cp:lastModifiedBy>Rachel Fritschy</cp:lastModifiedBy>
  <cp:lastPrinted>2012-05-30T10:41:39Z</cp:lastPrinted>
  <dcterms:modified xsi:type="dcterms:W3CDTF">2012-05-30T10:44:53Z</dcterms:modified>
  <cp:revision>4</cp:revision>
  <dc:subject/>
  <dc:title>Slide 1</dc:title>
</cp:coreProperties>
</file>