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BF1-5B71-4C7A-9D5A-5C592B46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02A-F80B-4A23-98B7-D2324360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9D7-27A6-465F-AA1D-F123E9EF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6DF-725B-4975-9630-92731D46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A25-1D4B-4CD3-9B37-62EDEFC0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665-8964-48F8-A1D7-AD4B05FE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52D-6E8C-49BF-9521-5910F608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BEB-B069-4CB5-BBF6-9342144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A38-6AD2-4836-B477-6B150894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056-F84A-483C-A589-CA35B06C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62E-AFFF-43DF-BEFC-D5BCA970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D3C-9C91-45AF-8C73-B729E1D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230-3BC1-4B3F-89D2-E4D0DD0B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04920" y="380880"/>
            <a:ext cx="8610120" cy="6477120"/>
            <a:chOff x="304920" y="380880"/>
            <a:chExt cx="8610120" cy="6477120"/>
          </a:xfrm>
        </p:grpSpPr>
        <p:pic>
          <p:nvPicPr>
            <p:cNvPr id="42" name="Picture 6" descr=""/>
            <p:cNvPicPr/>
            <p:nvPr/>
          </p:nvPicPr>
          <p:blipFill>
            <a:blip r:embed="rId1"/>
            <a:srcRect l="2307" t="2897" r="1876" b="2897"/>
            <a:stretch/>
          </p:blipFill>
          <p:spPr>
            <a:xfrm>
              <a:off x="304920" y="380880"/>
              <a:ext cx="86101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7"/>
            <p:cNvSpPr/>
            <p:nvPr/>
          </p:nvSpPr>
          <p:spPr>
            <a:xfrm>
              <a:off x="1534680" y="264852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2534040" y="405180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u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4379400" y="353448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4533120" y="25743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1"/>
            <p:cNvSpPr/>
            <p:nvPr/>
          </p:nvSpPr>
          <p:spPr>
            <a:xfrm>
              <a:off x="6301440" y="213156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2"/>
            <p:cNvSpPr/>
            <p:nvPr/>
          </p:nvSpPr>
          <p:spPr>
            <a:xfrm>
              <a:off x="7147080" y="44949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5763240" y="6414840"/>
              <a:ext cx="92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arct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"/>
          <p:cNvSpPr/>
          <p:nvPr/>
        </p:nvSpPr>
        <p:spPr>
          <a:xfrm>
            <a:off x="4938840" y="73080"/>
            <a:ext cx="39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me: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0:54:13Z</dcterms:created>
  <dc:creator>Rachel</dc:creator>
  <dc:description/>
  <dc:language>en-US</dc:language>
  <cp:lastModifiedBy>Rachel Fritschy</cp:lastModifiedBy>
  <cp:lastPrinted>2012-05-30T10:41:39Z</cp:lastPrinted>
  <dcterms:modified xsi:type="dcterms:W3CDTF">2012-05-30T10:44:53Z</dcterms:modified>
  <cp:revision>4</cp:revision>
  <dc:subject/>
  <dc:title>Slide 1</dc:title>
</cp:coreProperties>
</file>