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1EC-987E-4539-AAC0-CFFAD504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BE25-06E2-4147-900F-57570ED2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133-AB37-4D70-BBD3-1667CFCD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81E-2F0A-47E9-A2D6-17FB3983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FCE-7383-4EAF-A357-498E88C4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079-CBAA-40D9-994D-F39A2023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B959-DB95-4C29-94D6-1FCFB982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188-9AC6-4856-B177-253B124E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48D-B92E-44B3-AB9B-D3BE1D95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E05-64B0-4FBE-9AB3-59A1D0B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BA0-85FA-46CA-A226-BDDC9CF6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FA7-18F2-40BC-9E05-9B35AB40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762D-B4E5-4270-9265-02CDD529B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bf15d43-aaa2-4d9b-afb0-873bc314dd4c@portsmouth"/>
          <p:cNvPicPr/>
          <p:nvPr/>
        </p:nvPicPr>
        <p:blipFill>
          <a:blip r:embed="rId1"/>
          <a:srcRect l="0" t="8115" r="9611" b="11400"/>
          <a:stretch/>
        </p:blipFill>
        <p:spPr>
          <a:xfrm>
            <a:off x="304920" y="615960"/>
            <a:ext cx="859284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Title 1"/>
          <p:cNvSpPr/>
          <p:nvPr/>
        </p:nvSpPr>
        <p:spPr>
          <a:xfrm>
            <a:off x="457200" y="299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Formation of Ear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4e04a1d1-8c1a-4164-ab8a-a5585a721df8@portsmouth"/>
          <p:cNvPicPr/>
          <p:nvPr/>
        </p:nvPicPr>
        <p:blipFill>
          <a:blip r:embed="rId1"/>
          <a:srcRect l="0" t="5840" r="5182" b="0"/>
          <a:stretch/>
        </p:blipFill>
        <p:spPr>
          <a:xfrm>
            <a:off x="609480" y="600120"/>
            <a:ext cx="80773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b4bc21b0-646f-4da9-813a-feb226171b7a@portsmouth"/>
          <p:cNvPicPr/>
          <p:nvPr/>
        </p:nvPicPr>
        <p:blipFill>
          <a:blip r:embed="rId1"/>
          <a:srcRect l="3887" t="3469" r="5464" b="0"/>
          <a:stretch/>
        </p:blipFill>
        <p:spPr>
          <a:xfrm>
            <a:off x="762120" y="304920"/>
            <a:ext cx="775800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96b02744-60eb-4a84-aa9a-ace275f0df65@portsmouth"/>
          <p:cNvPicPr/>
          <p:nvPr/>
        </p:nvPicPr>
        <p:blipFill>
          <a:blip r:embed="rId1"/>
          <a:srcRect l="4749" t="6791" r="7514" b="2905"/>
          <a:stretch/>
        </p:blipFill>
        <p:spPr>
          <a:xfrm>
            <a:off x="533520" y="304920"/>
            <a:ext cx="78483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entury Gothic"/>
              </a:rPr>
              <a:t>Formation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Atmosphere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76276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entury Gothic"/>
              </a:rPr>
              <a:t>Internal Earth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18:47:49Z</dcterms:created>
  <dc:creator>Rachel Pozzetti</dc:creator>
  <dc:description/>
  <dc:language>en-US</dc:language>
  <cp:lastModifiedBy>Rachel Pozzetti</cp:lastModifiedBy>
  <cp:lastPrinted>2015-03-23T15:51:58Z</cp:lastPrinted>
  <dcterms:modified xsi:type="dcterms:W3CDTF">2015-03-23T15:54:17Z</dcterms:modified>
  <cp:revision>3</cp:revision>
  <dc:subject/>
  <dc:title>PowerPoint Presentation</dc:title>
</cp:coreProperties>
</file>