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B98-B4EB-4E4A-BEE5-BF759354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527-FC39-4A5B-802C-91F3D993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9DE-9919-4356-9873-430BD949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0EEE-6070-4D54-AE92-FA8F4D0B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A56-E396-4281-9DEF-32B0BE7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DEB-3AF0-4EE4-958A-BA374E3C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2B3-6A6A-47AB-8EFF-1322A648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C0C3-F6BF-46A1-B866-BEF736F7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E66-7FEE-4067-9AC7-6B1B3F8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84A-9FA3-415A-837D-A7800E67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0AD-608B-4891-BC58-C7775A94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7EC-63B2-4F1C-92EB-A64FFD0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8B7-0924-48F4-9609-75E38DA10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f15d43-aaa2-4d9b-afb0-873bc314dd4c@portsmouth"/>
          <p:cNvPicPr/>
          <p:nvPr/>
        </p:nvPicPr>
        <p:blipFill>
          <a:blip r:embed="rId1"/>
          <a:srcRect l="0" t="8115" r="9611" b="11400"/>
          <a:stretch/>
        </p:blipFill>
        <p:spPr>
          <a:xfrm>
            <a:off x="304920" y="615960"/>
            <a:ext cx="85928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45720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Formation of 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e04a1d1-8c1a-4164-ab8a-a5585a721df8@portsmouth"/>
          <p:cNvPicPr/>
          <p:nvPr/>
        </p:nvPicPr>
        <p:blipFill>
          <a:blip r:embed="rId1"/>
          <a:srcRect l="0" t="5840" r="5182" b="0"/>
          <a:stretch/>
        </p:blipFill>
        <p:spPr>
          <a:xfrm>
            <a:off x="609480" y="600120"/>
            <a:ext cx="8077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4bc21b0-646f-4da9-813a-feb226171b7a@portsmouth"/>
          <p:cNvPicPr/>
          <p:nvPr/>
        </p:nvPicPr>
        <p:blipFill>
          <a:blip r:embed="rId1"/>
          <a:srcRect l="3887" t="3469" r="5464" b="0"/>
          <a:stretch/>
        </p:blipFill>
        <p:spPr>
          <a:xfrm>
            <a:off x="762120" y="304920"/>
            <a:ext cx="7758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6b02744-60eb-4a84-aa9a-ace275f0df65@portsmouth"/>
          <p:cNvPicPr/>
          <p:nvPr/>
        </p:nvPicPr>
        <p:blipFill>
          <a:blip r:embed="rId1"/>
          <a:srcRect l="4749" t="6791" r="7514" b="2905"/>
          <a:stretch/>
        </p:blipFill>
        <p:spPr>
          <a:xfrm>
            <a:off x="533520" y="30492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Formation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Atmospher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Internal Earth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47:49Z</dcterms:created>
  <dc:creator>Rachel Pozzetti</dc:creator>
  <dc:description/>
  <dc:language>en-US</dc:language>
  <cp:lastModifiedBy>Rachel Pozzetti</cp:lastModifiedBy>
  <cp:lastPrinted>2015-03-23T15:51:58Z</cp:lastPrinted>
  <dcterms:modified xsi:type="dcterms:W3CDTF">2015-03-23T15:54:17Z</dcterms:modified>
  <cp:revision>3</cp:revision>
  <dc:subject/>
  <dc:title>PowerPoint Presentation</dc:title>
</cp:coreProperties>
</file>