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B32-C57D-4875-B73B-E8863ACC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25D-E281-4D17-B527-6339BD81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792C-1950-49CB-A28F-FCF03E3A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C99-89ED-42FE-9369-B00E9B7A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F25-2276-4890-BA95-18BC7FBA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C44-A148-4E35-BC12-B26A6CF5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B03-9A15-4B27-97EE-8E1383A7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0AF-4284-44A2-AB29-2233EA20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870-2DE5-466B-924C-A443710F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58CF-235F-42E4-BE94-4938F948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19C-554B-44F9-8142-F396CD56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850-D448-476B-A6AA-9C050E37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31F2-FD1C-4AA1-BABC-44E6F55AA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bf15d43-aaa2-4d9b-afb0-873bc314dd4c@portsmouth"/>
          <p:cNvPicPr/>
          <p:nvPr/>
        </p:nvPicPr>
        <p:blipFill>
          <a:blip r:embed="rId1"/>
          <a:srcRect l="0" t="8115" r="9611" b="11400"/>
          <a:stretch/>
        </p:blipFill>
        <p:spPr>
          <a:xfrm>
            <a:off x="304920" y="615960"/>
            <a:ext cx="859284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itle 1"/>
          <p:cNvSpPr/>
          <p:nvPr/>
        </p:nvSpPr>
        <p:spPr>
          <a:xfrm>
            <a:off x="457200" y="29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Formation of Ear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4e04a1d1-8c1a-4164-ab8a-a5585a721df8@portsmouth"/>
          <p:cNvPicPr/>
          <p:nvPr/>
        </p:nvPicPr>
        <p:blipFill>
          <a:blip r:embed="rId1"/>
          <a:srcRect l="0" t="5840" r="5182" b="0"/>
          <a:stretch/>
        </p:blipFill>
        <p:spPr>
          <a:xfrm>
            <a:off x="609480" y="600120"/>
            <a:ext cx="807732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4bc21b0-646f-4da9-813a-feb226171b7a@portsmouth"/>
          <p:cNvPicPr/>
          <p:nvPr/>
        </p:nvPicPr>
        <p:blipFill>
          <a:blip r:embed="rId1"/>
          <a:srcRect l="3887" t="3469" r="5464" b="0"/>
          <a:stretch/>
        </p:blipFill>
        <p:spPr>
          <a:xfrm>
            <a:off x="762120" y="304920"/>
            <a:ext cx="775800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96b02744-60eb-4a84-aa9a-ace275f0df65@portsmouth"/>
          <p:cNvPicPr/>
          <p:nvPr/>
        </p:nvPicPr>
        <p:blipFill>
          <a:blip r:embed="rId1"/>
          <a:srcRect l="4749" t="6791" r="7514" b="2905"/>
          <a:stretch/>
        </p:blipFill>
        <p:spPr>
          <a:xfrm>
            <a:off x="533520" y="304920"/>
            <a:ext cx="784836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entury Gothic"/>
              </a:rPr>
              <a:t>Formation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1600200"/>
            <a:ext cx="876276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entury Gothic"/>
              </a:rPr>
              <a:t>Atmosphere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600200"/>
            <a:ext cx="876276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entury Gothic"/>
              </a:rPr>
              <a:t>Internal Earth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8:47:49Z</dcterms:created>
  <dc:creator>Rachel Pozzetti</dc:creator>
  <dc:description/>
  <dc:language>en-US</dc:language>
  <cp:lastModifiedBy>Rachel Pozzetti</cp:lastModifiedBy>
  <cp:lastPrinted>2015-03-23T15:51:58Z</cp:lastPrinted>
  <dcterms:modified xsi:type="dcterms:W3CDTF">2015-03-23T15:54:17Z</dcterms:modified>
  <cp:revision>3</cp:revision>
  <dc:subject/>
  <dc:title>PowerPoint Presentation</dc:title>
</cp:coreProperties>
</file>