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41B3-E351-48F6-9A66-CBC3BFE3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0ACE-1D57-422A-AE66-97FA6F0B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3EEF-F23F-4B03-9C67-0F7AB0E9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A53A-FECC-4BB8-8835-B62E1DB2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0B51-290A-45A0-810D-28B7D4AE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ADB9-BE11-457D-BB02-E0EB1BEE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13A8-28CB-4BDB-BBF8-573B0591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389-5876-4DF9-AA22-83240824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927F-249D-4AD7-AF28-70E07BC7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A3BE-EF5E-42EA-AAD2-BBCDD596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3D1B-EDC2-4A9D-ABF7-6CA50727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2003-E0DE-41CE-951A-281D2AA9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3FA7-DB47-4FA2-BFC5-4EF10E1F0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5600" y="13140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ame:_________________________________________________ Date: ___________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opic/Historical Person: 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533520" y="2057400"/>
            <a:ext cx="57909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598760" y="16765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The Big Id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0"/>
          <p:cNvSpPr/>
          <p:nvPr/>
        </p:nvSpPr>
        <p:spPr>
          <a:xfrm>
            <a:off x="2001960" y="139680"/>
            <a:ext cx="28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What I Learned From the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-12600" y="291960"/>
            <a:ext cx="6858000" cy="90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23:20:30Z</dcterms:created>
  <dc:creator>Rachel</dc:creator>
  <dc:description/>
  <dc:language>en-US</dc:language>
  <cp:lastModifiedBy>Rachel Pozzetti</cp:lastModifiedBy>
  <dcterms:modified xsi:type="dcterms:W3CDTF">2014-05-28T11:28:45Z</dcterms:modified>
  <cp:revision>27</cp:revision>
  <dc:subject/>
  <dc:title>Name:_____________________________________ Date: ___________</dc:title>
</cp:coreProperties>
</file>