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2F3-56AB-4EE7-9778-49033A51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3AD-78BE-41BF-A846-ED1AF757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79F-B0CD-42D1-B45C-D42C8F5C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513-0483-4858-9674-8DEBF799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651-BF8F-43D0-AF45-5227009F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F98-2D6C-4A7E-AACB-A3A58B85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941-2B11-4C53-A6F2-9B4EE99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C85-2B77-4F41-B7CD-88B0794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269-7CF1-46C3-9D46-CA3022F1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F38-4FED-401D-A69F-9C45BB0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7DB-CDD8-49B9-8859-8AE5DFBD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714-9E30-457A-A849-5FC9945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4B6A-F7AF-4BEB-B44F-7E2780497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600" y="1314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e:_________________________________________________ Date: ___________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opic/Historical Person: 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057400"/>
            <a:ext cx="57909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598760" y="1676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Big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2001960" y="139680"/>
            <a:ext cx="28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What I Learned From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-12600" y="291960"/>
            <a:ext cx="6858000" cy="90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20:30Z</dcterms:created>
  <dc:creator>Rachel</dc:creator>
  <dc:description/>
  <dc:language>en-US</dc:language>
  <cp:lastModifiedBy>Rachel Pozzetti</cp:lastModifiedBy>
  <dcterms:modified xsi:type="dcterms:W3CDTF">2014-05-28T11:28:45Z</dcterms:modified>
  <cp:revision>27</cp:revision>
  <dc:subject/>
  <dc:title>Name:_____________________________________ Date: ___________</dc:title>
</cp:coreProperties>
</file>