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EE77-BDF2-4D81-9B78-2F25D5BA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796-AB16-45D6-B964-44856A5C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3646-EF67-4860-8CE5-2B551F27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7BC1-5163-4803-8909-FC1AA62D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CA0-55F8-460D-85D2-9F9D292E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AA3-6A69-40DB-8A69-190A5421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B270-EEFD-4CEA-9D5B-D560507B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DA94-0B9C-4A6A-94C5-B0B4B5D9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F1FD-2579-4486-8ED8-3F302728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55A1-3DBB-43C5-AE83-649CCD78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AA6E-E6C0-411E-809C-9F5A4279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1E09-EA14-4F09-8EDA-673CD4A2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8C57-899E-4A76-BBE3-55DA88517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5600" y="13140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ame:_________________________________________________ Date: ___________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opic/Historical Person: 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533520" y="2057400"/>
            <a:ext cx="57909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598760" y="16765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The Big Id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0"/>
          <p:cNvSpPr/>
          <p:nvPr/>
        </p:nvSpPr>
        <p:spPr>
          <a:xfrm>
            <a:off x="2001960" y="139680"/>
            <a:ext cx="28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What I Learned From the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-12600" y="291960"/>
            <a:ext cx="6858000" cy="90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fbfbf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23:20:30Z</dcterms:created>
  <dc:creator>Rachel</dc:creator>
  <dc:description/>
  <dc:language>en-US</dc:language>
  <cp:lastModifiedBy>Rachel Pozzetti</cp:lastModifiedBy>
  <dcterms:modified xsi:type="dcterms:W3CDTF">2014-05-28T11:28:45Z</dcterms:modified>
  <cp:revision>27</cp:revision>
  <dc:subject/>
  <dc:title>Name:_____________________________________ Date: ___________</dc:title>
</cp:coreProperties>
</file>