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B77D-F812-4971-8A79-F12E61036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5E84-5989-4242-88A8-2900B1CBE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8E01-1534-47C3-912A-86381FB8B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5A5F-F300-4980-887D-5FA9CE106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2BB9-6026-4072-816E-753A2259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E673-D578-4134-8713-1BD55CE55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763B-DB4B-4B31-8ACE-345C77229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7A69-4FB5-4409-BF37-495E8A1D9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D5D8-B0F0-4CB5-BCF4-F5B225CF6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87AE-B9C9-479F-8E98-32839BDA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A9E3-F0AE-44D9-8939-046BE82B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5F51-F466-4C4E-8B59-062C1425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D2828-0A08-4377-8FB7-061C35A60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25600" y="13140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Name:_________________________________________________ Date: ___________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Topic/Historical Person: 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533520" y="2057400"/>
            <a:ext cx="57909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1598760" y="167652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The Big Id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0"/>
          <p:cNvSpPr/>
          <p:nvPr/>
        </p:nvSpPr>
        <p:spPr>
          <a:xfrm>
            <a:off x="2001960" y="139680"/>
            <a:ext cx="2828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What I Learned From the 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-12600" y="291960"/>
            <a:ext cx="6858000" cy="90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fbfbf"/>
                </a:solidFill>
                <a:latin typeface="Arial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3T23:20:30Z</dcterms:created>
  <dc:creator>Rachel</dc:creator>
  <dc:description/>
  <dc:language>en-US</dc:language>
  <cp:lastModifiedBy>Rachel Pozzetti</cp:lastModifiedBy>
  <dcterms:modified xsi:type="dcterms:W3CDTF">2014-05-28T11:28:45Z</dcterms:modified>
  <cp:revision>27</cp:revision>
  <dc:subject/>
  <dc:title>Name:_____________________________________ Date: ___________</dc:title>
</cp:coreProperties>
</file>