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5244-77E0-41DF-923C-29A38616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54AB-DD49-4AE3-8C9C-A24D9E33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71B3-734F-47E7-9B76-DE01B698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0576-4C2E-44A9-9B25-614E907E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CAC4-D202-4ECD-9BD7-BD7DAB4F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E8E7-C636-4CC6-B4E1-F44D1643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3149-6505-4ABE-842F-BF6F2DF2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4501-FCF5-4008-B932-F33AA553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276F-68A0-43C1-9663-B73D6542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C68B-FA1B-4A19-8C05-F54C4A88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A47B-13CF-49E4-8715-64EC71DC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A2A7-7372-4DF4-AB7E-E05DD15A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FD40-D8DF-4218-9FEE-32162BDB7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5600" y="13140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ame:_________________________________________________ Date: ___________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opic/Historical Person: 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533520" y="2057400"/>
            <a:ext cx="57909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598760" y="16765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The Big Id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0"/>
          <p:cNvSpPr/>
          <p:nvPr/>
        </p:nvSpPr>
        <p:spPr>
          <a:xfrm>
            <a:off x="2001960" y="139680"/>
            <a:ext cx="28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What I Learned From the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-12600" y="291960"/>
            <a:ext cx="6858000" cy="90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fbfbf"/>
                </a:solidFill>
                <a:latin typeface="Arial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23:20:30Z</dcterms:created>
  <dc:creator>Rachel</dc:creator>
  <dc:description/>
  <dc:language>en-US</dc:language>
  <cp:lastModifiedBy>Rachel Pozzetti</cp:lastModifiedBy>
  <dcterms:modified xsi:type="dcterms:W3CDTF">2014-05-28T11:28:45Z</dcterms:modified>
  <cp:revision>27</cp:revision>
  <dc:subject/>
  <dc:title>Name:_____________________________________ Date: ___________</dc:title>
</cp:coreProperties>
</file>