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EF4-F062-4093-B4BA-CF72DC34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7BB-1544-48F3-8570-74E10393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7D0-A92E-4FBC-9FFA-5030B7FB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748-FD5E-44F8-ACBF-2AF30877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91A-C802-478C-BBE5-569ECCC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E2F-A9FA-4DE7-AE20-649EDBFE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37E-E7F5-424E-B77A-1E0EC8A0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E89-9603-44AD-B834-36CEF1F4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1CD-0F45-4FB1-879A-97532006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3BB-9539-4272-8EE2-2688DF3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B9A-5330-4F0C-AD29-4E0A292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EBF-CA88-406A-A70C-2618815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ABEA-D29D-4C7F-A7D3-80C4282C8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600" y="1314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e:_________________________________________________ Date: ___________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opic/Historical Person: 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057400"/>
            <a:ext cx="57909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598760" y="1676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Big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2001960" y="139680"/>
            <a:ext cx="28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What I Learned From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-12600" y="291960"/>
            <a:ext cx="6858000" cy="90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3:20:30Z</dcterms:created>
  <dc:creator>Rachel</dc:creator>
  <dc:description/>
  <dc:language>en-US</dc:language>
  <cp:lastModifiedBy>Rachel Pozzetti</cp:lastModifiedBy>
  <dcterms:modified xsi:type="dcterms:W3CDTF">2014-05-28T11:28:45Z</dcterms:modified>
  <cp:revision>27</cp:revision>
  <dc:subject/>
  <dc:title>Name:_____________________________________ Date: ___________</dc:title>
</cp:coreProperties>
</file>