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7B3-71FC-4EC2-A949-164E4300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B2C-8D85-4543-9A29-AC24C12C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1B3-3E41-4A0C-B4ED-620753C9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1F0-641E-4FED-9721-ECCA407E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AA9-3624-49D9-91CC-4E29722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7F5-331E-4051-B17A-94BFCBE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C39-9073-49F5-AEA1-C4697FB5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4F0-1DA8-415D-8144-B670589F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FDF-BBD9-458B-9379-448665AA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615-1D81-4608-B43B-B7DB5B46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C4C-55E5-462B-B6B2-56595E6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395-8527-42DE-8407-7E2940E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4889-D40C-4C2E-BC34-3EF836CE3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00120" y="228240"/>
            <a:ext cx="4343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Dioxide in the atmosp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mages.sciencedaily.com/2010/11/101121160229-large.jpg"/>
          <p:cNvPicPr/>
          <p:nvPr/>
        </p:nvPicPr>
        <p:blipFill>
          <a:blip r:embed="rId1"/>
          <a:srcRect l="0" t="0" r="0" b="29663"/>
          <a:stretch/>
        </p:blipFill>
        <p:spPr>
          <a:xfrm>
            <a:off x="1724040" y="2514600"/>
            <a:ext cx="5695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ea plants growing on the seafl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gulfspecimen.org/images/catalog/Turtlegrass.jpg"/>
          <p:cNvPicPr/>
          <p:nvPr/>
        </p:nvPicPr>
        <p:blipFill>
          <a:blip r:embed="rId1"/>
          <a:stretch/>
        </p:blipFill>
        <p:spPr>
          <a:xfrm>
            <a:off x="609480" y="30114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encrypted-tbn3.gstatic.com/images?q=tbn:ANd9GcROk0hxnZmvyoxRgMos1zESr3CD1Fd6MMCNRdZC-mEEeleTEVtD5w"/>
          <p:cNvPicPr/>
          <p:nvPr/>
        </p:nvPicPr>
        <p:blipFill>
          <a:blip r:embed="rId2"/>
          <a:stretch/>
        </p:blipFill>
        <p:spPr>
          <a:xfrm>
            <a:off x="4952880" y="3200400"/>
            <a:ext cx="3333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ubtitle 2"/>
          <p:cNvSpPr/>
          <p:nvPr/>
        </p:nvSpPr>
        <p:spPr>
          <a:xfrm>
            <a:off x="380880" y="1692360"/>
            <a:ext cx="83059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rivers and lakes (fresh wa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rivers.gov/rivers/images/large/Slide-4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99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o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wakeforestnc.gov/Data/Sites/1/media/departments/engineering/soil.jpg"/>
          <p:cNvPicPr/>
          <p:nvPr/>
        </p:nvPicPr>
        <p:blipFill>
          <a:blip r:embed="rId1"/>
          <a:stretch/>
        </p:blipFill>
        <p:spPr>
          <a:xfrm>
            <a:off x="2438280" y="25146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Limestone (rock on 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natural-stone.org/images/limestone.jpg"/>
          <p:cNvPicPr/>
          <p:nvPr/>
        </p:nvPicPr>
        <p:blipFill>
          <a:blip r:embed="rId1"/>
          <a:stretch/>
        </p:blipFill>
        <p:spPr>
          <a:xfrm>
            <a:off x="2514600" y="2743200"/>
            <a:ext cx="4572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the ocean where small plankton flour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images.wikia.com/thehungergames/images/d/d4/2001129-plankton.png"/>
          <p:cNvPicPr/>
          <p:nvPr/>
        </p:nvPicPr>
        <p:blipFill>
          <a:blip r:embed="rId1"/>
          <a:stretch/>
        </p:blipFill>
        <p:spPr>
          <a:xfrm>
            <a:off x="1752480" y="2895480"/>
            <a:ext cx="235296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upload.wikimedia.org/wikipedia/commons/thumb/e/e0/Hyperia.jpg/220px-Hyperia.jpg"/>
          <p:cNvPicPr/>
          <p:nvPr/>
        </p:nvPicPr>
        <p:blipFill>
          <a:blip r:embed="rId2"/>
          <a:stretch/>
        </p:blipFill>
        <p:spPr>
          <a:xfrm>
            <a:off x="4680000" y="344484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on land – consumers (including human being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blog.tauedu.org/wp-content/uploads/2012/05/hu2.jpg"/>
          <p:cNvPicPr/>
          <p:nvPr/>
        </p:nvPicPr>
        <p:blipFill>
          <a:blip r:embed="rId1"/>
          <a:stretch/>
        </p:blipFill>
        <p:spPr>
          <a:xfrm>
            <a:off x="45720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cientificamerican.com/media/inline/47F50AC8-9757-DE72-2824BA94AC6D920B_1.jpg"/>
          <p:cNvPicPr/>
          <p:nvPr/>
        </p:nvPicPr>
        <p:blipFill>
          <a:blip r:embed="rId2"/>
          <a:stretch/>
        </p:blipFill>
        <p:spPr>
          <a:xfrm>
            <a:off x="3505320" y="31050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idahoptv.org/dialogue4kids/images/season11/food_chain/bear_family.jpg"/>
          <p:cNvPicPr/>
          <p:nvPr/>
        </p:nvPicPr>
        <p:blipFill>
          <a:blip r:embed="rId3"/>
          <a:stretch/>
        </p:blipFill>
        <p:spPr>
          <a:xfrm>
            <a:off x="6629400" y="3287880"/>
            <a:ext cx="1724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green plants on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2819520" y="2362320"/>
            <a:ext cx="32763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arbon in marine sediment – small broken sea shells, sometimes combined with other minerals and debri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featurepics.com/FI/Thumb300/20070306/Broken-Seashells-241537.jpg"/>
          <p:cNvPicPr/>
          <p:nvPr/>
        </p:nvPicPr>
        <p:blipFill>
          <a:blip r:embed="rId1"/>
          <a:stretch/>
        </p:blipFill>
        <p:spPr>
          <a:xfrm>
            <a:off x="2298600" y="339552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arbon, or carbon dioxide, from the atmosphere dissolved in seawa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an example would be an underwater volcano spewing CO2 bubbles into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abc.net.au/science/news/img/techno/bubbles230306.jpg"/>
          <p:cNvPicPr/>
          <p:nvPr/>
        </p:nvPicPr>
        <p:blipFill>
          <a:blip r:embed="rId1"/>
          <a:stretch/>
        </p:blipFill>
        <p:spPr>
          <a:xfrm>
            <a:off x="1619280" y="3349800"/>
            <a:ext cx="2209680" cy="330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2.bp.blogspot.com/_HomV7UKW2OY/R1TaOlS5mOI/AAAAAAAAADk/gGPaN08yJ6o/s1600-R/comet_73p_underwater_volcano.jpg"/>
          <p:cNvPicPr/>
          <p:nvPr/>
        </p:nvPicPr>
        <p:blipFill>
          <a:blip r:embed="rId2"/>
          <a:stretch/>
        </p:blipFill>
        <p:spPr>
          <a:xfrm>
            <a:off x="4038480" y="3429000"/>
            <a:ext cx="38862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coal – a fossil fuel (coal, oil, and natural ga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ages.bwbx.io/cms/2012-04-26/econ_coal18__01__630x420.jpg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marine mamm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noaanews.noaa.gov/stories2007/images/humpbackwhale_hires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91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9:41:59Z</dcterms:created>
  <dc:creator>Rachel Fritschy</dc:creator>
  <dc:description/>
  <dc:language>en-US</dc:language>
  <cp:lastModifiedBy>Rachel Fritschy</cp:lastModifiedBy>
  <cp:lastPrinted>2013-03-04T20:01:54Z</cp:lastPrinted>
  <dcterms:modified xsi:type="dcterms:W3CDTF">2013-03-04T20:22:13Z</dcterms:modified>
  <cp:revision>15</cp:revision>
  <dc:subject/>
  <dc:title>#2</dc:title>
</cp:coreProperties>
</file>