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1A7-DC7C-4238-8CFF-4611CB4C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66A-0672-4A5B-8F90-CF56024C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87A1-4DD4-43DB-A79B-D2EAA545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AF6-A6C6-41AB-9E6B-071EACD9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6107-791F-4D6E-A3A1-AB5F7A77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3F55-3421-42DA-89B4-9C506435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7C6E-9E6E-4B0A-9EFF-1D918885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06E7-BEB7-45AF-B99A-48EC5485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9BC-B100-4BC4-8ACF-79013D40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19F-8995-4D12-971C-387FA921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7C11-A362-4136-9E57-8413FE32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6ECF-32AC-45E5-9FEA-956AB503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6D40-7F9B-405A-9526-70BD37A66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00120" y="228240"/>
            <a:ext cx="4343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Dioxide in the atmosphe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images.sciencedaily.com/2010/11/101121160229-large.jpg"/>
          <p:cNvPicPr/>
          <p:nvPr/>
        </p:nvPicPr>
        <p:blipFill>
          <a:blip r:embed="rId1"/>
          <a:srcRect l="0" t="0" r="0" b="29663"/>
          <a:stretch/>
        </p:blipFill>
        <p:spPr>
          <a:xfrm>
            <a:off x="1724040" y="2514600"/>
            <a:ext cx="5695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1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ubtitle 2"/>
          <p:cNvSpPr/>
          <p:nvPr/>
        </p:nvSpPr>
        <p:spPr>
          <a:xfrm>
            <a:off x="609480" y="1692360"/>
            <a:ext cx="80773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sea plants growing on the seaflo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gulfspecimen.org/images/catalog/Turtlegrass.jpg"/>
          <p:cNvPicPr/>
          <p:nvPr/>
        </p:nvPicPr>
        <p:blipFill>
          <a:blip r:embed="rId1"/>
          <a:stretch/>
        </p:blipFill>
        <p:spPr>
          <a:xfrm>
            <a:off x="609480" y="3011400"/>
            <a:ext cx="4286520" cy="2857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s://encrypted-tbn3.gstatic.com/images?q=tbn:ANd9GcROk0hxnZmvyoxRgMos1zESr3CD1Fd6MMCNRdZC-mEEeleTEVtD5w"/>
          <p:cNvPicPr/>
          <p:nvPr/>
        </p:nvPicPr>
        <p:blipFill>
          <a:blip r:embed="rId2"/>
          <a:stretch/>
        </p:blipFill>
        <p:spPr>
          <a:xfrm>
            <a:off x="4952880" y="3200400"/>
            <a:ext cx="33339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1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ubtitle 2"/>
          <p:cNvSpPr/>
          <p:nvPr/>
        </p:nvSpPr>
        <p:spPr>
          <a:xfrm>
            <a:off x="380880" y="1692360"/>
            <a:ext cx="83059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rivers and lakes (fresh wate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ww.rivers.gov/rivers/images/large/Slide-4.jpg"/>
          <p:cNvPicPr/>
          <p:nvPr/>
        </p:nvPicPr>
        <p:blipFill>
          <a:blip r:embed="rId1"/>
          <a:stretch/>
        </p:blipFill>
        <p:spPr>
          <a:xfrm>
            <a:off x="1371600" y="2514600"/>
            <a:ext cx="601992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1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ubtitle 2"/>
          <p:cNvSpPr/>
          <p:nvPr/>
        </p:nvSpPr>
        <p:spPr>
          <a:xfrm>
            <a:off x="609480" y="1692360"/>
            <a:ext cx="80773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soi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www.wakeforestnc.gov/Data/Sites/1/media/departments/engineering/soil.jpg"/>
          <p:cNvPicPr/>
          <p:nvPr/>
        </p:nvPicPr>
        <p:blipFill>
          <a:blip r:embed="rId1"/>
          <a:stretch/>
        </p:blipFill>
        <p:spPr>
          <a:xfrm>
            <a:off x="2438280" y="2514600"/>
            <a:ext cx="4267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Limestone (rock on lan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www.natural-stone.org/images/limestone.jpg"/>
          <p:cNvPicPr/>
          <p:nvPr/>
        </p:nvPicPr>
        <p:blipFill>
          <a:blip r:embed="rId1"/>
          <a:stretch/>
        </p:blipFill>
        <p:spPr>
          <a:xfrm>
            <a:off x="2514600" y="2743200"/>
            <a:ext cx="4572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the ocean where small plankton flouris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://images.wikia.com/thehungergames/images/d/d4/2001129-plankton.png"/>
          <p:cNvPicPr/>
          <p:nvPr/>
        </p:nvPicPr>
        <p:blipFill>
          <a:blip r:embed="rId1"/>
          <a:stretch/>
        </p:blipFill>
        <p:spPr>
          <a:xfrm>
            <a:off x="1752480" y="2895480"/>
            <a:ext cx="2352960" cy="311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upload.wikimedia.org/wikipedia/commons/thumb/e/e0/Hyperia.jpg/220px-Hyperia.jpg"/>
          <p:cNvPicPr/>
          <p:nvPr/>
        </p:nvPicPr>
        <p:blipFill>
          <a:blip r:embed="rId2"/>
          <a:stretch/>
        </p:blipFill>
        <p:spPr>
          <a:xfrm>
            <a:off x="4680000" y="3444840"/>
            <a:ext cx="25146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on land – consumers (including human being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blog.tauedu.org/wp-content/uploads/2012/05/hu2.jpg"/>
          <p:cNvPicPr/>
          <p:nvPr/>
        </p:nvPicPr>
        <p:blipFill>
          <a:blip r:embed="rId1"/>
          <a:stretch/>
        </p:blipFill>
        <p:spPr>
          <a:xfrm>
            <a:off x="457200" y="32004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scientificamerican.com/media/inline/47F50AC8-9757-DE72-2824BA94AC6D920B_1.jpg"/>
          <p:cNvPicPr/>
          <p:nvPr/>
        </p:nvPicPr>
        <p:blipFill>
          <a:blip r:embed="rId2"/>
          <a:stretch/>
        </p:blipFill>
        <p:spPr>
          <a:xfrm>
            <a:off x="3505320" y="310500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idahoptv.org/dialogue4kids/images/season11/food_chain/bear_family.jpg"/>
          <p:cNvPicPr/>
          <p:nvPr/>
        </p:nvPicPr>
        <p:blipFill>
          <a:blip r:embed="rId3"/>
          <a:stretch/>
        </p:blipFill>
        <p:spPr>
          <a:xfrm>
            <a:off x="6629400" y="3287880"/>
            <a:ext cx="17240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green plants on la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companionplants.com/images/small-plant2.jpg"/>
          <p:cNvPicPr/>
          <p:nvPr/>
        </p:nvPicPr>
        <p:blipFill>
          <a:blip r:embed="rId1"/>
          <a:stretch/>
        </p:blipFill>
        <p:spPr>
          <a:xfrm>
            <a:off x="2819520" y="2362320"/>
            <a:ext cx="327636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7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arbon in marine sediment – small broken sea shells, sometimes combined with other minerals and debris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featurepics.com/FI/Thumb300/20070306/Broken-Seashells-241537.jpg"/>
          <p:cNvPicPr/>
          <p:nvPr/>
        </p:nvPicPr>
        <p:blipFill>
          <a:blip r:embed="rId1"/>
          <a:stretch/>
        </p:blipFill>
        <p:spPr>
          <a:xfrm>
            <a:off x="2298600" y="3395520"/>
            <a:ext cx="42865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8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arbon, or carbon dioxide, from the atmosphere dissolved in seawate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(an example would be an underwater volcano spewing CO2 bubbles into wa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abc.net.au/science/news/img/techno/bubbles230306.jpg"/>
          <p:cNvPicPr/>
          <p:nvPr/>
        </p:nvPicPr>
        <p:blipFill>
          <a:blip r:embed="rId1"/>
          <a:stretch/>
        </p:blipFill>
        <p:spPr>
          <a:xfrm>
            <a:off x="1619280" y="3349800"/>
            <a:ext cx="2209680" cy="330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2.bp.blogspot.com/_HomV7UKW2OY/R1TaOlS5mOI/AAAAAAAAADk/gGPaN08yJ6o/s1600-R/comet_73p_underwater_volcano.jpg"/>
          <p:cNvPicPr/>
          <p:nvPr/>
        </p:nvPicPr>
        <p:blipFill>
          <a:blip r:embed="rId2"/>
          <a:stretch/>
        </p:blipFill>
        <p:spPr>
          <a:xfrm>
            <a:off x="4038480" y="3429000"/>
            <a:ext cx="388620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9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ubtitle 2"/>
          <p:cNvSpPr/>
          <p:nvPr/>
        </p:nvSpPr>
        <p:spPr>
          <a:xfrm>
            <a:off x="609480" y="169236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coal – a fossil fuel (coal, oil, and natural ga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images.bwbx.io/cms/2012-04-26/econ_coal18__01__630x420.jpg"/>
          <p:cNvPicPr/>
          <p:nvPr/>
        </p:nvPicPr>
        <p:blipFill>
          <a:blip r:embed="rId1"/>
          <a:stretch/>
        </p:blipFill>
        <p:spPr>
          <a:xfrm>
            <a:off x="2133720" y="3200400"/>
            <a:ext cx="48765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2400480" y="228600"/>
            <a:ext cx="434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#10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ubtitle 2"/>
          <p:cNvSpPr/>
          <p:nvPr/>
        </p:nvSpPr>
        <p:spPr>
          <a:xfrm>
            <a:off x="609480" y="1692360"/>
            <a:ext cx="80773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rbon in marine mamm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www.noaanews.noaa.gov/stories2007/images/humpbackwhale_hires.jpg"/>
          <p:cNvPicPr/>
          <p:nvPr/>
        </p:nvPicPr>
        <p:blipFill>
          <a:blip r:embed="rId1"/>
          <a:stretch/>
        </p:blipFill>
        <p:spPr>
          <a:xfrm>
            <a:off x="1752480" y="2514600"/>
            <a:ext cx="5791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19:41:59Z</dcterms:created>
  <dc:creator>Rachel Fritschy</dc:creator>
  <dc:description/>
  <dc:language>en-US</dc:language>
  <cp:lastModifiedBy>Rachel Fritschy</cp:lastModifiedBy>
  <cp:lastPrinted>2013-03-04T20:01:54Z</cp:lastPrinted>
  <dcterms:modified xsi:type="dcterms:W3CDTF">2013-03-04T20:22:13Z</dcterms:modified>
  <cp:revision>15</cp:revision>
  <dc:subject/>
  <dc:title>#2</dc:title>
</cp:coreProperties>
</file>