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B46-ABF0-42AA-AA05-D47914FC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AA2-0336-4ED1-ABC5-05F5D445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038-B1D0-45F2-873F-6A52338D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CDE-FA77-4346-9B82-E209FADD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4A7-9F77-4798-BC0C-90F217DB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556-96D1-4D6A-B1AD-DC30E0DE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D0A-F467-4F4D-81A2-0BDEC17A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DC9-DBD6-410D-B56C-D727A03B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863-7567-448E-AE37-56342620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DCE-1D96-49B4-8CBA-A5F28F5F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460-EAF0-4AC7-B3C5-435A3D2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F77-B25B-490C-A949-3C12C377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9313-1F67-4E15-A06B-01145A298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00120" y="228240"/>
            <a:ext cx="4343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Dioxide in the atmosp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images.sciencedaily.com/2010/11/101121160229-large.jpg"/>
          <p:cNvPicPr/>
          <p:nvPr/>
        </p:nvPicPr>
        <p:blipFill>
          <a:blip r:embed="rId1"/>
          <a:srcRect l="0" t="0" r="0" b="29663"/>
          <a:stretch/>
        </p:blipFill>
        <p:spPr>
          <a:xfrm>
            <a:off x="1724040" y="2514600"/>
            <a:ext cx="5695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sea plants growing on the seaflo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gulfspecimen.org/images/catalog/Turtlegrass.jpg"/>
          <p:cNvPicPr/>
          <p:nvPr/>
        </p:nvPicPr>
        <p:blipFill>
          <a:blip r:embed="rId1"/>
          <a:stretch/>
        </p:blipFill>
        <p:spPr>
          <a:xfrm>
            <a:off x="609480" y="301140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s://encrypted-tbn3.gstatic.com/images?q=tbn:ANd9GcROk0hxnZmvyoxRgMos1zESr3CD1Fd6MMCNRdZC-mEEeleTEVtD5w"/>
          <p:cNvPicPr/>
          <p:nvPr/>
        </p:nvPicPr>
        <p:blipFill>
          <a:blip r:embed="rId2"/>
          <a:stretch/>
        </p:blipFill>
        <p:spPr>
          <a:xfrm>
            <a:off x="4952880" y="3200400"/>
            <a:ext cx="3333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ubtitle 2"/>
          <p:cNvSpPr/>
          <p:nvPr/>
        </p:nvSpPr>
        <p:spPr>
          <a:xfrm>
            <a:off x="380880" y="1692360"/>
            <a:ext cx="83059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rivers and lakes (fresh wa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rivers.gov/rivers/images/large/Slide-4.jpg"/>
          <p:cNvPicPr/>
          <p:nvPr/>
        </p:nvPicPr>
        <p:blipFill>
          <a:blip r:embed="rId1"/>
          <a:stretch/>
        </p:blipFill>
        <p:spPr>
          <a:xfrm>
            <a:off x="1371600" y="2514600"/>
            <a:ext cx="60199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so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wakeforestnc.gov/Data/Sites/1/media/departments/engineering/soil.jpg"/>
          <p:cNvPicPr/>
          <p:nvPr/>
        </p:nvPicPr>
        <p:blipFill>
          <a:blip r:embed="rId1"/>
          <a:stretch/>
        </p:blipFill>
        <p:spPr>
          <a:xfrm>
            <a:off x="2438280" y="25146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Limestone (rock on 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natural-stone.org/images/limestone.jpg"/>
          <p:cNvPicPr/>
          <p:nvPr/>
        </p:nvPicPr>
        <p:blipFill>
          <a:blip r:embed="rId1"/>
          <a:stretch/>
        </p:blipFill>
        <p:spPr>
          <a:xfrm>
            <a:off x="2514600" y="2743200"/>
            <a:ext cx="4572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the ocean where small plankton flour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images.wikia.com/thehungergames/images/d/d4/2001129-plankton.png"/>
          <p:cNvPicPr/>
          <p:nvPr/>
        </p:nvPicPr>
        <p:blipFill>
          <a:blip r:embed="rId1"/>
          <a:stretch/>
        </p:blipFill>
        <p:spPr>
          <a:xfrm>
            <a:off x="1752480" y="2895480"/>
            <a:ext cx="2352960" cy="311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upload.wikimedia.org/wikipedia/commons/thumb/e/e0/Hyperia.jpg/220px-Hyperia.jpg"/>
          <p:cNvPicPr/>
          <p:nvPr/>
        </p:nvPicPr>
        <p:blipFill>
          <a:blip r:embed="rId2"/>
          <a:stretch/>
        </p:blipFill>
        <p:spPr>
          <a:xfrm>
            <a:off x="4680000" y="3444840"/>
            <a:ext cx="2514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on land – consumers (including human being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blog.tauedu.org/wp-content/uploads/2012/05/hu2.jpg"/>
          <p:cNvPicPr/>
          <p:nvPr/>
        </p:nvPicPr>
        <p:blipFill>
          <a:blip r:embed="rId1"/>
          <a:stretch/>
        </p:blipFill>
        <p:spPr>
          <a:xfrm>
            <a:off x="45720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cientificamerican.com/media/inline/47F50AC8-9757-DE72-2824BA94AC6D920B_1.jpg"/>
          <p:cNvPicPr/>
          <p:nvPr/>
        </p:nvPicPr>
        <p:blipFill>
          <a:blip r:embed="rId2"/>
          <a:stretch/>
        </p:blipFill>
        <p:spPr>
          <a:xfrm>
            <a:off x="3505320" y="31050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idahoptv.org/dialogue4kids/images/season11/food_chain/bear_family.jpg"/>
          <p:cNvPicPr/>
          <p:nvPr/>
        </p:nvPicPr>
        <p:blipFill>
          <a:blip r:embed="rId3"/>
          <a:stretch/>
        </p:blipFill>
        <p:spPr>
          <a:xfrm>
            <a:off x="6629400" y="3287880"/>
            <a:ext cx="17240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green plants on 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companionplants.com/images/small-plant2.jpg"/>
          <p:cNvPicPr/>
          <p:nvPr/>
        </p:nvPicPr>
        <p:blipFill>
          <a:blip r:embed="rId1"/>
          <a:stretch/>
        </p:blipFill>
        <p:spPr>
          <a:xfrm>
            <a:off x="2819520" y="2362320"/>
            <a:ext cx="32763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arbon in marine sediment – small broken sea shells, sometimes combined with other minerals and debris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featurepics.com/FI/Thumb300/20070306/Broken-Seashells-241537.jpg"/>
          <p:cNvPicPr/>
          <p:nvPr/>
        </p:nvPicPr>
        <p:blipFill>
          <a:blip r:embed="rId1"/>
          <a:stretch/>
        </p:blipFill>
        <p:spPr>
          <a:xfrm>
            <a:off x="2298600" y="339552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arbon, or carbon dioxide, from the atmosphere dissolved in seawa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an example would be an underwater volcano spewing CO2 bubbles into w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abc.net.au/science/news/img/techno/bubbles230306.jpg"/>
          <p:cNvPicPr/>
          <p:nvPr/>
        </p:nvPicPr>
        <p:blipFill>
          <a:blip r:embed="rId1"/>
          <a:stretch/>
        </p:blipFill>
        <p:spPr>
          <a:xfrm>
            <a:off x="1619280" y="3349800"/>
            <a:ext cx="2209680" cy="330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2.bp.blogspot.com/_HomV7UKW2OY/R1TaOlS5mOI/AAAAAAAAADk/gGPaN08yJ6o/s1600-R/comet_73p_underwater_volcano.jpg"/>
          <p:cNvPicPr/>
          <p:nvPr/>
        </p:nvPicPr>
        <p:blipFill>
          <a:blip r:embed="rId2"/>
          <a:stretch/>
        </p:blipFill>
        <p:spPr>
          <a:xfrm>
            <a:off x="4038480" y="3429000"/>
            <a:ext cx="38862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coal – a fossil fuel (coal, oil, and natural ga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images.bwbx.io/cms/2012-04-26/econ_coal18__01__630x420.jpg"/>
          <p:cNvPicPr/>
          <p:nvPr/>
        </p:nvPicPr>
        <p:blipFill>
          <a:blip r:embed="rId1"/>
          <a:stretch/>
        </p:blipFill>
        <p:spPr>
          <a:xfrm>
            <a:off x="2133720" y="3200400"/>
            <a:ext cx="48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marine mamm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noaanews.noaa.gov/stories2007/images/humpbackwhale_hires.jpg"/>
          <p:cNvPicPr/>
          <p:nvPr/>
        </p:nvPicPr>
        <p:blipFill>
          <a:blip r:embed="rId1"/>
          <a:stretch/>
        </p:blipFill>
        <p:spPr>
          <a:xfrm>
            <a:off x="1752480" y="2514600"/>
            <a:ext cx="5791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9:41:59Z</dcterms:created>
  <dc:creator>Rachel Fritschy</dc:creator>
  <dc:description/>
  <dc:language>en-US</dc:language>
  <cp:lastModifiedBy>Rachel Fritschy</cp:lastModifiedBy>
  <cp:lastPrinted>2013-03-04T20:01:54Z</cp:lastPrinted>
  <dcterms:modified xsi:type="dcterms:W3CDTF">2013-03-04T20:22:13Z</dcterms:modified>
  <cp:revision>15</cp:revision>
  <dc:subject/>
  <dc:title>#2</dc:title>
</cp:coreProperties>
</file>