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62E-5927-4716-B45E-7F36D401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954-D61A-4ED6-9025-7D153DDC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8A2-8A2F-4B42-8FFA-03E1D35B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9C1-124A-4673-967B-AE8BE90C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CA0-4EFC-43E7-A175-BDC87BFA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205-FD6E-4203-9EE5-1CB1D758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42A-C941-417F-9A69-8D40D1A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AC7-00CB-4102-A292-90E8E2BA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473-5B44-49B0-B39C-12C4544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682-0701-4A5C-ADA5-E6C3B38E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1C2-7A48-48BA-9BC1-13B771F7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37A-5B49-4923-8883-D19DA7F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C955-E294-45B6-83CB-EE0B8545CC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entury Gothic"/>
              </a:rPr>
              <a:t>Buffer Zone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2" descr="http://www.co.douglas.mn.us/LRM/Images/L&amp;R_Buffer_Zone.png"/>
          <p:cNvPicPr/>
          <p:nvPr/>
        </p:nvPicPr>
        <p:blipFill>
          <a:blip r:embed="rId1"/>
          <a:stretch/>
        </p:blipFill>
        <p:spPr>
          <a:xfrm>
            <a:off x="1981080" y="2362320"/>
            <a:ext cx="5181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c090"/>
                </a:solidFill>
                <a:latin typeface="Century Gothic"/>
              </a:rPr>
              <a:t>What are the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buffer zone maintains a safe distance from a water body and includes a variety of plants and soil types that will limit the amount of erosion and infiltration of pollution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emircd.org/buffers/guide/pics/bufferzones.jpg"/>
          <p:cNvPicPr/>
          <p:nvPr/>
        </p:nvPicPr>
        <p:blipFill>
          <a:blip r:embed="rId1"/>
          <a:stretch/>
        </p:blipFill>
        <p:spPr>
          <a:xfrm>
            <a:off x="457200" y="685800"/>
            <a:ext cx="832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ww.cbc.ca/gfx/images/news/topstories/2012/08/05/buffer_zone-li.jpg"/>
          <p:cNvPicPr/>
          <p:nvPr/>
        </p:nvPicPr>
        <p:blipFill>
          <a:blip r:embed="rId1"/>
          <a:stretch/>
        </p:blipFill>
        <p:spPr>
          <a:xfrm>
            <a:off x="169920" y="952560"/>
            <a:ext cx="8804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balticdeal.eu/wp-content/uploads/2011/11/Activ-bufferzone-oktober-2012.jpg"/>
          <p:cNvPicPr/>
          <p:nvPr/>
        </p:nvPicPr>
        <p:blipFill>
          <a:blip r:embed="rId1"/>
          <a:stretch/>
        </p:blipFill>
        <p:spPr>
          <a:xfrm>
            <a:off x="685800" y="762120"/>
            <a:ext cx="79390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c090"/>
                </a:solidFill>
                <a:latin typeface="Century Gothic"/>
              </a:rPr>
              <a:t>Benefits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runoff by increasing storm water infiltration into soil. Less runoff means less nutrients and other pollutants entering th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cess nutrients are the primary cause of algal blooms which lead to Dead Zon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bilize soils with plant root systems if plants are presen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duce shoreline erosion due to wave 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e wildlife and fish habitat by providing food, shelter, and shad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c090"/>
                </a:solidFill>
                <a:latin typeface="Century Gothic"/>
              </a:rPr>
              <a:t>More Reasons Why They are Importa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uffer zones are important around a water body to limit the amount of erosion and pollution entering the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rosion can lead to poor clarity and sediment build up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ollution can lead to lack of productivity and, sometimes, acute toxicity of water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st of the erosion that occurs around a water body is due to the clearing of land for road building, residential housing, and industry. Pollution from these sources can easily be carried into the water by these process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bpex.org/images/EnvironmentHub/clip_image002_013.jpg"/>
          <p:cNvPicPr/>
          <p:nvPr/>
        </p:nvPicPr>
        <p:blipFill>
          <a:blip r:embed="rId1"/>
          <a:stretch/>
        </p:blipFill>
        <p:spPr>
          <a:xfrm>
            <a:off x="2286000" y="257040"/>
            <a:ext cx="472428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02:59Z</dcterms:created>
  <dc:creator>Rachel Fritschy</dc:creator>
  <dc:description/>
  <dc:language>en-US</dc:language>
  <cp:lastModifiedBy>Rachel Pozzetti</cp:lastModifiedBy>
  <cp:lastPrinted>2013-12-06T13:26:35Z</cp:lastPrinted>
  <dcterms:modified xsi:type="dcterms:W3CDTF">2014-03-14T17:27:13Z</dcterms:modified>
  <cp:revision>10</cp:revision>
  <dc:subject/>
  <dc:title>Buffer Zones</dc:title>
</cp:coreProperties>
</file>