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237663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E65-1775-4990-8AF3-361D8E1E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32C4-719F-43FD-96BB-03E1115C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85C6-C580-4CB7-86A5-45CB8AD8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57D9-C98A-4006-9C3D-16A719F5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13A-56DF-4AEB-AB42-E6B4A46A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C23-0877-4A8D-A251-650B1A08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2B6A-CCF8-47AC-8783-88590A6F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C972-50AD-447F-9CF5-A8AE693F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B73-23E1-4610-A8CA-4E51BC8D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470-1FE6-4BAD-ABCC-2510DC8C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F9A-DC4A-4FCD-B212-E394B9FD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FBB-0F67-4282-875F-A54C24E2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CE22-4F39-4FF8-8634-D14BB3A8BB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entury Gothic"/>
              </a:rPr>
              <a:t>Buffer Zones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2" descr="http://www.co.douglas.mn.us/LRM/Images/L&amp;R_Buffer_Zone.png"/>
          <p:cNvPicPr/>
          <p:nvPr/>
        </p:nvPicPr>
        <p:blipFill>
          <a:blip r:embed="rId1"/>
          <a:stretch/>
        </p:blipFill>
        <p:spPr>
          <a:xfrm>
            <a:off x="1981080" y="2362320"/>
            <a:ext cx="51818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090"/>
                </a:solidFill>
                <a:latin typeface="Century Gothic"/>
              </a:rPr>
              <a:t>What are they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828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buffer zone maintains a safe distance from a water body and includes a variety of plants and soil types that will limit the amount of erosion and infiltration of pollu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emircd.org/buffers/guide/pics/bufferzones.jpg"/>
          <p:cNvPicPr/>
          <p:nvPr/>
        </p:nvPicPr>
        <p:blipFill>
          <a:blip r:embed="rId1"/>
          <a:stretch/>
        </p:blipFill>
        <p:spPr>
          <a:xfrm>
            <a:off x="457200" y="685800"/>
            <a:ext cx="832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cbc.ca/gfx/images/news/topstories/2012/08/05/buffer_zone-li.jpg"/>
          <p:cNvPicPr/>
          <p:nvPr/>
        </p:nvPicPr>
        <p:blipFill>
          <a:blip r:embed="rId1"/>
          <a:stretch/>
        </p:blipFill>
        <p:spPr>
          <a:xfrm>
            <a:off x="169920" y="952560"/>
            <a:ext cx="8804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balticdeal.eu/wp-content/uploads/2011/11/Activ-bufferzone-oktober-2012.jpg"/>
          <p:cNvPicPr/>
          <p:nvPr/>
        </p:nvPicPr>
        <p:blipFill>
          <a:blip r:embed="rId1"/>
          <a:stretch/>
        </p:blipFill>
        <p:spPr>
          <a:xfrm>
            <a:off x="685800" y="762120"/>
            <a:ext cx="7939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c090"/>
                </a:solidFill>
                <a:latin typeface="Century Gothic"/>
              </a:rPr>
              <a:t>Benefit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duce runoff by increasing storm water infiltration into soil. Less runoff means less nutrients and other pollutants entering the wat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cess nutrients are the primary cause of algal blooms which lead to Dead Zon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abilize soils with plant root systems if plants are presen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duce shoreline erosion due to wave ac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mprove wildlife and fish habitat by providing food, shelter, and shad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c090"/>
                </a:solidFill>
                <a:latin typeface="Century Gothic"/>
              </a:rPr>
              <a:t>More Reasons Why They are Importa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Buffer zones are important around a water body to limit the amount of erosion and pollution entering the wat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rosion can lead to poor clarity and sediment build up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ollution can lead to lack of productivity and, sometimes, acute toxicity of wat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ost of the erosion that occurs around a water body is due to the clearing of land for road building, residential housing, and industry. Pollution from these sources can easily be carried into the water by these processe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bpex.org/images/EnvironmentHub/clip_image002_013.jpg"/>
          <p:cNvPicPr/>
          <p:nvPr/>
        </p:nvPicPr>
        <p:blipFill>
          <a:blip r:embed="rId1"/>
          <a:stretch/>
        </p:blipFill>
        <p:spPr>
          <a:xfrm>
            <a:off x="2286000" y="257040"/>
            <a:ext cx="472428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02:59Z</dcterms:created>
  <dc:creator>Rachel Fritschy</dc:creator>
  <dc:description/>
  <dc:language>en-US</dc:language>
  <cp:lastModifiedBy>Rachel Pozzetti</cp:lastModifiedBy>
  <cp:lastPrinted>2013-12-06T13:26:35Z</cp:lastPrinted>
  <dcterms:modified xsi:type="dcterms:W3CDTF">2014-03-14T17:27:13Z</dcterms:modified>
  <cp:revision>10</cp:revision>
  <dc:subject/>
  <dc:title>Buffer Zones</dc:title>
</cp:coreProperties>
</file>