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9237663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11F7-10E6-49B5-A9F0-650FDA948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C278-4FBF-42A4-A764-D5B33ABC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E236-32CE-4954-9C1B-5C287E52F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97DC-B139-4B6F-84D5-2134089C6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A8E9-30AC-4746-832F-675B405D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9AEF-E574-41EB-A546-14ECB35E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BD32-203F-4DFC-B38C-668A49D3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CADC-AA28-492B-BAEF-AAC90A53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755E-EC39-43EC-9846-C54A6431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B112-ACAC-4518-A85F-418EFF58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3154-19B2-4327-A507-223B936D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34F4-2A80-488B-BE4E-CCA508F7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0134-6C47-4B6C-A999-B98537E97D1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entury Gothic"/>
              </a:rPr>
              <a:t>Buffer Zones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Picture 2" descr="http://www.co.douglas.mn.us/LRM/Images/L&amp;R_Buffer_Zone.png"/>
          <p:cNvPicPr/>
          <p:nvPr/>
        </p:nvPicPr>
        <p:blipFill>
          <a:blip r:embed="rId1"/>
          <a:stretch/>
        </p:blipFill>
        <p:spPr>
          <a:xfrm>
            <a:off x="1981080" y="2362320"/>
            <a:ext cx="518184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c090"/>
                </a:solidFill>
                <a:latin typeface="Century Gothic"/>
              </a:rPr>
              <a:t>What are they?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828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 buffer zone maintains a safe distance from a water body and includes a variety of plants and soil types that will limit the amount of erosion and infiltration of pollution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semircd.org/buffers/guide/pics/bufferzones.jpg"/>
          <p:cNvPicPr/>
          <p:nvPr/>
        </p:nvPicPr>
        <p:blipFill>
          <a:blip r:embed="rId1"/>
          <a:stretch/>
        </p:blipFill>
        <p:spPr>
          <a:xfrm>
            <a:off x="457200" y="685800"/>
            <a:ext cx="832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www.cbc.ca/gfx/images/news/topstories/2012/08/05/buffer_zone-li.jpg"/>
          <p:cNvPicPr/>
          <p:nvPr/>
        </p:nvPicPr>
        <p:blipFill>
          <a:blip r:embed="rId1"/>
          <a:stretch/>
        </p:blipFill>
        <p:spPr>
          <a:xfrm>
            <a:off x="169920" y="952560"/>
            <a:ext cx="88041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balticdeal.eu/wp-content/uploads/2011/11/Activ-bufferzone-oktober-2012.jpg"/>
          <p:cNvPicPr/>
          <p:nvPr/>
        </p:nvPicPr>
        <p:blipFill>
          <a:blip r:embed="rId1"/>
          <a:stretch/>
        </p:blipFill>
        <p:spPr>
          <a:xfrm>
            <a:off x="685800" y="762120"/>
            <a:ext cx="79390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c090"/>
                </a:solidFill>
                <a:latin typeface="Century Gothic"/>
              </a:rPr>
              <a:t>Benefits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educe runoff by increasing storm water infiltration into soil. Less runoff means less nutrients and other pollutants entering the wate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xcess nutrients are the primary cause of algal blooms which lead to Dead Zon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tabilize soils with plant root systems if plants are presen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educe shoreline erosion due to wave ac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mprove wildlife and fish habitat by providing food, shelter, and shad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c090"/>
                </a:solidFill>
                <a:latin typeface="Century Gothic"/>
              </a:rPr>
              <a:t>More Reasons Why They are Importa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Buffer zones are important around a water body to limit the amount of erosion and pollution entering the water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Erosion can lead to poor clarity and sediment build up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Pollution can lead to lack of productivity and, sometimes, acute toxicity of water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Most of the erosion that occurs around a water body is due to the clearing of land for road building, residential housing, and industry. Pollution from these sources can easily be carried into the water by these processe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www.bpex.org/images/EnvironmentHub/clip_image002_013.jpg"/>
          <p:cNvPicPr/>
          <p:nvPr/>
        </p:nvPicPr>
        <p:blipFill>
          <a:blip r:embed="rId1"/>
          <a:stretch/>
        </p:blipFill>
        <p:spPr>
          <a:xfrm>
            <a:off x="2286000" y="257040"/>
            <a:ext cx="472428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1:02:59Z</dcterms:created>
  <dc:creator>Rachel Fritschy</dc:creator>
  <dc:description/>
  <dc:language>en-US</dc:language>
  <cp:lastModifiedBy>Rachel Pozzetti</cp:lastModifiedBy>
  <cp:lastPrinted>2013-12-06T13:26:35Z</cp:lastPrinted>
  <dcterms:modified xsi:type="dcterms:W3CDTF">2014-03-14T17:27:13Z</dcterms:modified>
  <cp:revision>10</cp:revision>
  <dc:subject/>
  <dc:title>Buffer Zones</dc:title>
</cp:coreProperties>
</file>