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9237663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232E1-F43A-40D1-A25E-BD9CFCD53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85B7C-5D26-457B-A422-A300A7C5B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DACC8-5647-499A-A37B-E69CCA7CB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7B988-8D8E-4CA4-A058-D734F38E9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93E14-0082-48AA-BC2E-06E56D5D3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E7BDE-9B49-4A6A-B8AC-609E99C3A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450FD-4212-4715-9F37-AEDAF9528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5F926-E5FA-44C8-9D53-50E73B492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CF75B-7C9D-474A-BBCB-4AA561981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097ED-A048-4330-B2D2-E5A4F449D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B453E-F64F-485B-A438-ED1EF6BCB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CF739-632A-4938-9AB0-35C090FF6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76B81-26E5-4E52-88A7-8CF880E0DE66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Century Gothic"/>
              </a:rPr>
              <a:t>Buffer Zones</a:t>
            </a:r>
            <a:endParaRPr b="0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2" name="Picture 2" descr="http://www.co.douglas.mn.us/LRM/Images/L&amp;R_Buffer_Zone.png"/>
          <p:cNvPicPr/>
          <p:nvPr/>
        </p:nvPicPr>
        <p:blipFill>
          <a:blip r:embed="rId1"/>
          <a:stretch/>
        </p:blipFill>
        <p:spPr>
          <a:xfrm>
            <a:off x="1981080" y="2362320"/>
            <a:ext cx="5181840" cy="39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ac090"/>
                </a:solidFill>
                <a:latin typeface="Century Gothic"/>
              </a:rPr>
              <a:t>What are they?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8288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A buffer zone maintains a safe distance from a water body and includes a variety of plants and soil types that will limit the amount of erosion and infiltration of pollution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http://semircd.org/buffers/guide/pics/bufferzones.jpg"/>
          <p:cNvPicPr/>
          <p:nvPr/>
        </p:nvPicPr>
        <p:blipFill>
          <a:blip r:embed="rId1"/>
          <a:stretch/>
        </p:blipFill>
        <p:spPr>
          <a:xfrm>
            <a:off x="457200" y="685800"/>
            <a:ext cx="832644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http://www.cbc.ca/gfx/images/news/topstories/2012/08/05/buffer_zone-li.jpg"/>
          <p:cNvPicPr/>
          <p:nvPr/>
        </p:nvPicPr>
        <p:blipFill>
          <a:blip r:embed="rId1"/>
          <a:stretch/>
        </p:blipFill>
        <p:spPr>
          <a:xfrm>
            <a:off x="169920" y="952560"/>
            <a:ext cx="880416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http://www.balticdeal.eu/wp-content/uploads/2011/11/Activ-bufferzone-oktober-2012.jpg"/>
          <p:cNvPicPr/>
          <p:nvPr/>
        </p:nvPicPr>
        <p:blipFill>
          <a:blip r:embed="rId1"/>
          <a:stretch/>
        </p:blipFill>
        <p:spPr>
          <a:xfrm>
            <a:off x="685800" y="762120"/>
            <a:ext cx="793908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ac090"/>
                </a:solidFill>
                <a:latin typeface="Century Gothic"/>
              </a:rPr>
              <a:t>Benefits</a:t>
            </a: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165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Reduce runoff by increasing storm water infiltration into soil. Less runoff means less nutrients and other pollutants entering the water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683280" indent="-2628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Excess nutrients are the primary cause of algal blooms which lead to Dead Zones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Stabilize soils with plant root systems if plants are present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Reduce shoreline erosion due to wave action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Improve wildlife and fish habitat by providing food, shelter, and shade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c090"/>
                </a:solidFill>
                <a:latin typeface="Century Gothic"/>
              </a:rPr>
              <a:t>More Reasons Why They are Importan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Buffer zones are important around a water body to limit the amount of erosion and pollution entering the water. 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Erosion can lead to poor clarity and sediment build up. 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Pollution can lead to lack of productivity and, sometimes, acute toxicity of water. 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Most of the erosion that occurs around a water body is due to the clearing of land for road building, residential housing, and industry. Pollution from these sources can easily be carried into the water by these processes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http://www.bpex.org/images/EnvironmentHub/clip_image002_013.jpg"/>
          <p:cNvPicPr/>
          <p:nvPr/>
        </p:nvPicPr>
        <p:blipFill>
          <a:blip r:embed="rId1"/>
          <a:stretch/>
        </p:blipFill>
        <p:spPr>
          <a:xfrm>
            <a:off x="2286000" y="257040"/>
            <a:ext cx="4724280" cy="62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2T11:02:59Z</dcterms:created>
  <dc:creator>Rachel Fritschy</dc:creator>
  <dc:description/>
  <dc:language>en-US</dc:language>
  <cp:lastModifiedBy>Rachel Pozzetti</cp:lastModifiedBy>
  <cp:lastPrinted>2013-12-06T13:26:35Z</cp:lastPrinted>
  <dcterms:modified xsi:type="dcterms:W3CDTF">2014-03-14T17:27:13Z</dcterms:modified>
  <cp:revision>10</cp:revision>
  <dc:subject/>
  <dc:title>Buffer Zones</dc:title>
</cp:coreProperties>
</file>