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237663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4FF2-DE2D-47A6-81DE-709E6262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0B8A-3F53-4765-B041-C44640AB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A9B3-9D77-4B5E-9E5D-F5659661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A24A-6348-4209-9E9B-5EAA9057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A38-06A5-4473-835B-06D36F9B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CFBE-21C9-4ED6-85FD-59909464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7C66-A8C2-4650-8A82-7B6C2913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9492-8D82-41A5-8E0A-68464242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4147-E820-44CD-B505-04B1BDB8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9726-C066-4AE1-87D8-95268F16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7923-516A-4DF0-8310-B8427D04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773E-09FB-4F83-B621-9CFE2C78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83A5-BF2C-4F86-97F1-B9C39AA33F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entury Gothic"/>
              </a:rPr>
              <a:t>Buffer Zones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2" descr="http://www.co.douglas.mn.us/LRM/Images/L&amp;R_Buffer_Zone.png"/>
          <p:cNvPicPr/>
          <p:nvPr/>
        </p:nvPicPr>
        <p:blipFill>
          <a:blip r:embed="rId1"/>
          <a:stretch/>
        </p:blipFill>
        <p:spPr>
          <a:xfrm>
            <a:off x="1981080" y="2362320"/>
            <a:ext cx="51818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090"/>
                </a:solidFill>
                <a:latin typeface="Century Gothic"/>
              </a:rPr>
              <a:t>What are they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828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buffer zone maintains a safe distance from a water body and includes a variety of plants and soil types that will limit the amount of erosion and infiltration of pollu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semircd.org/buffers/guide/pics/bufferzones.jpg"/>
          <p:cNvPicPr/>
          <p:nvPr/>
        </p:nvPicPr>
        <p:blipFill>
          <a:blip r:embed="rId1"/>
          <a:stretch/>
        </p:blipFill>
        <p:spPr>
          <a:xfrm>
            <a:off x="457200" y="685800"/>
            <a:ext cx="832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cbc.ca/gfx/images/news/topstories/2012/08/05/buffer_zone-li.jpg"/>
          <p:cNvPicPr/>
          <p:nvPr/>
        </p:nvPicPr>
        <p:blipFill>
          <a:blip r:embed="rId1"/>
          <a:stretch/>
        </p:blipFill>
        <p:spPr>
          <a:xfrm>
            <a:off x="169920" y="952560"/>
            <a:ext cx="8804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balticdeal.eu/wp-content/uploads/2011/11/Activ-bufferzone-oktober-2012.jpg"/>
          <p:cNvPicPr/>
          <p:nvPr/>
        </p:nvPicPr>
        <p:blipFill>
          <a:blip r:embed="rId1"/>
          <a:stretch/>
        </p:blipFill>
        <p:spPr>
          <a:xfrm>
            <a:off x="685800" y="762120"/>
            <a:ext cx="7939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c090"/>
                </a:solidFill>
                <a:latin typeface="Century Gothic"/>
              </a:rPr>
              <a:t>Benefit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duce runoff by increasing storm water infiltration into soil. Less runoff means less nutrients and other pollutants entering the wat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cess nutrients are the primary cause of algal blooms which lead to Dead Zon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tabilize soils with plant root systems if plants are presen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duce shoreline erosion due to wave ac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mprove wildlife and fish habitat by providing food, shelter, and shad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c090"/>
                </a:solidFill>
                <a:latin typeface="Century Gothic"/>
              </a:rPr>
              <a:t>More Reasons Why They are Importa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Buffer zones are important around a water body to limit the amount of erosion and pollution entering the water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rosion can lead to poor clarity and sediment build up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ollution can lead to lack of productivity and, sometimes, acute toxicity of water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ost of the erosion that occurs around a water body is due to the clearing of land for road building, residential housing, and industry. Pollution from these sources can easily be carried into the water by these processe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bpex.org/images/EnvironmentHub/clip_image002_013.jpg"/>
          <p:cNvPicPr/>
          <p:nvPr/>
        </p:nvPicPr>
        <p:blipFill>
          <a:blip r:embed="rId1"/>
          <a:stretch/>
        </p:blipFill>
        <p:spPr>
          <a:xfrm>
            <a:off x="2286000" y="257040"/>
            <a:ext cx="472428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02:59Z</dcterms:created>
  <dc:creator>Rachel Fritschy</dc:creator>
  <dc:description/>
  <dc:language>en-US</dc:language>
  <cp:lastModifiedBy>Rachel Pozzetti</cp:lastModifiedBy>
  <cp:lastPrinted>2013-12-06T13:26:35Z</cp:lastPrinted>
  <dcterms:modified xsi:type="dcterms:W3CDTF">2014-03-14T17:27:13Z</dcterms:modified>
  <cp:revision>10</cp:revision>
  <dc:subject/>
  <dc:title>Buffer Zones</dc:title>
</cp:coreProperties>
</file>