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B57-5857-4359-AD28-5D4BE6F2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E7C-1824-4C80-B585-B3ED6DAA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E53-61FA-411E-824C-AE5136B8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B57-963C-419C-B98C-41A822C6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524-CAC6-41FD-AA3D-6A1653B8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88C-CE71-46AC-8DF2-8A683444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701-9870-46A7-8B39-38BC42E6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D0B-B23E-4F66-9E43-305F634B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6824-1036-4167-A695-20DCE7CF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C46-C80B-45B7-9959-36A99ECF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9BC-828A-4EF7-9B2B-C3451ABB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3F51-C114-4C67-B54C-03779DEB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3C5D-84C0-4CA9-972A-4260FA4FB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_MFhAoUUmQ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286000" y="58672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G_MFhAoUUmQ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Quar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10853" t="0" r="4315" b="0"/>
          <a:stretch/>
        </p:blipFill>
        <p:spPr>
          <a:xfrm>
            <a:off x="685800" y="2079720"/>
            <a:ext cx="3581280" cy="316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724280" y="1752480"/>
            <a:ext cx="3657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Quarks combine to make prot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Hadr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962520" cy="3208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62120" y="1752480"/>
            <a:ext cx="3886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 second after the Big Bang. (FINALLY, 1 SECOND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istence of antimatter are cancell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219320" y="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Lept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057480" cy="112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1874880" cy="2219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4495680" y="1600200"/>
            <a:ext cx="3886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 second to 3 minutes after the Big 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mation of hydrogen and helium starts to occ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219320" y="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Epoch of Nucle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64406" t="14667" r="0" b="14667"/>
          <a:stretch/>
        </p:blipFill>
        <p:spPr>
          <a:xfrm>
            <a:off x="5486400" y="1600200"/>
            <a:ext cx="3087720" cy="388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33520" y="1447920"/>
            <a:ext cx="48006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ime: 3 minutes to 300,000 years after Big B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emperature: 3000 Kelv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fter 3 minutes, the universe consists of 75% hydrogen, 25% helium, and traces of lithium, boron, and berylliu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fter 300,000 years, light in the form of radio and microwaves now ex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990720" y="76320"/>
            <a:ext cx="7162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Big Bang Vis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33520" y="1219320"/>
            <a:ext cx="82296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and your lab partner will be making a visual of the big bang and all the epo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s visual can be a timeline, story, book, poster, advertisement, or whatever else you can think of but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ach Big Bang Epoch clearly labeled and the significant event that occurred in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A picture to represent each Ep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You do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 need to put times, sizes, or 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Creativit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y group that shares at the end will get extra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big bang theory describes the development of the universe from the time just after it came into existence up to to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's one of several scientific models that attempts to explain why the universe is the way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 is the most widely accepted and popular theory to explain the origin of the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114800" y="1447920"/>
            <a:ext cx="4508640" cy="5105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685800" y="2209680"/>
            <a:ext cx="289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ile many people believe that the Big Bang theory refers to an explosion, it actually refers to the expansion of the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 = mc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2857680" cy="2904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724280" y="1447920"/>
            <a:ext cx="35053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veloped by Albert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fined mass as highly concentrated energy with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being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ith high enough concentrations of energy, that energy can form 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Uh oh…Antimatt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05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762120" y="1905120"/>
            <a:ext cx="35049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n matter and antimatter come into contact, they annihilate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existence of antimatter was first predicted by Paul Di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133720" y="0"/>
            <a:ext cx="4952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rcRect l="2082" t="32678" r="2082" b="21131"/>
          <a:stretch/>
        </p:blipFill>
        <p:spPr>
          <a:xfrm>
            <a:off x="685800" y="2362320"/>
            <a:ext cx="78487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219320" y="0"/>
            <a:ext cx="6553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Planc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90720" y="1600200"/>
            <a:ext cx="7010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0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4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5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this point in the Big Bang timeline, gravity separates from the other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209680" y="4267080"/>
            <a:ext cx="4534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Grand Unificati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9072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4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Strong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parat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eak forc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lectromagnetic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(Gravity is the fourth fundamental fo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mportant: It was at this point that more matter was created than anti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Electrowea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90720" y="1447920"/>
            <a:ext cx="73911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uge expansion in the beginning of this epo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eak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parat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lectromagnetic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establishing the 4 fundamental forces we have to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avity, Strong, Weak, Electromag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30:49Z</dcterms:created>
  <dc:creator>Rachel</dc:creator>
  <dc:description/>
  <dc:language>en-US</dc:language>
  <cp:lastModifiedBy>Rachel Pozzetti</cp:lastModifiedBy>
  <dcterms:modified xsi:type="dcterms:W3CDTF">2015-01-26T17:18:27Z</dcterms:modified>
  <cp:revision>79</cp:revision>
  <dc:subject/>
  <dc:title>The Big Bang Theory</dc:title>
</cp:coreProperties>
</file>