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F3E-A050-49B2-B79A-213305DF0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BD8-55D1-4BE9-B0B5-90112EB7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01D-81CC-4463-A7A2-21F3CE06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B35-006D-4E73-8FB0-715B8EE4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D71-E812-49D8-A532-CB753E55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F72-A0CC-4E25-9CC7-0C644DA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D9F-0BB8-4AAB-B6E3-F1884A3B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84C-6954-4AFF-B777-FE3EE9F0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D45-E8CD-463E-8490-595C1167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DA7-7F48-4EBF-81A1-B9C5039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A01-5EBD-418C-88F5-EC0ED4E0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EA2-E29F-4B60-996B-DF3250E3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9786-9CFF-494B-8C86-5EC0DB95A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_MFhAoUUmQ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2286000" y="5867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_MFhAoUUmQ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Quar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10853" t="0" r="4315" b="0"/>
          <a:stretch/>
        </p:blipFill>
        <p:spPr>
          <a:xfrm>
            <a:off x="685800" y="2079720"/>
            <a:ext cx="3581280" cy="316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724280" y="1752480"/>
            <a:ext cx="3657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Quarks combine to make prot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Hadr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3962520" cy="32083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62120" y="175248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 second after the Big Bang. (FINALLY, 1 SECOND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istence of antimatter are cancelle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Lept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57480" cy="112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1295280" y="2895480"/>
            <a:ext cx="1874880" cy="221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4495680" y="1600200"/>
            <a:ext cx="3886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 second to 3 minutes after the Big 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mation of hydrogen and helium starts to occ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219320" y="0"/>
            <a:ext cx="7162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poch of Nucle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rcRect l="64406" t="14667" r="0" b="14667"/>
          <a:stretch/>
        </p:blipFill>
        <p:spPr>
          <a:xfrm>
            <a:off x="5486400" y="1600200"/>
            <a:ext cx="30877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33520" y="1447920"/>
            <a:ext cx="48006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ime: 3 minutes to 300,000 years after Big B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mperature: 3000 Kelv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ze: un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 minutes, the universe consists of 75% hydrogen, 25% helium, and traces of lithium, boron, and beryll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fter 300,000 years, light in the form of radio and microwaves now ex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990720" y="76320"/>
            <a:ext cx="7162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Big Bang Vis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533520" y="1219320"/>
            <a:ext cx="82296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and your lab partner will be making a visual of the big bang and all the epo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visual can be a timeline, story, book, poster, advertisement, or whatever else you can think of but 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ach Big Bang Epoch clearly labeled and the significant event that occurred in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 picture to represent each Ep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You do </a:t>
            </a:r>
            <a:r>
              <a:rPr b="1" i="1" lang="en-US" sz="2400" spc="-1" strike="noStrike">
                <a:solidFill>
                  <a:srgbClr val="000000"/>
                </a:solidFill>
                <a:latin typeface="Century Gothic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 need to put times, sizes, or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reativity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y group that shares at the end will get extra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big bang theory describes the development of the universe from the time just after it came into existence up to to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's one of several scientific models that attempts to explain why the universe is the way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the most widely accepted and popular theory to explain the origi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114800" y="1447920"/>
            <a:ext cx="4508640" cy="5105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685800" y="2209680"/>
            <a:ext cx="289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ile many people believe that the Big Bang theory refers to an explosion, it actually refers to the expansion of the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 = mc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2857680" cy="2904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724280" y="1447920"/>
            <a:ext cx="35053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veloped by Albert Ein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ined mass as highly concentrated energy with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being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ith high enough concentrations of energy, that energy can form 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Uh oh…Antimat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05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762120" y="1905120"/>
            <a:ext cx="35049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matter and antimatter come into contact, they annihilate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existence of antimatter was first predicted by Paul Di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133720" y="0"/>
            <a:ext cx="4952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he Big Ban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2082" t="32678" r="2082" b="21131"/>
          <a:stretch/>
        </p:blipFill>
        <p:spPr>
          <a:xfrm>
            <a:off x="685800" y="2362320"/>
            <a:ext cx="784872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1219320" y="0"/>
            <a:ext cx="6553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Planc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1600200"/>
            <a:ext cx="7010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0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t this point in the Big Bang timeline, gravity separates from the other fo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342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Grand Unification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4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Strong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 (Gravity is the fourth fundamental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mportant: It was at this point that more matter was created than antimat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219320" y="0"/>
            <a:ext cx="7162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entury Gothic"/>
              </a:rPr>
              <a:t>Electroweak Ep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44792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im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36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conds after the Big B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emperature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Ke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ze: about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ge expansion in the beginning of this epo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Weak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parates from the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lectromagnetic for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establishing the 4 fundamental forces we have to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vity, Strong, Weak, Electromagne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30:49Z</dcterms:created>
  <dc:creator>Rachel</dc:creator>
  <dc:description/>
  <dc:language>en-US</dc:language>
  <cp:lastModifiedBy>Rachel Pozzetti</cp:lastModifiedBy>
  <dcterms:modified xsi:type="dcterms:W3CDTF">2015-01-26T17:18:27Z</dcterms:modified>
  <cp:revision>79</cp:revision>
  <dc:subject/>
  <dc:title>The Big Bang Theory</dc:title>
</cp:coreProperties>
</file>