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6B4C-77BE-4678-8739-D2DD1E2CD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078B-C8CC-4677-BF58-852817B52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6D82-A6A2-4C51-AA7D-A2C7F533A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6638-A44A-4C33-85C0-E3655412A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A039-7BB8-486E-AC72-E047521C6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423F-CF50-42D9-87AB-ADEB3476D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8D85-2C11-44E6-BDBB-B7382F259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1E0E-9DAA-4EB1-BECC-2554D7D89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F8FF-B39F-44DF-A782-1A377B0F4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7E99-FA23-4074-89CD-8B380A19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C688-A8F3-4DC5-8E9B-BFF8162B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AAE2-29E5-4F55-924C-43D14F13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C5D32-66C4-453F-97DC-2119197F06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G_MFhAoUUmQ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The Big Bang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"/>
          <p:cNvSpPr/>
          <p:nvPr/>
        </p:nvSpPr>
        <p:spPr>
          <a:xfrm>
            <a:off x="2286000" y="586728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G_MFhAoUUmQ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1219320" y="0"/>
            <a:ext cx="71625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entury Gothic"/>
              </a:rPr>
              <a:t>Quark Epo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rcRect l="10853" t="0" r="4315" b="0"/>
          <a:stretch/>
        </p:blipFill>
        <p:spPr>
          <a:xfrm>
            <a:off x="685800" y="2079720"/>
            <a:ext cx="3581280" cy="31654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4724280" y="1752480"/>
            <a:ext cx="36576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ime: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-12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to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-6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seconds after the Big Ba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emperature: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Kelv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ze: un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Quarks combine to make prot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1219320" y="0"/>
            <a:ext cx="71625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entury Gothic"/>
              </a:rPr>
              <a:t>Hadron Epo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4724280" y="2133720"/>
            <a:ext cx="3962520" cy="32083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762120" y="1752480"/>
            <a:ext cx="38862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ime: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-6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to 1 second after the Big Bang. (FINALLY, 1 SECOND!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emperature: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Kelv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ze: un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xistence of antimatter are cancelled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1219320" y="0"/>
            <a:ext cx="71625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entury Gothic"/>
              </a:rPr>
              <a:t>Lepton Epo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3057480" cy="1127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2"/>
          <a:stretch/>
        </p:blipFill>
        <p:spPr>
          <a:xfrm>
            <a:off x="1295280" y="2895480"/>
            <a:ext cx="1874880" cy="22194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7"/>
          <p:cNvSpPr/>
          <p:nvPr/>
        </p:nvSpPr>
        <p:spPr>
          <a:xfrm>
            <a:off x="4495680" y="1600200"/>
            <a:ext cx="38862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ime: 1 second to 3 minutes after the Big B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emperature: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Kelv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ze: un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rmation of hydrogen and helium starts to occu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1219320" y="0"/>
            <a:ext cx="71625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entury Gothic"/>
              </a:rPr>
              <a:t>Epoch of Nucleo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rcRect l="64406" t="14667" r="0" b="14667"/>
          <a:stretch/>
        </p:blipFill>
        <p:spPr>
          <a:xfrm>
            <a:off x="5486400" y="1600200"/>
            <a:ext cx="3087720" cy="38862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533520" y="1447920"/>
            <a:ext cx="4800600" cy="44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ime: 3 minutes to 300,000 years after Big Ba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emperature: 3000 Kelv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ze: unkn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After 3 minutes, the universe consists of 75% hydrogen, 25% helium, and traces of lithium, boron, and beryllium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After 300,000 years, light in the form of radio and microwaves now exis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990720" y="76320"/>
            <a:ext cx="71625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entury Gothic"/>
              </a:rPr>
              <a:t>Big Bang Vis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533520" y="1219320"/>
            <a:ext cx="822960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You and your lab partner will be making a visual of the big bang and all the epoc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s visual can be a timeline, story, book, poster, advertisement, or whatever else you can think of but i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Gothic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Each Big Bang Epoch clearly labeled and the significant event that occurred in 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A picture to represent each Ep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You do </a:t>
            </a:r>
            <a:r>
              <a:rPr b="1" i="1" lang="en-US" sz="2400" spc="-1" strike="noStrike">
                <a:solidFill>
                  <a:srgbClr val="000000"/>
                </a:solidFill>
                <a:latin typeface="Century Gothic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 need to put times, sizes, or te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Creativity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ny group that shares at the end will get extra cr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big bang theory describes the development of the universe from the time just after it came into existence up to toda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It's one of several scientific models that attempts to explain why the universe is the way it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It is the most widely accepted and popular theory to explain the origin of the univer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The Big Bang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The Big Bang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4114800" y="1447920"/>
            <a:ext cx="4508640" cy="51051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7"/>
          <p:cNvSpPr/>
          <p:nvPr/>
        </p:nvSpPr>
        <p:spPr>
          <a:xfrm>
            <a:off x="685800" y="2209680"/>
            <a:ext cx="2895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hile many people believe that the Big Bang theory refers to an explosion, it actually refers to the expansion of the univer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E = mc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2857680" cy="29048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4724280" y="1447920"/>
            <a:ext cx="350532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Developed by Albert Eins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Defined mass as highly concentrated energy with 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being the speed of l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ith high enough concentrations of energy, that energy can form mat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Uh oh…Antimatter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809880" cy="3105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762120" y="1905120"/>
            <a:ext cx="350496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hen matter and antimatter come into contact, they annihilate each o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existence of antimatter was first predicted by Paul Dir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2133720" y="0"/>
            <a:ext cx="49528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The Big Bang Time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rcRect l="2082" t="32678" r="2082" b="21131"/>
          <a:stretch/>
        </p:blipFill>
        <p:spPr>
          <a:xfrm>
            <a:off x="685800" y="2362320"/>
            <a:ext cx="7848720" cy="34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1219320" y="0"/>
            <a:ext cx="6553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entury Gothic"/>
              </a:rPr>
              <a:t>Planck Epo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990720" y="1600200"/>
            <a:ext cx="70102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ime: 0 to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-43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seconds after the Big Ba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emperature: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Kelv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ze: about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-35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t this point in the Big Bang timeline, gravity separates from the other for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2209680" y="4267080"/>
            <a:ext cx="453420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1219320" y="0"/>
            <a:ext cx="71625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entury Gothic"/>
              </a:rPr>
              <a:t>Grand Unification Epo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990720" y="1600200"/>
            <a:ext cx="70102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ime: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-43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to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-36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seconds after the Big Ba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emperature: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Kelv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ze: about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-10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Strong force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separates from the 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weak force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electromagnetic force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. (Gravity is the fourth fundamental for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Important: It was at this point that more matter was created than antimat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1219320" y="0"/>
            <a:ext cx="71625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entury Gothic"/>
              </a:rPr>
              <a:t>Electroweak Epo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990720" y="1447920"/>
            <a:ext cx="739116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ime: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-36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to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-12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seconds after the Big Ba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emperature: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Kelv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ze: about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Huge expansion in the beginning of this epo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Weak force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separates from the 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electromagnetic force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, establishing the 4 fundamental forces we have toda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Gravity, Strong, Weak, Electromagnet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22:30:49Z</dcterms:created>
  <dc:creator>Rachel</dc:creator>
  <dc:description/>
  <dc:language>en-US</dc:language>
  <cp:lastModifiedBy>Rachel Pozzetti</cp:lastModifiedBy>
  <dcterms:modified xsi:type="dcterms:W3CDTF">2015-01-26T17:18:27Z</dcterms:modified>
  <cp:revision>79</cp:revision>
  <dc:subject/>
  <dc:title>The Big Bang Theory</dc:title>
</cp:coreProperties>
</file>