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FCB-4E29-4FBB-A52F-5B6BEAEB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7D8-08F9-46DD-AF3D-F62D1C60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530-69ED-46DF-AD8A-60723A78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C45-DE10-4C85-9A87-62D6FF72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CF2-4E3F-40F7-BF7E-115C6E33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E30-2FF1-4E1E-8FBC-855670B1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E93-BD3F-408B-B3EB-C9D92387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329-2D21-4675-8E7F-41196A22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05C-4DDA-4370-801C-B14E207C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7F2-21F3-4C5F-AF75-B5C9091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B93-15C9-4644-A362-A4348DE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353-8A3B-4F47-A7E8-9F2CFEF4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7C7E-6927-42F1-97FB-5C63832F8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do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need to put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y group that shares at the end will get extra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ti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5-01-26T17:18:27Z</dcterms:modified>
  <cp:revision>79</cp:revision>
  <dc:subject/>
  <dc:title>The Big Bang Theory</dc:title>
</cp:coreProperties>
</file>