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D2E-0BCF-4C23-B16F-0F26F7C1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4EA-807C-48E4-A396-31AA3C66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459-FF2E-4B10-B804-2A1429FF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0D1-21BA-468A-B7DD-5BC060C2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738-6996-43C1-A5C7-EC797143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901F-CC41-4961-A0BA-9A9F3AF5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640-F1F6-4F82-84B6-369C543C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B500-E22E-4B3F-B03B-57641751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CC4A-5A67-45E1-ABE9-2D7408AA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5CB9-7492-44F1-A8F4-6CE061EE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380-A214-4494-B315-6AE7A09D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49ED-0189-4C16-8EA2-D7E89AA8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E8A2-8FCC-4300-A061-57A706D68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_MFhAoUUmQ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2286000" y="58672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G_MFhAoUUmQ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Quar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rcRect l="10853" t="0" r="4315" b="0"/>
          <a:stretch/>
        </p:blipFill>
        <p:spPr>
          <a:xfrm>
            <a:off x="685800" y="2079720"/>
            <a:ext cx="3581280" cy="3165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724280" y="1752480"/>
            <a:ext cx="36576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Quarks combine to make prot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Hadr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962520" cy="3208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762120" y="1752480"/>
            <a:ext cx="3886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 second after the Big Bang. (FINALLY, 1 SECOND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istence of antimatter are cancelled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1219320" y="0"/>
            <a:ext cx="7162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Lept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057480" cy="112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1874880" cy="2219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4495680" y="1600200"/>
            <a:ext cx="3886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 second to 3 minutes after the Big B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rmation of hydrogen and helium starts to occ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1219320" y="0"/>
            <a:ext cx="7162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Epoch of Nucle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rcRect l="64406" t="14667" r="0" b="14667"/>
          <a:stretch/>
        </p:blipFill>
        <p:spPr>
          <a:xfrm>
            <a:off x="5486400" y="1600200"/>
            <a:ext cx="3087720" cy="3886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33520" y="1447920"/>
            <a:ext cx="480060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ime: 3 minutes to 300,000 years after Big B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emperature: 3000 Kelv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fter 3 minutes, the universe consists of 75% hydrogen, 25% helium, and traces of lithium, boron, and berylliu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fter 300,000 years, light in the form of radio and microwaves now exi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990720" y="76320"/>
            <a:ext cx="7162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Big Bang Vis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33520" y="1219320"/>
            <a:ext cx="82296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You and your lab partner will be making a visual of the big bang and all the epoc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s visual can be a timeline, story, book, poster, advertisement, or whatever else you can think of but 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ach Big Bang Epoch clearly labeled and the significant event that occurred in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A picture to represent each Ep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You must include times, sizes, or te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Creativity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ch person/group will share their vi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big bang theory describes the development of the universe from the time just after it came into existence up to to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's one of several scientific models that attempts to explain why the universe is the way 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 is the most widely accepted and popular theory to explain the origin of the unive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114800" y="1447920"/>
            <a:ext cx="4508640" cy="5105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685800" y="2209680"/>
            <a:ext cx="289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ile many people believe that the Big Bang theory refers to an explosion, it actually refers to the expansion of the unive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 = mc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2857680" cy="29048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724280" y="1447920"/>
            <a:ext cx="35053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veloped by Albert Ein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fined mass as highly concentrated energy with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being the speed of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ith high enough concentrations of energy, that energy can form ma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Uh oh…Antimatt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05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762120" y="1905120"/>
            <a:ext cx="35049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n matter and anitmatter come into contact, they annihilate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existence of antimatter was first predicted by Paul Dir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133720" y="0"/>
            <a:ext cx="4952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rcRect l="2082" t="32678" r="2082" b="21131"/>
          <a:stretch/>
        </p:blipFill>
        <p:spPr>
          <a:xfrm>
            <a:off x="685800" y="2362320"/>
            <a:ext cx="784872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219320" y="0"/>
            <a:ext cx="6553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Planc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990720" y="1600200"/>
            <a:ext cx="7010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0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4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5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t this point in the Big Bang timeline, gravity separates from the other fo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209680" y="4267080"/>
            <a:ext cx="45342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Grand Unificati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90720" y="1600200"/>
            <a:ext cx="7010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4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Strong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parates from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weak forc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lectromagnetic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 (Gravity is the fourth fundamental fo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mportant: It was at this point that more matter was created than antima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Electrowea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90720" y="1447920"/>
            <a:ext cx="73911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uge expansion in the beginning of this epo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Weak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parates from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lectromagnetic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establishing the 4 fundamental forces we have tod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avity, Strong, Weak, Electromagne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30:49Z</dcterms:created>
  <dc:creator>Rachel</dc:creator>
  <dc:description/>
  <dc:language>en-US</dc:language>
  <cp:lastModifiedBy>Rachel Pozzetti</cp:lastModifiedBy>
  <dcterms:modified xsi:type="dcterms:W3CDTF">2014-04-11T12:54:29Z</dcterms:modified>
  <cp:revision>75</cp:revision>
  <dc:subject/>
  <dc:title>The Big Bang Theory</dc:title>
</cp:coreProperties>
</file>