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EEE4-4B5D-447B-8556-B71A99773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0E6F-CD76-466C-868E-9CEA210C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8877-528B-4A09-8B49-C4E8BE179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5133-27D0-462E-B6F0-BDAF0BC30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D29C-4169-40A6-AAF8-02E6F4AB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A20B-DA23-4B10-BBC8-FB5F26CE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7D7F-EB5A-4BA3-A605-CC89DC74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D5D5-5E11-4B99-BE46-E9A68646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4A66-56B5-4FDC-AF02-6EB4312C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7BC7-5713-4B8C-917A-2A8A93BB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FD91-111A-4AA3-85FB-F57F523C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EE5C-4494-4956-A2FB-DDE6077E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F86C-31DF-42A8-A0F3-6E8FCE09D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G_MFhAoUUmQ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he Big Bang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2286000" y="58672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G_MFhAoUUmQ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1219320" y="0"/>
            <a:ext cx="7162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Quark Ep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rcRect l="10853" t="0" r="4315" b="0"/>
          <a:stretch/>
        </p:blipFill>
        <p:spPr>
          <a:xfrm>
            <a:off x="685800" y="2079720"/>
            <a:ext cx="3581280" cy="3165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4724280" y="1752480"/>
            <a:ext cx="36576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im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12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o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conds after the Big B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mperatur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ze: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Quarks combine to make prot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1219320" y="0"/>
            <a:ext cx="7162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Hadron Ep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3962520" cy="32083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762120" y="1752480"/>
            <a:ext cx="38862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im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o 1 second after the Big Bang. (FINALLY, 1 SECOND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mperatur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ze: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istence of antimatter are cancelled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1219320" y="0"/>
            <a:ext cx="71625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Lepton Ep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3057480" cy="1127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1874880" cy="22194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4495680" y="1600200"/>
            <a:ext cx="38862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ime: 1 second to 3 minutes after the Big B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mperatur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ze: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rmation of hydrogen and helium starts to occu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1219320" y="0"/>
            <a:ext cx="71625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Epoch of Nucle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rcRect l="64406" t="14667" r="0" b="14667"/>
          <a:stretch/>
        </p:blipFill>
        <p:spPr>
          <a:xfrm>
            <a:off x="5486400" y="1600200"/>
            <a:ext cx="3087720" cy="38862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533520" y="1447920"/>
            <a:ext cx="4800600" cy="44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ime: 3 minutes to 300,000 years after Big Ba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emperature: 3000 Kelv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ze: unkn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fter 3 minutes, the universe consists of 75% hydrogen, 25% helium, and traces of lithium, boron, and berylliu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fter 300,000 years, light in the form of radio and microwaves now exi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990720" y="76320"/>
            <a:ext cx="71625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Big Bang Vis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533520" y="1219320"/>
            <a:ext cx="822960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You and your lab partner will be making a visual of the big bang and all the epoc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s visual can be a timeline, story, book, poster, advertisement, or whatever else you can think of but i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Each Big Bang Epoch clearly labeled and the significant event that occurred in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A picture to represent each Ep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You must include times, sizes, or te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Creativity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ach person/group will share their vi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big bang theory describes the development of the universe from the time just after it came into existence up to to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t's one of several scientific models that attempts to explain why the universe is the way it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t is the most widely accepted and popular theory to explain the origin of the univer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he Big Bang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he Big Bang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4114800" y="1447920"/>
            <a:ext cx="4508640" cy="51051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685800" y="2209680"/>
            <a:ext cx="289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ile many people believe that the Big Bang theory refers to an explosion, it actually refers to the expansion of the univer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 = mc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2857680" cy="29048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4724280" y="1447920"/>
            <a:ext cx="35053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eveloped by Albert Eins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efined mass as highly concentrated energy with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being the speed of 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ith high enough concentrations of energy, that energy can form mat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Uh oh…Antimatte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809880" cy="3105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762120" y="1905120"/>
            <a:ext cx="35049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n matter and anitmatter come into contact, they annihilate each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existence of antimatter was first predicted by Paul Dir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2133720" y="0"/>
            <a:ext cx="4952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he Big Bang Tim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rcRect l="2082" t="32678" r="2082" b="21131"/>
          <a:stretch/>
        </p:blipFill>
        <p:spPr>
          <a:xfrm>
            <a:off x="685800" y="2362320"/>
            <a:ext cx="7848720" cy="34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1219320" y="0"/>
            <a:ext cx="6553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Planck Ep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990720" y="1600200"/>
            <a:ext cx="70102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ime: 0 to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43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conds after the Big B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mperatur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ze: about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35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t this point in the Big Bang timeline, gravity separates from the other fo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2209680" y="4267080"/>
            <a:ext cx="45342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1219320" y="0"/>
            <a:ext cx="7162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Grand Unification Ep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990720" y="1600200"/>
            <a:ext cx="7010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im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43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o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36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conds after the Big B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mperatur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ze: about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10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Strong forc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parates from the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weak force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electromagnetic forc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. (Gravity is the fourth fundamental fo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mportant: It was at this point that more matter was created than antimat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1219320" y="0"/>
            <a:ext cx="7162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Electroweak Ep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990720" y="1447920"/>
            <a:ext cx="739116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im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36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o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12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conds after the Big B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mperatur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ze: about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uge expansion in the beginning of this epo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Weak forc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parates from the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electromagnetic forc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, establishing the 4 fundamental forces we have tod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ravity, Strong, Weak, Electromagne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22:30:49Z</dcterms:created>
  <dc:creator>Rachel</dc:creator>
  <dc:description/>
  <dc:language>en-US</dc:language>
  <cp:lastModifiedBy>Rachel Pozzetti</cp:lastModifiedBy>
  <dcterms:modified xsi:type="dcterms:W3CDTF">2014-04-11T12:54:29Z</dcterms:modified>
  <cp:revision>75</cp:revision>
  <dc:subject/>
  <dc:title>The Big Bang Theory</dc:title>
</cp:coreProperties>
</file>