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B05-494F-4D04-9BC3-579A2B97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046-7F8C-4438-8763-A9408280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F98-CAA4-4F25-8AC7-3B4CB085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0AD-6141-43E5-B7CD-0B78007E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B8F-77F9-4C2F-8F40-1C4C021F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830-25E5-4E3B-A120-168E6602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F92-6C79-4ACA-ADAE-6736A41D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752-7C2C-47A9-8037-9AF3998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3E0-E538-4635-BF5F-EE0E056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B35-2724-4595-8844-03E34551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613-7323-451A-B791-0F77305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887-3F15-4F25-93C1-CE7EC39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F713-A6C8-4559-B387-2F205B46F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_MFhAoUUmQ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0" y="5867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_MFhAoUUmQ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Quar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10853" t="0" r="4315" b="0"/>
          <a:stretch/>
        </p:blipFill>
        <p:spPr>
          <a:xfrm>
            <a:off x="685800" y="2079720"/>
            <a:ext cx="3581280" cy="31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24280" y="17524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Quarks combine to make pr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Hadr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962520" cy="320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175248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 second after the Big Bang. (FINALLY, 1 SECOND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ence of antimatter are cancell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Lept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574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87488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495680" y="160020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 second to 3 minutes after the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tion of hydrogen and helium starts to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poch of Nucle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64406" t="14667" r="0" b="14667"/>
          <a:stretch/>
        </p:blipFill>
        <p:spPr>
          <a:xfrm>
            <a:off x="5486400" y="1600200"/>
            <a:ext cx="30877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1447920"/>
            <a:ext cx="48006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: 3 minutes to 300,000 years after Big B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mperature: 3000 Kel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 minutes, the universe consists of 75% hydrogen, 25% helium, and traces of lithium, boron, and beryll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00,000 years, light in the form of radio and microwaves now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990720" y="76320"/>
            <a:ext cx="7162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Big Bang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and your lab partner will be making a visual of the big bang and all the epo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visual can be a timeline, story, book, poster, advertisement, or whatever else you can think of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ach Big Bang Epoch clearly labeled and the significant event that occurred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 picture to represent each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You must include times, sizes, or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reativ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person/group will share their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big bang theory describes the development of the universe from the time just after it came into existence up to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one of several scientific models that attempts to explain why the universe is the way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the most widely accepted and popular theory to explain the origi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0864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5800" y="22096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le many people believe that the Big Bang theory refers to an explosion, it actually refers to the expansio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 = mc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2857680" cy="2904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1447920"/>
            <a:ext cx="3505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veloped by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ed mass as highly concentrated energy with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being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high enough concentrations of energy, that energy can form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h oh…Antimat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0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62120" y="1905120"/>
            <a:ext cx="35049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matter and anitmatter come into contact, they annihilate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existence of antimatter was first predicted by Paul Dir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33720" y="0"/>
            <a:ext cx="4952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2082" t="32678" r="2082" b="21131"/>
          <a:stretch/>
        </p:blipFill>
        <p:spPr>
          <a:xfrm>
            <a:off x="685800" y="2362320"/>
            <a:ext cx="7848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19320" y="0"/>
            <a:ext cx="655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Planc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is point in the Big Bang timeline, gravity separates from the other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34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Grand Unificati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trong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Gravity is the fourth fundamental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t: It was at this point that more matter was created than anti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lectrowea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44792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ge expansion in the beginning of this ep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stablishing the 4 fundamental forces we have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vity, Strong, Weak, Electro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30:49Z</dcterms:created>
  <dc:creator>Rachel</dc:creator>
  <dc:description/>
  <dc:language>en-US</dc:language>
  <cp:lastModifiedBy>Rachel Pozzetti</cp:lastModifiedBy>
  <dcterms:modified xsi:type="dcterms:W3CDTF">2014-04-11T12:54:29Z</dcterms:modified>
  <cp:revision>75</cp:revision>
  <dc:subject/>
  <dc:title>The Big Bang Theory</dc:title>
</cp:coreProperties>
</file>